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9.wmf" ContentType="image/x-wmf"/>
  <Override PartName="/ppt/media/image34.jpeg" ContentType="image/jpeg"/>
  <Override PartName="/ppt/media/image40.wmf" ContentType="image/x-wmf"/>
  <Override PartName="/ppt/media/image7.jpeg" ContentType="image/jpeg"/>
  <Override PartName="/ppt/media/image28.jpeg" ContentType="image/jpeg"/>
  <Override PartName="/ppt/media/image36.wmf" ContentType="image/x-wmf"/>
  <Override PartName="/ppt/media/image37.wmf" ContentType="image/x-wmf"/>
  <Override PartName="/ppt/media/image31.png" ContentType="image/png"/>
  <Override PartName="/ppt/media/image43.png" ContentType="image/png"/>
  <Override PartName="/ppt/media/image41.wmf" ContentType="image/x-wmf"/>
  <Override PartName="/ppt/media/image8.jpeg" ContentType="image/jpeg"/>
  <Override PartName="/ppt/media/image10.jpeg" ContentType="image/jpeg"/>
  <Override PartName="/ppt/media/image29.jpeg" ContentType="image/jpeg"/>
  <Override PartName="/ppt/media/image44.png" ContentType="image/png"/>
  <Override PartName="/ppt/media/image13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3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B23-603D-4FCD-A402-7FF0B3FE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8C9-CC3A-40AA-A3E9-D7366BE4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697F-A585-42CF-9FCF-FF007865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68D2-7EAC-4FD8-B9C1-4108E7DB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288F-54AF-453A-9BBB-9C24853B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70EC-C0A9-4C66-96E3-79C2F7BB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2C60-1685-4FA7-B97E-7E8FFEF6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204B-56E6-4A6F-AC05-7DB1FB76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E291-FA2A-4A8A-9DE3-07757221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CA4A-FFDE-401E-82F2-2B1D3A5A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4103-F49C-409C-B979-6EE7102B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404-D4DF-49EE-B14D-AEB7AB0C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D4A6-141C-4B8D-A72E-4B180FCB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EFE7-C35A-41E5-A909-D1F2558A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8AF2-4BD5-46C5-B1E3-EBE72320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1D43-0403-4EE7-A755-615AD93A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E3B6-8598-4693-8FD4-15A61157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1DF1F-E1AF-417B-A1A4-26697C64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AFF9B-F33C-44DA-A122-7EF031A6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E6D00-083D-4B14-AF29-28016C70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BE5F8-32D4-47B6-8C1D-13D433D9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718DB-55C8-47C3-9708-7E52D424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921-179B-4369-B896-8E6BE855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70F53-4B3D-4352-9CF3-6278CA3C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B766D-B246-41D3-9D44-57F3BC1A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88003-435F-4DFD-AACD-4D2BBE79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6F1A3-08C0-42B7-BB27-1E8A75B6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B1A00-F561-4B6C-A257-92AAC61B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990AA-8872-4CAF-B6C1-E686F8C5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F5F12-1C6C-4C55-BA10-6EF30F78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4FF-510F-4F1B-9A1F-64335B98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96B-08A7-42B0-9F64-578DCCD2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B3FB-50C1-4D45-88EC-35A2FA03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3FA0-ADDF-4120-8AA6-26961102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128E-776C-4F51-8862-7F87D610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6DFE-9711-4800-B672-D19FCF01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98AD-6585-41B4-BC93-DD28189064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3E0A-EAF6-42F6-9006-C31567E4279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C097-5D7C-4C73-A307-55791DA291F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ch05011"/>
          <p:cNvPicPr/>
          <p:nvPr/>
        </p:nvPicPr>
        <p:blipFill>
          <a:blip r:embed="rId1"/>
          <a:stretch/>
        </p:blipFill>
        <p:spPr>
          <a:xfrm>
            <a:off x="2411280" y="549360"/>
            <a:ext cx="4810320" cy="5067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C:\Documents and Settings\Виталий\Мои документы\Мои рисунки\Рис 1.jpg"/>
          <p:cNvPicPr/>
          <p:nvPr/>
        </p:nvPicPr>
        <p:blipFill>
          <a:blip r:embed="rId1"/>
          <a:stretch/>
        </p:blipFill>
        <p:spPr>
          <a:xfrm>
            <a:off x="642960" y="357120"/>
            <a:ext cx="3405240" cy="2446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http://www.likebook.ru/store/pictures/158/158337/6.jpg"/>
          <p:cNvPicPr/>
          <p:nvPr/>
        </p:nvPicPr>
        <p:blipFill>
          <a:blip r:embed="rId2"/>
          <a:stretch/>
        </p:blipFill>
        <p:spPr>
          <a:xfrm>
            <a:off x="5467320" y="357120"/>
            <a:ext cx="2676600" cy="2955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ttp://im8-tub-ru.yandex.net/i?id=249852105-00-72&amp;n=21"/>
          <p:cNvPicPr/>
          <p:nvPr/>
        </p:nvPicPr>
        <p:blipFill>
          <a:blip r:embed="rId3"/>
          <a:stretch/>
        </p:blipFill>
        <p:spPr>
          <a:xfrm>
            <a:off x="736560" y="3571920"/>
            <a:ext cx="3764160" cy="2614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://im6-tub-ru.yandex.net/i?id=526344969-57-72&amp;n=21"/>
          <p:cNvPicPr/>
          <p:nvPr/>
        </p:nvPicPr>
        <p:blipFill>
          <a:blip r:embed="rId4"/>
          <a:stretch/>
        </p:blipFill>
        <p:spPr>
          <a:xfrm>
            <a:off x="4976640" y="3857760"/>
            <a:ext cx="3619800" cy="271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цепь"/>
          <p:cNvPicPr/>
          <p:nvPr/>
        </p:nvPicPr>
        <p:blipFill>
          <a:blip r:embed="rId1"/>
          <a:stretch/>
        </p:blipFill>
        <p:spPr>
          <a:xfrm>
            <a:off x="395280" y="1000080"/>
            <a:ext cx="8177400" cy="5500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7"/>
          <p:cNvSpPr/>
          <p:nvPr/>
        </p:nvSpPr>
        <p:spPr>
          <a:xfrm>
            <a:off x="1476360" y="189000"/>
            <a:ext cx="511344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Цепь загряз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8"/>
          <p:cNvSpPr/>
          <p:nvPr/>
        </p:nvSpPr>
        <p:spPr>
          <a:xfrm rot="838800">
            <a:off x="250920" y="1557360"/>
            <a:ext cx="3263760" cy="160164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456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Загрязня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вещества попад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в воздух, вод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оч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9"/>
          <p:cNvSpPr/>
          <p:nvPr/>
        </p:nvSpPr>
        <p:spPr>
          <a:xfrm rot="20183400">
            <a:off x="612360" y="4203360"/>
            <a:ext cx="2664000" cy="144936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68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2"/>
          <p:cNvSpPr/>
          <p:nvPr/>
        </p:nvSpPr>
        <p:spPr>
          <a:xfrm rot="532200">
            <a:off x="5292360" y="1699920"/>
            <a:ext cx="3384720" cy="122400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486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Организм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 rot="532200">
            <a:off x="4788000" y="3933720"/>
            <a:ext cx="3341520" cy="141156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486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Продукты 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6"/>
          <p:cNvSpPr/>
          <p:nvPr/>
        </p:nvSpPr>
        <p:spPr>
          <a:xfrm>
            <a:off x="1187280" y="3213000"/>
            <a:ext cx="576360" cy="1008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73880 h 1008000"/>
              <a:gd name="textAreaBottom" fmla="*/ 7333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58" stAng="-5400000" swAng="-5400000"/>
                <a:lnTo>
                  <a:pt x="0" y="11982"/>
                </a:lnTo>
                <a:arcTo wR="21600" hR="7458" stAng="10800000" swAng="-2659292"/>
                <a:lnTo>
                  <a:pt x="14400" y="21173"/>
                </a:lnTo>
                <a:lnTo>
                  <a:pt x="21600" y="17178"/>
                </a:lnTo>
                <a:lnTo>
                  <a:pt x="14400" y="12329"/>
                </a:lnTo>
                <a:lnTo>
                  <a:pt x="14400" y="14489"/>
                </a:lnTo>
                <a:arcTo wR="21600" hR="7458" stAng="8140708" swAng="2282997"/>
                <a:lnTo>
                  <a:pt x="1017" y="9720"/>
                </a:lnTo>
                <a:arcTo wR="21600" hR="7458" stAng="-10423705" swAng="5023705"/>
                <a:close/>
              </a:path>
              <a:path fill="darkenLess" w="21600" h="21600">
                <a:moveTo>
                  <a:pt x="21600" y="0"/>
                </a:moveTo>
                <a:arcTo wR="21600" hR="7458" stAng="-5400000" swAng="-5400000"/>
                <a:lnTo>
                  <a:pt x="0" y="7458"/>
                </a:lnTo>
                <a:arcTo wR="21600" hR="7458" stAng="10800000" swAng="-376295"/>
                <a:lnTo>
                  <a:pt x="1017" y="9720"/>
                </a:lnTo>
                <a:arcTo wR="21600" hR="7458" stAng="-10423705" swAng="5023705"/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7"/>
          <p:cNvSpPr/>
          <p:nvPr/>
        </p:nvSpPr>
        <p:spPr>
          <a:xfrm>
            <a:off x="3348000" y="4653000"/>
            <a:ext cx="1511280" cy="360360"/>
          </a:xfrm>
          <a:prstGeom prst="rightArrow">
            <a:avLst>
              <a:gd name="adj1" fmla="val 50000"/>
              <a:gd name="adj2" fmla="val 104845"/>
            </a:avLst>
          </a:prstGeom>
          <a:blipFill rotWithShape="0">
            <a:blip r:embed="rId3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6372360" y="2997360"/>
            <a:ext cx="720720" cy="792000"/>
          </a:xfrm>
          <a:prstGeom prst="pie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9"/>
          <p:cNvSpPr/>
          <p:nvPr/>
        </p:nvSpPr>
        <p:spPr>
          <a:xfrm rot="5400000">
            <a:off x="3922200" y="1846080"/>
            <a:ext cx="504720" cy="1079640"/>
          </a:xfrm>
          <a:prstGeom prst="downArrow">
            <a:avLst>
              <a:gd name="adj1" fmla="val 50000"/>
              <a:gd name="adj2" fmla="val 53477"/>
            </a:avLst>
          </a:prstGeom>
          <a:blipFill rotWithShape="0">
            <a:blip r:embed="rId5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2"/>
          <p:cNvSpPr/>
          <p:nvPr/>
        </p:nvSpPr>
        <p:spPr>
          <a:xfrm>
            <a:off x="428760" y="42876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ОЛОГИЧЕСКАЯ БЕЗОПАСНОС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3"/>
          <p:cNvSpPr/>
          <p:nvPr/>
        </p:nvSpPr>
        <p:spPr>
          <a:xfrm>
            <a:off x="857160" y="296712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 Black"/>
              </a:rPr>
              <a:t>ЭТО ЗАЩИТА ОТ ВРЕДНОГО ВОЗДЕЙСТВИЯ ЗАГРЯЗНЕННОЙ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 житель России в день производит примерно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кг мусора. Сколько кг мусора выбросит семья из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человек за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дней?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ttp://na-more.su/gelen/gelenfotopl/681873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http://im8-tub-ru.yandex.net/i?id=327655167-08-72&amp;n=2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оставь цепь загрязн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">
            <a:hlinkClick r:id="" action="ppaction://hlinkshowjump?jump=previousslide"/>
          </p:cNvPr>
          <p:cNvSpPr/>
          <p:nvPr/>
        </p:nvSpPr>
        <p:spPr>
          <a:xfrm>
            <a:off x="853272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5" y="13751"/>
                  <a:pt x="12645" y="12828"/>
                </a:cubicBezTo>
                <a:lnTo>
                  <a:pt x="12645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MCj04377970000[1]"/>
          <p:cNvPicPr/>
          <p:nvPr/>
        </p:nvPicPr>
        <p:blipFill>
          <a:blip r:embed="rId1"/>
          <a:stretch/>
        </p:blipFill>
        <p:spPr>
          <a:xfrm>
            <a:off x="7380360" y="115920"/>
            <a:ext cx="1763640" cy="1666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MCj01045280000[1]"/>
          <p:cNvPicPr/>
          <p:nvPr/>
        </p:nvPicPr>
        <p:blipFill>
          <a:blip r:embed="rId2"/>
          <a:stretch/>
        </p:blipFill>
        <p:spPr>
          <a:xfrm>
            <a:off x="3851280" y="2492280"/>
            <a:ext cx="1819440" cy="2103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MCj02156120000[1]"/>
          <p:cNvPicPr/>
          <p:nvPr/>
        </p:nvPicPr>
        <p:blipFill>
          <a:blip r:embed="rId3"/>
          <a:stretch/>
        </p:blipFill>
        <p:spPr>
          <a:xfrm>
            <a:off x="3564000" y="4664160"/>
            <a:ext cx="2066760" cy="1933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9" descr="MCj03538770000[1]"/>
          <p:cNvPicPr/>
          <p:nvPr/>
        </p:nvPicPr>
        <p:blipFill>
          <a:blip r:embed="rId4"/>
          <a:stretch/>
        </p:blipFill>
        <p:spPr>
          <a:xfrm>
            <a:off x="684360" y="4989600"/>
            <a:ext cx="2303280" cy="1535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8" descr="MCj02516270000[1]"/>
          <p:cNvPicPr/>
          <p:nvPr/>
        </p:nvPicPr>
        <p:blipFill>
          <a:blip r:embed="rId5"/>
          <a:stretch/>
        </p:blipFill>
        <p:spPr>
          <a:xfrm>
            <a:off x="6588000" y="4797360"/>
            <a:ext cx="1656000" cy="1809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8" descr="MCj02868640000[1]"/>
          <p:cNvPicPr/>
          <p:nvPr/>
        </p:nvPicPr>
        <p:blipFill>
          <a:blip r:embed="rId6"/>
          <a:stretch/>
        </p:blipFill>
        <p:spPr>
          <a:xfrm>
            <a:off x="971640" y="2637000"/>
            <a:ext cx="1738080" cy="2098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1" descr="MCj02957110000[1]"/>
          <p:cNvPicPr/>
          <p:nvPr/>
        </p:nvPicPr>
        <p:blipFill>
          <a:blip r:embed="rId7"/>
          <a:stretch/>
        </p:blipFill>
        <p:spPr>
          <a:xfrm>
            <a:off x="6710400" y="2781360"/>
            <a:ext cx="2433600" cy="1824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2" descr=""/>
          <p:cNvPicPr/>
          <p:nvPr/>
        </p:nvPicPr>
        <p:blipFill>
          <a:blip r:embed="rId8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9059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2" descr="MCj01045280000[1]"/>
          <p:cNvPicPr/>
          <p:nvPr/>
        </p:nvPicPr>
        <p:blipFill>
          <a:blip r:embed="rId1"/>
          <a:stretch/>
        </p:blipFill>
        <p:spPr>
          <a:xfrm>
            <a:off x="0" y="285840"/>
            <a:ext cx="1819440" cy="2103480"/>
          </a:xfrm>
          <a:prstGeom prst="rect">
            <a:avLst/>
          </a:prstGeom>
          <a:ln w="0">
            <a:noFill/>
          </a:ln>
        </p:spPr>
      </p:pic>
      <p:sp>
        <p:nvSpPr>
          <p:cNvPr id="204" name="Стрелка вправо с вырезом 2"/>
          <p:cNvSpPr/>
          <p:nvPr/>
        </p:nvSpPr>
        <p:spPr>
          <a:xfrm>
            <a:off x="1785960" y="1285920"/>
            <a:ext cx="977760" cy="484200"/>
          </a:xfrm>
          <a:custGeom>
            <a:avLst/>
            <a:gdLst>
              <a:gd name="textAreaLeft" fmla="*/ 120960 w 977760"/>
              <a:gd name="textAreaRight" fmla="*/ 856800 w 977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0" y="5400"/>
                </a:lnTo>
                <a:lnTo>
                  <a:pt x="16250" y="0"/>
                </a:lnTo>
                <a:lnTo>
                  <a:pt x="21600" y="10800"/>
                </a:lnTo>
                <a:lnTo>
                  <a:pt x="16250" y="21600"/>
                </a:lnTo>
                <a:lnTo>
                  <a:pt x="16250" y="16200"/>
                </a:lnTo>
                <a:lnTo>
                  <a:pt x="0" y="16200"/>
                </a:lnTo>
                <a:lnTo>
                  <a:pt x="2675" y="108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7" descr="MCj02156120000[1]"/>
          <p:cNvPicPr/>
          <p:nvPr/>
        </p:nvPicPr>
        <p:blipFill>
          <a:blip r:embed="rId2"/>
          <a:stretch/>
        </p:blipFill>
        <p:spPr>
          <a:xfrm>
            <a:off x="2857680" y="285840"/>
            <a:ext cx="2066760" cy="1933560"/>
          </a:xfrm>
          <a:prstGeom prst="rect">
            <a:avLst/>
          </a:prstGeom>
          <a:ln w="0">
            <a:noFill/>
          </a:ln>
        </p:spPr>
      </p:pic>
      <p:sp>
        <p:nvSpPr>
          <p:cNvPr id="206" name="Стрелка вправо с вырезом 4"/>
          <p:cNvSpPr/>
          <p:nvPr/>
        </p:nvSpPr>
        <p:spPr>
          <a:xfrm>
            <a:off x="4714920" y="1285920"/>
            <a:ext cx="977760" cy="484200"/>
          </a:xfrm>
          <a:custGeom>
            <a:avLst/>
            <a:gdLst>
              <a:gd name="textAreaLeft" fmla="*/ 120960 w 977760"/>
              <a:gd name="textAreaRight" fmla="*/ 856800 w 977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0" y="5400"/>
                </a:lnTo>
                <a:lnTo>
                  <a:pt x="16250" y="0"/>
                </a:lnTo>
                <a:lnTo>
                  <a:pt x="21600" y="10800"/>
                </a:lnTo>
                <a:lnTo>
                  <a:pt x="16250" y="21600"/>
                </a:lnTo>
                <a:lnTo>
                  <a:pt x="16250" y="16200"/>
                </a:lnTo>
                <a:lnTo>
                  <a:pt x="0" y="16200"/>
                </a:lnTo>
                <a:lnTo>
                  <a:pt x="2675" y="108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9" descr="MCj03538770000[1]"/>
          <p:cNvPicPr/>
          <p:nvPr/>
        </p:nvPicPr>
        <p:blipFill>
          <a:blip r:embed="rId3"/>
          <a:stretch/>
        </p:blipFill>
        <p:spPr>
          <a:xfrm>
            <a:off x="5500800" y="500040"/>
            <a:ext cx="2303280" cy="1535040"/>
          </a:xfrm>
          <a:prstGeom prst="rect">
            <a:avLst/>
          </a:prstGeom>
          <a:ln w="0">
            <a:noFill/>
          </a:ln>
        </p:spPr>
      </p:pic>
      <p:sp>
        <p:nvSpPr>
          <p:cNvPr id="208" name="Стрелка вниз 6"/>
          <p:cNvSpPr/>
          <p:nvPr/>
        </p:nvSpPr>
        <p:spPr>
          <a:xfrm>
            <a:off x="6643800" y="235728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noFill/>
          <a:ln w="2844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8" descr="MCj02516270000[1]"/>
          <p:cNvPicPr/>
          <p:nvPr/>
        </p:nvPicPr>
        <p:blipFill>
          <a:blip r:embed="rId4"/>
          <a:stretch/>
        </p:blipFill>
        <p:spPr>
          <a:xfrm>
            <a:off x="6715080" y="3286080"/>
            <a:ext cx="1655640" cy="1809720"/>
          </a:xfrm>
          <a:prstGeom prst="rect">
            <a:avLst/>
          </a:prstGeom>
          <a:ln w="0">
            <a:noFill/>
          </a:ln>
        </p:spPr>
      </p:pic>
      <p:sp>
        <p:nvSpPr>
          <p:cNvPr id="210" name="Стрелка влево 8"/>
          <p:cNvSpPr/>
          <p:nvPr/>
        </p:nvSpPr>
        <p:spPr>
          <a:xfrm>
            <a:off x="5786280" y="4000680"/>
            <a:ext cx="978120" cy="483840"/>
          </a:xfrm>
          <a:prstGeom prst="leftArrow">
            <a:avLst>
              <a:gd name="adj1" fmla="val 50000"/>
              <a:gd name="adj2" fmla="val 50071"/>
            </a:avLst>
          </a:prstGeom>
          <a:noFill/>
          <a:ln w="2844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8" descr="MCj02868640000[1]"/>
          <p:cNvPicPr/>
          <p:nvPr/>
        </p:nvPicPr>
        <p:blipFill>
          <a:blip r:embed="rId5"/>
          <a:stretch/>
        </p:blipFill>
        <p:spPr>
          <a:xfrm>
            <a:off x="3929040" y="3214800"/>
            <a:ext cx="1738440" cy="2098440"/>
          </a:xfrm>
          <a:prstGeom prst="rect">
            <a:avLst/>
          </a:prstGeom>
          <a:ln w="0">
            <a:noFill/>
          </a:ln>
        </p:spPr>
      </p:pic>
      <p:sp>
        <p:nvSpPr>
          <p:cNvPr id="212" name="Стрелка влево 10"/>
          <p:cNvSpPr/>
          <p:nvPr/>
        </p:nvSpPr>
        <p:spPr>
          <a:xfrm>
            <a:off x="2857680" y="407196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noFill/>
          <a:ln w="2844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1" descr="MCj02957110000[1]"/>
          <p:cNvPicPr/>
          <p:nvPr/>
        </p:nvPicPr>
        <p:blipFill>
          <a:blip r:embed="rId6"/>
          <a:stretch/>
        </p:blipFill>
        <p:spPr>
          <a:xfrm>
            <a:off x="142920" y="3286080"/>
            <a:ext cx="2433600" cy="1824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8" dur="2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4"/>
          <p:cNvSpPr/>
          <p:nvPr/>
        </p:nvSpPr>
        <p:spPr>
          <a:xfrm>
            <a:off x="395280" y="260280"/>
            <a:ext cx="8209080" cy="1289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Для самостоятель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Соедини начало и окончание фраз, и ты получишь правила бережного отношения к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95280" y="1700280"/>
          <a:ext cx="8424720" cy="4680000"/>
        </p:xfrm>
        <a:graphic>
          <a:graphicData uri="http://schemas.openxmlformats.org/drawingml/2006/table">
            <a:tbl>
              <a:tblPr/>
              <a:tblGrid>
                <a:gridCol w="2614680"/>
                <a:gridCol w="465120"/>
                <a:gridCol w="5344920"/>
              </a:tblGrid>
              <a:tr h="46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но относясь к продукт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инив подтекающий кран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тируя мусор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ая природу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яя раст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…можно снова сделать полезные вещ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…ты бережешь чистую вод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…бережешь плодородие земли и труд люд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…сохраняешь лес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… узнаешь, как ее сбереч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285840" y="1349280"/>
            <a:ext cx="8072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Сегодня я узнал(а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было интерес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я выполнял(а) задани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я приобрел(а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я научился(ась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у меня получилос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меня удиви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урок дал мне для жизн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мне захотело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571680" y="357120"/>
          <a:ext cx="7786440" cy="6424560"/>
        </p:xfrm>
        <a:graphic>
          <a:graphicData uri="http://schemas.openxmlformats.org/drawingml/2006/table">
            <a:tbl>
              <a:tblPr/>
              <a:tblGrid>
                <a:gridCol w="7786440"/>
              </a:tblGrid>
              <a:tr h="6424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машнее задани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очитать статью «Экологическая безопасность» (учебник с.29-3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ыполнить задание 1 с. 34 в учебник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Ребята, и я предлагаю 3 задания на выбор. Вы выберите то, с которым  справитесь, которое будет для вас интересны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. Придумать правила личной экологической безопасност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.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одготовить  сообщение « Что может сделать наше село красивым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. Найти в газетах  заметки о том, какие проблемы волнуют наших эколог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Фильм Как прекрасен этот мир!.wmv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не рубите мужики_0001.wmv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8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асибо за сотрудничество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2727360" y="1916280"/>
            <a:ext cx="36450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571680" y="500040"/>
          <a:ext cx="8001000" cy="564372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64372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оздух, почва, вода, безопасность, эколог, человек, жизнедеятельность, природ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Земля в руках с радугой"/>
          <p:cNvPicPr/>
          <p:nvPr/>
        </p:nvPicPr>
        <p:blipFill>
          <a:blip r:embed="rId1"/>
          <a:srcRect l="16086" t="38324" r="19548" b="32233"/>
          <a:stretch/>
        </p:blipFill>
        <p:spPr>
          <a:xfrm>
            <a:off x="0" y="0"/>
            <a:ext cx="9144000" cy="1655640"/>
          </a:xfrm>
          <a:prstGeom prst="rect">
            <a:avLst/>
          </a:prstGeom>
          <a:ln w="0">
            <a:noFill/>
          </a:ln>
        </p:spPr>
      </p:pic>
      <p:sp>
        <p:nvSpPr>
          <p:cNvPr id="144" name="WordArt 3"/>
          <p:cNvSpPr txBox="1"/>
          <p:nvPr/>
        </p:nvSpPr>
        <p:spPr>
          <a:xfrm>
            <a:off x="1547640" y="836640"/>
            <a:ext cx="6769440" cy="1203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наки безопасности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50920" y="19890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опасности могу подстерегать человек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Зимоглядова"/>
          <p:cNvPicPr/>
          <p:nvPr/>
        </p:nvPicPr>
        <p:blipFill>
          <a:blip r:embed="rId2"/>
          <a:stretch/>
        </p:blipFill>
        <p:spPr>
          <a:xfrm>
            <a:off x="468360" y="2924280"/>
            <a:ext cx="1366920" cy="1296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2"/>
          <p:cNvPicPr/>
          <p:nvPr/>
        </p:nvPicPr>
        <p:blipFill>
          <a:blip r:embed="rId3"/>
          <a:stretch/>
        </p:blipFill>
        <p:spPr>
          <a:xfrm>
            <a:off x="2627280" y="2924280"/>
            <a:ext cx="1511280" cy="129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3"/>
          <p:cNvPicPr/>
          <p:nvPr/>
        </p:nvPicPr>
        <p:blipFill>
          <a:blip r:embed="rId4"/>
          <a:stretch/>
        </p:blipFill>
        <p:spPr>
          <a:xfrm rot="21439200">
            <a:off x="4859280" y="2855880"/>
            <a:ext cx="1582920" cy="1368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4"/>
          <p:cNvPicPr/>
          <p:nvPr/>
        </p:nvPicPr>
        <p:blipFill>
          <a:blip r:embed="rId5"/>
          <a:stretch/>
        </p:blipFill>
        <p:spPr>
          <a:xfrm>
            <a:off x="7020000" y="2852640"/>
            <a:ext cx="1603440" cy="1440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8"/>
          <p:cNvPicPr/>
          <p:nvPr/>
        </p:nvPicPr>
        <p:blipFill>
          <a:blip r:embed="rId6"/>
          <a:stretch/>
        </p:blipFill>
        <p:spPr>
          <a:xfrm>
            <a:off x="395280" y="4869000"/>
            <a:ext cx="1873080" cy="158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5"/>
          <p:cNvPicPr/>
          <p:nvPr/>
        </p:nvPicPr>
        <p:blipFill>
          <a:blip r:embed="rId7"/>
          <a:stretch/>
        </p:blipFill>
        <p:spPr>
          <a:xfrm>
            <a:off x="2843280" y="4869000"/>
            <a:ext cx="2881080" cy="1582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Мухоморы"/>
          <p:cNvPicPr/>
          <p:nvPr/>
        </p:nvPicPr>
        <p:blipFill>
          <a:blip r:embed="rId8"/>
          <a:stretch/>
        </p:blipFill>
        <p:spPr>
          <a:xfrm>
            <a:off x="6300720" y="4869000"/>
            <a:ext cx="226692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Земля в руках с радугой"/>
          <p:cNvPicPr/>
          <p:nvPr/>
        </p:nvPicPr>
        <p:blipFill>
          <a:blip r:embed="rId1"/>
          <a:stretch/>
        </p:blipFill>
        <p:spPr>
          <a:xfrm>
            <a:off x="-142920" y="0"/>
            <a:ext cx="9648720" cy="7821720"/>
          </a:xfrm>
          <a:prstGeom prst="rect">
            <a:avLst/>
          </a:prstGeom>
          <a:ln w="0">
            <a:noFill/>
          </a:ln>
        </p:spPr>
      </p:pic>
      <p:sp>
        <p:nvSpPr>
          <p:cNvPr id="156" name="WordArt 7"/>
          <p:cNvSpPr txBox="1"/>
          <p:nvPr/>
        </p:nvSpPr>
        <p:spPr>
          <a:xfrm>
            <a:off x="179280" y="333360"/>
            <a:ext cx="8964720" cy="727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1350977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кологическая безопасность</a:t>
            </a:r>
            <a:endParaRPr b="1" i="1" lang="en-US" sz="5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1" descr="Улыбающаяся планетаjpg"/>
          <p:cNvPicPr/>
          <p:nvPr/>
        </p:nvPicPr>
        <p:blipFill>
          <a:blip r:embed="rId1"/>
          <a:stretch/>
        </p:blipFill>
        <p:spPr>
          <a:xfrm>
            <a:off x="7143840" y="2571840"/>
            <a:ext cx="1727280" cy="194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Земля в руках с радугой"/>
          <p:cNvPicPr/>
          <p:nvPr/>
        </p:nvPicPr>
        <p:blipFill>
          <a:blip r:embed="rId2"/>
          <a:srcRect l="16086" t="38324" r="19548" b="32233"/>
          <a:stretch/>
        </p:blipFill>
        <p:spPr>
          <a:xfrm>
            <a:off x="0" y="0"/>
            <a:ext cx="9144000" cy="1655640"/>
          </a:xfrm>
          <a:prstGeom prst="rect">
            <a:avLst/>
          </a:prstGeom>
          <a:ln w="0">
            <a:noFill/>
          </a:ln>
        </p:spPr>
      </p:pic>
      <p:sp>
        <p:nvSpPr>
          <p:cNvPr id="159" name="WordArt 3"/>
          <p:cNvSpPr txBox="1"/>
          <p:nvPr/>
        </p:nvSpPr>
        <p:spPr>
          <a:xfrm>
            <a:off x="2195640" y="1052640"/>
            <a:ext cx="4968720" cy="942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12374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Цели урока</a:t>
            </a:r>
            <a:endParaRPr b="1" lang="en-US" sz="66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79280" y="2060640"/>
            <a:ext cx="8964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Познакомить учащихся с новыми понятиями «экологическая безопасность», «цепь загрязнения», «эколог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Показать учащимся, что Природа – наш                      общий дом: бережем дом – бережем 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Обогащать словарный запас учащихся, развивать речь и мыш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Воспитывать экологическую культуру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http://im6-tub-ru.yandex.net/i?id=566330183-58-72&amp;n=21"/>
          <p:cNvPicPr/>
          <p:nvPr/>
        </p:nvPicPr>
        <p:blipFill>
          <a:blip r:embed="rId1"/>
          <a:stretch/>
        </p:blipFill>
        <p:spPr>
          <a:xfrm>
            <a:off x="357120" y="285840"/>
            <a:ext cx="3000600" cy="2643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://im4-tub-ru.yandex.net/i?id=24661111-21-72&amp;n=21"/>
          <p:cNvPicPr/>
          <p:nvPr/>
        </p:nvPicPr>
        <p:blipFill>
          <a:blip r:embed="rId2"/>
          <a:stretch/>
        </p:blipFill>
        <p:spPr>
          <a:xfrm>
            <a:off x="5357880" y="571680"/>
            <a:ext cx="2928960" cy="3429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im7-tub-ru.yandex.net/i?id=84923154-10-72&amp;n=21"/>
          <p:cNvPicPr/>
          <p:nvPr/>
        </p:nvPicPr>
        <p:blipFill>
          <a:blip r:embed="rId3"/>
          <a:stretch/>
        </p:blipFill>
        <p:spPr>
          <a:xfrm>
            <a:off x="785880" y="3429000"/>
            <a:ext cx="378612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ttp://im2-tub-ru.yandex.net/i?id=68853051-26-72&amp;n=21"/>
          <p:cNvPicPr/>
          <p:nvPr/>
        </p:nvPicPr>
        <p:blipFill>
          <a:blip r:embed="rId1"/>
          <a:stretch/>
        </p:blipFill>
        <p:spPr>
          <a:xfrm>
            <a:off x="785880" y="0"/>
            <a:ext cx="4143240" cy="3000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http://im8-tub-ru.yandex.net/i?id=537753336-21-72&amp;n=21"/>
          <p:cNvPicPr/>
          <p:nvPr/>
        </p:nvPicPr>
        <p:blipFill>
          <a:blip r:embed="rId2"/>
          <a:stretch/>
        </p:blipFill>
        <p:spPr>
          <a:xfrm>
            <a:off x="4143240" y="2571840"/>
            <a:ext cx="5214960" cy="3786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DSC07598"/>
          <p:cNvPicPr/>
          <p:nvPr/>
        </p:nvPicPr>
        <p:blipFill>
          <a:blip r:embed="rId1"/>
          <a:stretch/>
        </p:blipFill>
        <p:spPr>
          <a:xfrm>
            <a:off x="468360" y="1125360"/>
            <a:ext cx="3240000" cy="2427480"/>
          </a:xfrm>
          <a:prstGeom prst="rect">
            <a:avLst/>
          </a:prstGeom>
          <a:ln w="28440">
            <a:solidFill>
              <a:srgbClr val="3366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</p:pic>
      <p:pic>
        <p:nvPicPr>
          <p:cNvPr id="167" name="Picture 6" descr="DSC06722"/>
          <p:cNvPicPr/>
          <p:nvPr/>
        </p:nvPicPr>
        <p:blipFill>
          <a:blip r:embed="rId2"/>
          <a:stretch/>
        </p:blipFill>
        <p:spPr>
          <a:xfrm>
            <a:off x="4211640" y="1125360"/>
            <a:ext cx="3240000" cy="2428920"/>
          </a:xfrm>
          <a:prstGeom prst="rect">
            <a:avLst/>
          </a:prstGeom>
          <a:ln w="28440">
            <a:solidFill>
              <a:srgbClr val="3366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</p:pic>
      <p:pic>
        <p:nvPicPr>
          <p:cNvPr id="168" name="Picture 7" descr="P7050047"/>
          <p:cNvPicPr/>
          <p:nvPr/>
        </p:nvPicPr>
        <p:blipFill>
          <a:blip r:embed="rId3"/>
          <a:stretch/>
        </p:blipFill>
        <p:spPr>
          <a:xfrm>
            <a:off x="468360" y="3860640"/>
            <a:ext cx="3244680" cy="2432160"/>
          </a:xfrm>
          <a:prstGeom prst="rect">
            <a:avLst/>
          </a:prstGeom>
          <a:ln w="28440">
            <a:solidFill>
              <a:srgbClr val="3366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</p:pic>
      <p:pic>
        <p:nvPicPr>
          <p:cNvPr id="169" name="Picture 8" descr="DSC03121"/>
          <p:cNvPicPr/>
          <p:nvPr/>
        </p:nvPicPr>
        <p:blipFill>
          <a:blip r:embed="rId4"/>
          <a:stretch/>
        </p:blipFill>
        <p:spPr>
          <a:xfrm>
            <a:off x="4211640" y="3879720"/>
            <a:ext cx="3246480" cy="2432160"/>
          </a:xfrm>
          <a:prstGeom prst="rect">
            <a:avLst/>
          </a:prstGeom>
          <a:ln w="28440">
            <a:solidFill>
              <a:srgbClr val="3366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</p:pic>
      <p:pic>
        <p:nvPicPr>
          <p:cNvPr id="170" name="Picture 15" descr="ЭК5"/>
          <p:cNvPicPr/>
          <p:nvPr/>
        </p:nvPicPr>
        <p:blipFill>
          <a:blip r:embed="rId5"/>
          <a:stretch/>
        </p:blipFill>
        <p:spPr>
          <a:xfrm>
            <a:off x="3995640" y="3789360"/>
            <a:ext cx="3529080" cy="2754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6" descr="ЭК14"/>
          <p:cNvPicPr/>
          <p:nvPr/>
        </p:nvPicPr>
        <p:blipFill>
          <a:blip r:embed="rId6"/>
          <a:stretch/>
        </p:blipFill>
        <p:spPr>
          <a:xfrm>
            <a:off x="324000" y="1125360"/>
            <a:ext cx="3471840" cy="2530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7" descr="Эк10"/>
          <p:cNvPicPr/>
          <p:nvPr/>
        </p:nvPicPr>
        <p:blipFill>
          <a:blip r:embed="rId7"/>
          <a:stretch/>
        </p:blipFill>
        <p:spPr>
          <a:xfrm>
            <a:off x="3995640" y="1052640"/>
            <a:ext cx="3529080" cy="2644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8" descr="Эк 7"/>
          <p:cNvPicPr/>
          <p:nvPr/>
        </p:nvPicPr>
        <p:blipFill>
          <a:blip r:embed="rId8"/>
          <a:stretch/>
        </p:blipFill>
        <p:spPr>
          <a:xfrm>
            <a:off x="250920" y="378936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1:46:03Z</dcterms:created>
  <dc:creator>Sysadmin</dc:creator>
  <dc:description/>
  <dc:language>en-US</dc:language>
  <cp:lastModifiedBy>Елена</cp:lastModifiedBy>
  <dcterms:modified xsi:type="dcterms:W3CDTF">2013-02-18T16:46:59Z</dcterms:modified>
  <cp:revision>126</cp:revision>
  <dc:subject/>
  <dc:title>Слайд 1</dc:title>
</cp:coreProperties>
</file>