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9.wmf" ContentType="image/x-wmf"/>
  <Override PartName="/ppt/media/image34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36.wmf" ContentType="image/x-wmf"/>
  <Override PartName="/ppt/media/image37.wmf" ContentType="image/x-wmf"/>
  <Override PartName="/ppt/media/image31.png" ContentType="image/png"/>
  <Override PartName="/ppt/media/image43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50F-AB14-46F7-AB2D-7AC72782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B39-359D-4275-9E9B-D42D8A1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556-7195-462D-A542-A190D297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FA6-58F3-4583-83BB-C660D591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1F35-6A00-4F31-9571-48946EA0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7AFC-9EAA-4205-ABDE-BAAA0440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70A0-77B9-466A-9A9E-5785CE65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F948-91DC-4DFB-959C-E7C6C05B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5E79-818C-4673-9471-A01D6DC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E322-5F0B-4715-90FA-5AA70F5C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5517-AA49-4EBA-A3A3-1F0D181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FB8-465E-44B7-A070-A0D4E57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A8C7-699B-4BBB-8332-EE55A7B0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524F-3B99-4C02-8709-1316BB8F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8347-9C5F-4608-9A51-DC10FA22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2DC8-9A57-4CA7-912E-E6665CC6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BF84-66CB-4C47-8C0F-B20C439D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C259-FCEA-4CE6-8C1A-E6D7BA8E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97983-FAE5-4354-85A3-7FEAA68B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A706E-5B5F-4A36-B108-F20F9086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D1CFB-595A-4803-A113-BF49074B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E1350-18FC-4CCA-BB30-DEF90F2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C3D-85D2-453E-9C62-371FDD67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8B61-9F06-4E7B-80FA-0FF86AF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3C71-EE3F-4B5D-8C72-C8AE19ED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7C68-75F7-4C80-B45E-DB0F5D64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D4895-6D3F-4867-8AE1-E58EBD8A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4B16-4A0E-49E8-9F5E-B3CE4F36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F87E-01A6-41AC-9318-FF6E8B47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1E0CB-1158-4409-8611-F521A84A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788-1F72-41DF-B642-487585FB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606-3B75-4DEA-910E-C1E49024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79D-B2CB-413D-86AB-20B1ECB1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2FC-7A0D-4EE7-B4CA-B627E7A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F379-A967-44FC-9A4B-06830421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7B1-E466-452B-83A9-ED402DF0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264E-1BC5-438D-88FA-70815B4C8B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3D22-1612-4B4B-9FED-9277AFA309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A0E2-EC53-46E5-8C3D-C07578A908D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ch05011"/>
          <p:cNvPicPr/>
          <p:nvPr/>
        </p:nvPicPr>
        <p:blipFill>
          <a:blip r:embed="rId1"/>
          <a:stretch/>
        </p:blipFill>
        <p:spPr>
          <a:xfrm>
            <a:off x="2411280" y="549360"/>
            <a:ext cx="4810320" cy="506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C:\Documents and Settings\Виталий\Мои документы\Мои рисунки\Рис 1.jpg"/>
          <p:cNvPicPr/>
          <p:nvPr/>
        </p:nvPicPr>
        <p:blipFill>
          <a:blip r:embed="rId1"/>
          <a:stretch/>
        </p:blipFill>
        <p:spPr>
          <a:xfrm>
            <a:off x="642960" y="357120"/>
            <a:ext cx="3405240" cy="2446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http://www.likebook.ru/store/pictures/158/158337/6.jpg"/>
          <p:cNvPicPr/>
          <p:nvPr/>
        </p:nvPicPr>
        <p:blipFill>
          <a:blip r:embed="rId2"/>
          <a:stretch/>
        </p:blipFill>
        <p:spPr>
          <a:xfrm>
            <a:off x="5467320" y="357120"/>
            <a:ext cx="2676600" cy="2955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http://im8-tub-ru.yandex.net/i?id=249852105-00-72&amp;n=21"/>
          <p:cNvPicPr/>
          <p:nvPr/>
        </p:nvPicPr>
        <p:blipFill>
          <a:blip r:embed="rId3"/>
          <a:stretch/>
        </p:blipFill>
        <p:spPr>
          <a:xfrm>
            <a:off x="736560" y="3571920"/>
            <a:ext cx="3764160" cy="2614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im6-tub-ru.yandex.net/i?id=526344969-57-72&amp;n=21"/>
          <p:cNvPicPr/>
          <p:nvPr/>
        </p:nvPicPr>
        <p:blipFill>
          <a:blip r:embed="rId4"/>
          <a:stretch/>
        </p:blipFill>
        <p:spPr>
          <a:xfrm>
            <a:off x="4976640" y="3857760"/>
            <a:ext cx="3619800" cy="271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цепь"/>
          <p:cNvPicPr/>
          <p:nvPr/>
        </p:nvPicPr>
        <p:blipFill>
          <a:blip r:embed="rId1"/>
          <a:stretch/>
        </p:blipFill>
        <p:spPr>
          <a:xfrm>
            <a:off x="395280" y="1000080"/>
            <a:ext cx="8177400" cy="5500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1476360" y="189000"/>
            <a:ext cx="51134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Times New Roman"/>
              </a:rPr>
              <a:t>Цепь загряз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 rot="838800">
            <a:off x="250920" y="1557360"/>
            <a:ext cx="3263760" cy="16016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45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Загрязня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ещества поп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в воздух, вод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поч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9"/>
          <p:cNvSpPr/>
          <p:nvPr/>
        </p:nvSpPr>
        <p:spPr>
          <a:xfrm rot="20183400">
            <a:off x="612360" y="4203360"/>
            <a:ext cx="2664000" cy="144936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68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 rot="532200">
            <a:off x="5292360" y="1699920"/>
            <a:ext cx="3384720" cy="12240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48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рганизм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 rot="532200">
            <a:off x="4788000" y="3933720"/>
            <a:ext cx="3341520" cy="141156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48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Продукты п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1187280" y="3213000"/>
            <a:ext cx="576360" cy="1008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73880 h 1008000"/>
              <a:gd name="textAreaBottom" fmla="*/ 7333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58" stAng="-5400000" swAng="-5400000"/>
                <a:lnTo>
                  <a:pt x="0" y="11982"/>
                </a:lnTo>
                <a:arcTo wR="21600" hR="7458" stAng="10800000" swAng="-2659292"/>
                <a:lnTo>
                  <a:pt x="14400" y="21173"/>
                </a:lnTo>
                <a:lnTo>
                  <a:pt x="21600" y="17178"/>
                </a:lnTo>
                <a:lnTo>
                  <a:pt x="14400" y="12329"/>
                </a:lnTo>
                <a:lnTo>
                  <a:pt x="14400" y="14489"/>
                </a:lnTo>
                <a:arcTo wR="21600" hR="7458" stAng="8140708" swAng="2282997"/>
                <a:lnTo>
                  <a:pt x="1017" y="9720"/>
                </a:lnTo>
                <a:arcTo wR="21600" hR="7458" stAng="-10423705" swAng="5023705"/>
                <a:close/>
              </a:path>
              <a:path fill="darkenLess" w="21600" h="21600">
                <a:moveTo>
                  <a:pt x="21600" y="0"/>
                </a:moveTo>
                <a:arcTo wR="21600" hR="7458" stAng="-5400000" swAng="-5400000"/>
                <a:lnTo>
                  <a:pt x="0" y="7458"/>
                </a:lnTo>
                <a:arcTo wR="21600" hR="7458" stAng="10800000" swAng="-376295"/>
                <a:lnTo>
                  <a:pt x="1017" y="9720"/>
                </a:lnTo>
                <a:arcTo wR="21600" hR="7458" stAng="-10423705" swAng="5023705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3348000" y="4653000"/>
            <a:ext cx="1511280" cy="360360"/>
          </a:xfrm>
          <a:prstGeom prst="rightArrow">
            <a:avLst>
              <a:gd name="adj1" fmla="val 50000"/>
              <a:gd name="adj2" fmla="val 104845"/>
            </a:avLst>
          </a:prstGeom>
          <a:blipFill rotWithShape="0">
            <a:blip r:embed="rId3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6372360" y="2997360"/>
            <a:ext cx="720720" cy="792000"/>
          </a:xfrm>
          <a:prstGeom prst="pi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 rot="5400000">
            <a:off x="3922200" y="184608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blipFill rotWithShape="0">
            <a:blip r:embed="rId5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"/>
          <p:cNvSpPr/>
          <p:nvPr/>
        </p:nvSpPr>
        <p:spPr>
          <a:xfrm>
            <a:off x="428760" y="4287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ЛОГИЧЕСКАЯ БЕЗОПАСНОС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857160" y="296712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 Black"/>
              </a:rPr>
              <a:t>ЭТО ЗАЩИТА ОТ ВРЕДНОГО ВОЗДЕЙСТВИЯ ЗАГРЯЗНЕННОЙ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 житель России в день производит примерно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кг мусора. Сколько кг мусора выбросит семья из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человек за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дней?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na-more.su/gelen/gelenfotopl/681873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http://im8-tub-ru.yandex.net/i?id=327655167-08-72&amp;n=21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ставь цепь загряз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" action="ppaction://hlinkshowjump?jump=previousslide"/>
          </p:cNvPr>
          <p:cNvSpPr/>
          <p:nvPr/>
        </p:nvSpPr>
        <p:spPr>
          <a:xfrm>
            <a:off x="8532720" y="623736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7493"/>
                </a:moveTo>
                <a:lnTo>
                  <a:pt x="7310" y="7493"/>
                </a:lnTo>
                <a:lnTo>
                  <a:pt x="7310" y="12828"/>
                </a:lnTo>
                <a:cubicBezTo>
                  <a:pt x="7310" y="13751"/>
                  <a:pt x="8111" y="14482"/>
                  <a:pt x="9147" y="14482"/>
                </a:cubicBezTo>
                <a:lnTo>
                  <a:pt x="10809" y="14482"/>
                </a:lnTo>
                <a:cubicBezTo>
                  <a:pt x="11845" y="14482"/>
                  <a:pt x="12645" y="13751"/>
                  <a:pt x="12645" y="12828"/>
                </a:cubicBezTo>
                <a:lnTo>
                  <a:pt x="12645" y="7493"/>
                </a:lnTo>
                <a:lnTo>
                  <a:pt x="10809" y="7493"/>
                </a:lnTo>
                <a:lnTo>
                  <a:pt x="14317" y="3985"/>
                </a:lnTo>
                <a:lnTo>
                  <a:pt x="17990" y="7493"/>
                </a:lnTo>
                <a:lnTo>
                  <a:pt x="16153" y="7493"/>
                </a:lnTo>
                <a:lnTo>
                  <a:pt x="16153" y="12828"/>
                </a:lnTo>
                <a:cubicBezTo>
                  <a:pt x="16153" y="15596"/>
                  <a:pt x="13577" y="18155"/>
                  <a:pt x="10809" y="18155"/>
                </a:cubicBezTo>
                <a:lnTo>
                  <a:pt x="9147" y="18155"/>
                </a:lnTo>
                <a:cubicBezTo>
                  <a:pt x="6379" y="18155"/>
                  <a:pt x="3803" y="15596"/>
                  <a:pt x="3803" y="12828"/>
                </a:cubicBez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MCj04377970000[1]"/>
          <p:cNvPicPr/>
          <p:nvPr/>
        </p:nvPicPr>
        <p:blipFill>
          <a:blip r:embed="rId1"/>
          <a:stretch/>
        </p:blipFill>
        <p:spPr>
          <a:xfrm>
            <a:off x="7380360" y="115920"/>
            <a:ext cx="1763640" cy="1666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MCj01045280000[1]"/>
          <p:cNvPicPr/>
          <p:nvPr/>
        </p:nvPicPr>
        <p:blipFill>
          <a:blip r:embed="rId2"/>
          <a:stretch/>
        </p:blipFill>
        <p:spPr>
          <a:xfrm>
            <a:off x="3851280" y="2492280"/>
            <a:ext cx="1819440" cy="2103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MCj02156120000[1]"/>
          <p:cNvPicPr/>
          <p:nvPr/>
        </p:nvPicPr>
        <p:blipFill>
          <a:blip r:embed="rId3"/>
          <a:stretch/>
        </p:blipFill>
        <p:spPr>
          <a:xfrm>
            <a:off x="3564000" y="4664160"/>
            <a:ext cx="2066760" cy="1933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MCj03538770000[1]"/>
          <p:cNvPicPr/>
          <p:nvPr/>
        </p:nvPicPr>
        <p:blipFill>
          <a:blip r:embed="rId4"/>
          <a:stretch/>
        </p:blipFill>
        <p:spPr>
          <a:xfrm>
            <a:off x="684360" y="4989600"/>
            <a:ext cx="2303280" cy="15350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8" descr="MCj02516270000[1]"/>
          <p:cNvPicPr/>
          <p:nvPr/>
        </p:nvPicPr>
        <p:blipFill>
          <a:blip r:embed="rId5"/>
          <a:stretch/>
        </p:blipFill>
        <p:spPr>
          <a:xfrm>
            <a:off x="6588000" y="4797360"/>
            <a:ext cx="1656000" cy="1809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8" descr="MCj02868640000[1]"/>
          <p:cNvPicPr/>
          <p:nvPr/>
        </p:nvPicPr>
        <p:blipFill>
          <a:blip r:embed="rId6"/>
          <a:stretch/>
        </p:blipFill>
        <p:spPr>
          <a:xfrm>
            <a:off x="971640" y="2637000"/>
            <a:ext cx="1738080" cy="2098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1" descr="MCj02957110000[1]"/>
          <p:cNvPicPr/>
          <p:nvPr/>
        </p:nvPicPr>
        <p:blipFill>
          <a:blip r:embed="rId7"/>
          <a:stretch/>
        </p:blipFill>
        <p:spPr>
          <a:xfrm>
            <a:off x="6710400" y="2781360"/>
            <a:ext cx="2433600" cy="1824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2" descr=""/>
          <p:cNvPicPr/>
          <p:nvPr/>
        </p:nvPicPr>
        <p:blipFill>
          <a:blip r:embed="rId8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9059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2" descr="MCj01045280000[1]"/>
          <p:cNvPicPr/>
          <p:nvPr/>
        </p:nvPicPr>
        <p:blipFill>
          <a:blip r:embed="rId1"/>
          <a:stretch/>
        </p:blipFill>
        <p:spPr>
          <a:xfrm>
            <a:off x="0" y="285840"/>
            <a:ext cx="1819440" cy="2103480"/>
          </a:xfrm>
          <a:prstGeom prst="rect">
            <a:avLst/>
          </a:prstGeom>
          <a:ln w="0">
            <a:noFill/>
          </a:ln>
        </p:spPr>
      </p:pic>
      <p:sp>
        <p:nvSpPr>
          <p:cNvPr id="204" name="Стрелка вправо с вырезом 2"/>
          <p:cNvSpPr/>
          <p:nvPr/>
        </p:nvSpPr>
        <p:spPr>
          <a:xfrm>
            <a:off x="1785960" y="128592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7" descr="MCj02156120000[1]"/>
          <p:cNvPicPr/>
          <p:nvPr/>
        </p:nvPicPr>
        <p:blipFill>
          <a:blip r:embed="rId2"/>
          <a:stretch/>
        </p:blipFill>
        <p:spPr>
          <a:xfrm>
            <a:off x="2857680" y="285840"/>
            <a:ext cx="2066760" cy="1933560"/>
          </a:xfrm>
          <a:prstGeom prst="rect">
            <a:avLst/>
          </a:prstGeom>
          <a:ln w="0">
            <a:noFill/>
          </a:ln>
        </p:spPr>
      </p:pic>
      <p:sp>
        <p:nvSpPr>
          <p:cNvPr id="206" name="Стрелка вправо с вырезом 4"/>
          <p:cNvSpPr/>
          <p:nvPr/>
        </p:nvSpPr>
        <p:spPr>
          <a:xfrm>
            <a:off x="4714920" y="128592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0" y="5400"/>
                </a:lnTo>
                <a:lnTo>
                  <a:pt x="16250" y="0"/>
                </a:lnTo>
                <a:lnTo>
                  <a:pt x="21600" y="10800"/>
                </a:lnTo>
                <a:lnTo>
                  <a:pt x="16250" y="21600"/>
                </a:lnTo>
                <a:lnTo>
                  <a:pt x="16250" y="16200"/>
                </a:lnTo>
                <a:lnTo>
                  <a:pt x="0" y="16200"/>
                </a:lnTo>
                <a:lnTo>
                  <a:pt x="2675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9" descr="MCj03538770000[1]"/>
          <p:cNvPicPr/>
          <p:nvPr/>
        </p:nvPicPr>
        <p:blipFill>
          <a:blip r:embed="rId3"/>
          <a:stretch/>
        </p:blipFill>
        <p:spPr>
          <a:xfrm>
            <a:off x="5500800" y="500040"/>
            <a:ext cx="2303280" cy="153504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низ 6"/>
          <p:cNvSpPr/>
          <p:nvPr/>
        </p:nvSpPr>
        <p:spPr>
          <a:xfrm>
            <a:off x="6643800" y="2357280"/>
            <a:ext cx="484200" cy="978120"/>
          </a:xfrm>
          <a:prstGeom prst="downArrow">
            <a:avLst>
              <a:gd name="adj1" fmla="val 50000"/>
              <a:gd name="adj2" fmla="val 50034"/>
            </a:avLst>
          </a:pr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8" descr="MCj02516270000[1]"/>
          <p:cNvPicPr/>
          <p:nvPr/>
        </p:nvPicPr>
        <p:blipFill>
          <a:blip r:embed="rId4"/>
          <a:stretch/>
        </p:blipFill>
        <p:spPr>
          <a:xfrm>
            <a:off x="6715080" y="3286080"/>
            <a:ext cx="1655640" cy="1809720"/>
          </a:xfrm>
          <a:prstGeom prst="rect">
            <a:avLst/>
          </a:prstGeom>
          <a:ln w="0">
            <a:noFill/>
          </a:ln>
        </p:spPr>
      </p:pic>
      <p:sp>
        <p:nvSpPr>
          <p:cNvPr id="210" name="Стрелка влево 8"/>
          <p:cNvSpPr/>
          <p:nvPr/>
        </p:nvSpPr>
        <p:spPr>
          <a:xfrm>
            <a:off x="5786280" y="4000680"/>
            <a:ext cx="978120" cy="483840"/>
          </a:xfrm>
          <a:prstGeom prst="leftArrow">
            <a:avLst>
              <a:gd name="adj1" fmla="val 50000"/>
              <a:gd name="adj2" fmla="val 50071"/>
            </a:avLst>
          </a:pr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8" descr="MCj02868640000[1]"/>
          <p:cNvPicPr/>
          <p:nvPr/>
        </p:nvPicPr>
        <p:blipFill>
          <a:blip r:embed="rId5"/>
          <a:stretch/>
        </p:blipFill>
        <p:spPr>
          <a:xfrm>
            <a:off x="3929040" y="3214800"/>
            <a:ext cx="1738440" cy="2098440"/>
          </a:xfrm>
          <a:prstGeom prst="rect">
            <a:avLst/>
          </a:prstGeom>
          <a:ln w="0">
            <a:noFill/>
          </a:ln>
        </p:spPr>
      </p:pic>
      <p:sp>
        <p:nvSpPr>
          <p:cNvPr id="212" name="Стрелка влево 10"/>
          <p:cNvSpPr/>
          <p:nvPr/>
        </p:nvSpPr>
        <p:spPr>
          <a:xfrm>
            <a:off x="2857680" y="407196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noFill/>
          <a:ln w="2844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1" descr="MCj02957110000[1]"/>
          <p:cNvPicPr/>
          <p:nvPr/>
        </p:nvPicPr>
        <p:blipFill>
          <a:blip r:embed="rId6"/>
          <a:stretch/>
        </p:blipFill>
        <p:spPr>
          <a:xfrm>
            <a:off x="142920" y="3286080"/>
            <a:ext cx="2433600" cy="1824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2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4"/>
          <p:cNvSpPr/>
          <p:nvPr/>
        </p:nvSpPr>
        <p:spPr>
          <a:xfrm>
            <a:off x="395280" y="260280"/>
            <a:ext cx="8209080" cy="1289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ля самостоятель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Соедини начало и окончание фраз, и ты получишь правила бережного отношения к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95280" y="1700280"/>
          <a:ext cx="8424720" cy="4680000"/>
        </p:xfrm>
        <a:graphic>
          <a:graphicData uri="http://schemas.openxmlformats.org/drawingml/2006/table">
            <a:tbl>
              <a:tblPr/>
              <a:tblGrid>
                <a:gridCol w="2614680"/>
                <a:gridCol w="465120"/>
                <a:gridCol w="5344920"/>
              </a:tblGrid>
              <a:tr h="46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но относясь к продукт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инив подтекающий кран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ируя мусор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ая природу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яя раст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можно снова сделать полезные вещ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ты бережешь чистую во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бережешь плодородие земли и труд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сохраняешь лес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… узнаешь, как ее сбереч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285840" y="1349280"/>
            <a:ext cx="8072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Сегодня я узнал(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было интерес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выполнял(а) зада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приобрел(а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я научился(ась)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у меня получи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еня удив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рок дал мне для жизн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не захоте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571680" y="357120"/>
          <a:ext cx="7786440" cy="6424560"/>
        </p:xfrm>
        <a:graphic>
          <a:graphicData uri="http://schemas.openxmlformats.org/drawingml/2006/table">
            <a:tbl>
              <a:tblPr/>
              <a:tblGrid>
                <a:gridCol w="7786440"/>
              </a:tblGrid>
              <a:tr h="642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машнее задани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рочитать статью «Экологическая безопасность» (учебник с.29-3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ыполнить задание 1 с. 34 в учебни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Ребята, и я предлагаю 3 задания на выбор. Вы выберите то, с которым  справитесь, которое будет для вас интересны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. Придумать правила личной экологической безопасност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.  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дготовить  сообщение « Что может сделать наше село красивым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. Найти в газетах  заметки о том, какие проблемы волнуют наших эколог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Фильм Как прекрасен этот мир!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не рубите мужики_0001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асибо за сотрудничеств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727360" y="1916280"/>
            <a:ext cx="36450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571680" y="500040"/>
          <a:ext cx="8001000" cy="56437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6437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оздух, почва, вода, безопасность, эколог, человек, жизнедеятельность, природ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Земля в руках с радугой"/>
          <p:cNvPicPr/>
          <p:nvPr/>
        </p:nvPicPr>
        <p:blipFill>
          <a:blip r:embed="rId1"/>
          <a:srcRect l="16086" t="38324" r="19548" b="32233"/>
          <a:stretch/>
        </p:blipFill>
        <p:spPr>
          <a:xfrm>
            <a:off x="0" y="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1547640" y="836640"/>
            <a:ext cx="6769440" cy="1203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наки безопасности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0920" y="1989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опасности могу подстерегать челове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Зимоглядова"/>
          <p:cNvPicPr/>
          <p:nvPr/>
        </p:nvPicPr>
        <p:blipFill>
          <a:blip r:embed="rId2"/>
          <a:stretch/>
        </p:blipFill>
        <p:spPr>
          <a:xfrm>
            <a:off x="468360" y="2924280"/>
            <a:ext cx="1366920" cy="1296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"/>
          <p:cNvPicPr/>
          <p:nvPr/>
        </p:nvPicPr>
        <p:blipFill>
          <a:blip r:embed="rId3"/>
          <a:stretch/>
        </p:blipFill>
        <p:spPr>
          <a:xfrm>
            <a:off x="2627280" y="2924280"/>
            <a:ext cx="1511280" cy="129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"/>
          <p:cNvPicPr/>
          <p:nvPr/>
        </p:nvPicPr>
        <p:blipFill>
          <a:blip r:embed="rId4"/>
          <a:stretch/>
        </p:blipFill>
        <p:spPr>
          <a:xfrm rot="21439200">
            <a:off x="4859280" y="2855880"/>
            <a:ext cx="1582920" cy="1368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4"/>
          <p:cNvPicPr/>
          <p:nvPr/>
        </p:nvPicPr>
        <p:blipFill>
          <a:blip r:embed="rId5"/>
          <a:stretch/>
        </p:blipFill>
        <p:spPr>
          <a:xfrm>
            <a:off x="7020000" y="2852640"/>
            <a:ext cx="1603440" cy="1440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8"/>
          <p:cNvPicPr/>
          <p:nvPr/>
        </p:nvPicPr>
        <p:blipFill>
          <a:blip r:embed="rId6"/>
          <a:stretch/>
        </p:blipFill>
        <p:spPr>
          <a:xfrm>
            <a:off x="395280" y="486900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5"/>
          <p:cNvPicPr/>
          <p:nvPr/>
        </p:nvPicPr>
        <p:blipFill>
          <a:blip r:embed="rId7"/>
          <a:stretch/>
        </p:blipFill>
        <p:spPr>
          <a:xfrm>
            <a:off x="2843280" y="4869000"/>
            <a:ext cx="2881080" cy="158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Мухоморы"/>
          <p:cNvPicPr/>
          <p:nvPr/>
        </p:nvPicPr>
        <p:blipFill>
          <a:blip r:embed="rId8"/>
          <a:stretch/>
        </p:blipFill>
        <p:spPr>
          <a:xfrm>
            <a:off x="6300720" y="4869000"/>
            <a:ext cx="22669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Земля в руках с радугой"/>
          <p:cNvPicPr/>
          <p:nvPr/>
        </p:nvPicPr>
        <p:blipFill>
          <a:blip r:embed="rId1"/>
          <a:stretch/>
        </p:blipFill>
        <p:spPr>
          <a:xfrm>
            <a:off x="-142920" y="0"/>
            <a:ext cx="9648720" cy="7821720"/>
          </a:xfrm>
          <a:prstGeom prst="rect">
            <a:avLst/>
          </a:prstGeom>
          <a:ln w="0">
            <a:noFill/>
          </a:ln>
        </p:spPr>
      </p:pic>
      <p:sp>
        <p:nvSpPr>
          <p:cNvPr id="156" name="WordArt 7"/>
          <p:cNvSpPr txBox="1"/>
          <p:nvPr/>
        </p:nvSpPr>
        <p:spPr>
          <a:xfrm>
            <a:off x="179280" y="333360"/>
            <a:ext cx="8964720" cy="727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1350977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Экологическая безопасность</a:t>
            </a:r>
            <a:endParaRPr b="1" i="1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Улыбающаяся планетаjpg"/>
          <p:cNvPicPr/>
          <p:nvPr/>
        </p:nvPicPr>
        <p:blipFill>
          <a:blip r:embed="rId1"/>
          <a:stretch/>
        </p:blipFill>
        <p:spPr>
          <a:xfrm>
            <a:off x="7143840" y="2571840"/>
            <a:ext cx="1727280" cy="194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Земля в руках с радугой"/>
          <p:cNvPicPr/>
          <p:nvPr/>
        </p:nvPicPr>
        <p:blipFill>
          <a:blip r:embed="rId2"/>
          <a:srcRect l="16086" t="38324" r="19548" b="32233"/>
          <a:stretch/>
        </p:blipFill>
        <p:spPr>
          <a:xfrm>
            <a:off x="0" y="0"/>
            <a:ext cx="9144000" cy="1655640"/>
          </a:xfrm>
          <a:prstGeom prst="rect">
            <a:avLst/>
          </a:prstGeom>
          <a:ln w="0">
            <a:noFill/>
          </a:ln>
        </p:spPr>
      </p:pic>
      <p:sp>
        <p:nvSpPr>
          <p:cNvPr id="159" name="WordArt 3"/>
          <p:cNvSpPr txBox="1"/>
          <p:nvPr/>
        </p:nvSpPr>
        <p:spPr>
          <a:xfrm>
            <a:off x="2195640" y="1052640"/>
            <a:ext cx="4968720" cy="94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212374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Цели урока</a:t>
            </a:r>
            <a:endParaRPr b="1" lang="en-US" sz="66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79280" y="2060640"/>
            <a:ext cx="8964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ознакомить учащихся с новыми понятиями «экологическая безопасность», «цепь загрязнения», «эколог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Показать учащимся, что Природа – наш                      общий дом: бережем дом – бережем здоров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Обогащать словарный запас учащихся, развивать речь и мыш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Воспитывать экологическую культуру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im6-tub-ru.yandex.net/i?id=566330183-58-72&amp;n=21"/>
          <p:cNvPicPr/>
          <p:nvPr/>
        </p:nvPicPr>
        <p:blipFill>
          <a:blip r:embed="rId1"/>
          <a:stretch/>
        </p:blipFill>
        <p:spPr>
          <a:xfrm>
            <a:off x="357120" y="285840"/>
            <a:ext cx="3000600" cy="2643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im4-tub-ru.yandex.net/i?id=24661111-21-72&amp;n=21"/>
          <p:cNvPicPr/>
          <p:nvPr/>
        </p:nvPicPr>
        <p:blipFill>
          <a:blip r:embed="rId2"/>
          <a:stretch/>
        </p:blipFill>
        <p:spPr>
          <a:xfrm>
            <a:off x="5357880" y="571680"/>
            <a:ext cx="2928960" cy="3429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7-tub-ru.yandex.net/i?id=84923154-10-72&amp;n=21"/>
          <p:cNvPicPr/>
          <p:nvPr/>
        </p:nvPicPr>
        <p:blipFill>
          <a:blip r:embed="rId3"/>
          <a:stretch/>
        </p:blipFill>
        <p:spPr>
          <a:xfrm>
            <a:off x="785880" y="3429000"/>
            <a:ext cx="37861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im2-tub-ru.yandex.net/i?id=68853051-26-72&amp;n=21"/>
          <p:cNvPicPr/>
          <p:nvPr/>
        </p:nvPicPr>
        <p:blipFill>
          <a:blip r:embed="rId1"/>
          <a:stretch/>
        </p:blipFill>
        <p:spPr>
          <a:xfrm>
            <a:off x="785880" y="0"/>
            <a:ext cx="4143240" cy="3000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im8-tub-ru.yandex.net/i?id=537753336-21-72&amp;n=21"/>
          <p:cNvPicPr/>
          <p:nvPr/>
        </p:nvPicPr>
        <p:blipFill>
          <a:blip r:embed="rId2"/>
          <a:stretch/>
        </p:blipFill>
        <p:spPr>
          <a:xfrm>
            <a:off x="4143240" y="2571840"/>
            <a:ext cx="5214960" cy="378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DSC07598"/>
          <p:cNvPicPr/>
          <p:nvPr/>
        </p:nvPicPr>
        <p:blipFill>
          <a:blip r:embed="rId1"/>
          <a:stretch/>
        </p:blipFill>
        <p:spPr>
          <a:xfrm>
            <a:off x="468360" y="1125360"/>
            <a:ext cx="3240000" cy="2427480"/>
          </a:xfrm>
          <a:prstGeom prst="rect">
            <a:avLst/>
          </a:prstGeom>
          <a:ln w="28440">
            <a:solidFill>
              <a:srgbClr val="3366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</p:pic>
      <p:pic>
        <p:nvPicPr>
          <p:cNvPr id="167" name="Picture 6" descr="DSC06722"/>
          <p:cNvPicPr/>
          <p:nvPr/>
        </p:nvPicPr>
        <p:blipFill>
          <a:blip r:embed="rId2"/>
          <a:stretch/>
        </p:blipFill>
        <p:spPr>
          <a:xfrm>
            <a:off x="4211640" y="1125360"/>
            <a:ext cx="3240000" cy="2428920"/>
          </a:xfrm>
          <a:prstGeom prst="rect">
            <a:avLst/>
          </a:prstGeom>
          <a:ln w="28440">
            <a:solidFill>
              <a:srgbClr val="3366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</p:pic>
      <p:pic>
        <p:nvPicPr>
          <p:cNvPr id="168" name="Picture 7" descr="P7050047"/>
          <p:cNvPicPr/>
          <p:nvPr/>
        </p:nvPicPr>
        <p:blipFill>
          <a:blip r:embed="rId3"/>
          <a:stretch/>
        </p:blipFill>
        <p:spPr>
          <a:xfrm>
            <a:off x="468360" y="3860640"/>
            <a:ext cx="3244680" cy="2432160"/>
          </a:xfrm>
          <a:prstGeom prst="rect">
            <a:avLst/>
          </a:prstGeom>
          <a:ln w="28440">
            <a:solidFill>
              <a:srgbClr val="3366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</p:pic>
      <p:pic>
        <p:nvPicPr>
          <p:cNvPr id="169" name="Picture 8" descr="DSC03121"/>
          <p:cNvPicPr/>
          <p:nvPr/>
        </p:nvPicPr>
        <p:blipFill>
          <a:blip r:embed="rId4"/>
          <a:stretch/>
        </p:blipFill>
        <p:spPr>
          <a:xfrm>
            <a:off x="4211640" y="3879720"/>
            <a:ext cx="3246480" cy="2432160"/>
          </a:xfrm>
          <a:prstGeom prst="rect">
            <a:avLst/>
          </a:prstGeom>
          <a:ln w="28440">
            <a:solidFill>
              <a:srgbClr val="336600"/>
            </a:solidFill>
            <a:miter/>
          </a:ln>
          <a:effectLst>
            <a:outerShdw dist="107932" dir="18900000" blurRad="0" rotWithShape="0">
              <a:srgbClr val="336600">
                <a:alpha val="50000"/>
              </a:srgbClr>
            </a:outerShdw>
          </a:effectLst>
        </p:spPr>
      </p:pic>
      <p:pic>
        <p:nvPicPr>
          <p:cNvPr id="170" name="Picture 15" descr="ЭК5"/>
          <p:cNvPicPr/>
          <p:nvPr/>
        </p:nvPicPr>
        <p:blipFill>
          <a:blip r:embed="rId5"/>
          <a:stretch/>
        </p:blipFill>
        <p:spPr>
          <a:xfrm>
            <a:off x="3995640" y="3789360"/>
            <a:ext cx="3529080" cy="2754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ЭК14"/>
          <p:cNvPicPr/>
          <p:nvPr/>
        </p:nvPicPr>
        <p:blipFill>
          <a:blip r:embed="rId6"/>
          <a:stretch/>
        </p:blipFill>
        <p:spPr>
          <a:xfrm>
            <a:off x="324000" y="1125360"/>
            <a:ext cx="3471840" cy="2530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Эк10"/>
          <p:cNvPicPr/>
          <p:nvPr/>
        </p:nvPicPr>
        <p:blipFill>
          <a:blip r:embed="rId7"/>
          <a:stretch/>
        </p:blipFill>
        <p:spPr>
          <a:xfrm>
            <a:off x="3995640" y="1052640"/>
            <a:ext cx="3529080" cy="264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Эк 7"/>
          <p:cNvPicPr/>
          <p:nvPr/>
        </p:nvPicPr>
        <p:blipFill>
          <a:blip r:embed="rId8"/>
          <a:stretch/>
        </p:blipFill>
        <p:spPr>
          <a:xfrm>
            <a:off x="250920" y="3789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1:46:03Z</dcterms:created>
  <dc:creator>Sysadmin</dc:creator>
  <dc:description/>
  <dc:language>en-US</dc:language>
  <cp:lastModifiedBy>Елена</cp:lastModifiedBy>
  <dcterms:modified xsi:type="dcterms:W3CDTF">2013-02-18T16:46:59Z</dcterms:modified>
  <cp:revision>126</cp:revision>
  <dc:subject/>
  <dc:title>Слайд 1</dc:title>
</cp:coreProperties>
</file>