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8911-8DD8-453C-AD4D-F1F259F6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B35E-50A1-4FCF-808D-8942C620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F60-6E2D-4759-A8C8-6CB937AF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07FA-2E10-4914-8CD5-1B2B14ED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4E07-0E35-4631-AE02-ACA77936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F7FF-4456-49FA-B58B-EC3530F3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C425-C3E3-4FDF-9BF7-437DF206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4F74-C186-4E6F-A5B0-72802940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5EE5-8974-4563-BB21-96AB38B5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D83F-225A-46C3-B5D4-9AE37F86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315D-475C-446F-BA02-DACE1A58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F1DD-81B6-4E82-AC71-0941B01F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C273-F891-4DA0-BD51-65E7B512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76ED-AB45-4D87-8141-F67C42C3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BFB7-CEE6-4ED3-8C3F-0A04570F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9A52-943D-4281-96BC-A91181F0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E856-A232-47D9-9CC7-B9923D92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C0576-BA7A-4D88-A1A6-A057A64C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E5A46-5E34-40B9-93F5-07A43C7B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50907-072A-4B2C-9C25-383EB378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633D7-23C8-437B-86D7-5C2684E1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FE51-C333-4DDE-A52D-AD9ECB84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35A1-0A5E-4C92-AE61-C53BB576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7B851-2C40-499E-86C0-E8F3E805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95F60-3F62-4455-A0DE-D78049AD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C0CBE-AC80-4953-89B3-E267CDD6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378CC-ED51-4F6C-9BE4-972C06B7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A4996-A700-4190-B91B-A4269A89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F2CF2-D0A3-4D97-9978-1E04458B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FF66E-795E-42B3-A6FD-21BD4A09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981D1-DA75-4DA1-816B-7BDF3EDF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F89B3-7791-42CC-BC30-06FF3318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A4268-68C0-49C7-98EF-7CF71EFB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8CDA-2684-4F8B-AEFB-75B3A31C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87F58-219D-45BA-80D6-C0636BEB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F49DD-8562-4A2C-BAD0-88E38A19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552AE-07A1-48C7-8E3A-BF36EFB9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8830F-14C2-4188-89FD-2389777E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C5DFE-AFB3-4728-87BB-E0933240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A3FA2-8865-45CF-9691-890FCE6D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2D6D2-3841-4580-BCF9-B84C0151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91B6D-DD6A-43AC-BAE9-0545FE26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53C31-BF7C-4F9C-B3C7-CC740E8D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A2F-2A3B-4121-8D56-1FAC1E14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6B1-5A53-48AC-951A-2864DE8E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270-7BAF-40F0-A8D1-D3F9CD6A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668-C8FA-44DC-9D09-40E51F1D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CACE-37C7-41CC-A883-10C40675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2248-BDD0-4D45-9F8A-170C89A77F3F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F8DA-4BEE-42BF-94E8-E1092FD87B0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538E-EE64-490B-9EE2-207A55CDCDB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CF70-C12C-49F2-A338-36C970D5283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4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250920" y="0"/>
            <a:ext cx="8893080" cy="67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rebuchet MS"/>
              </a:rPr>
              <a:t>Совет академика А.Н. Крылова ученикам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«Всему учись сам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Никогда не рассчитывай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что можно овладеть знаниями без работ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Старайся не просто запоминать изучаемое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а старайся понять сущность дел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То, что понято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легко запоминается и долго не забываетс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Накапливай опыт…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Будь стоек, не бойся разочароваться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не бросай начатого дел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Работай упорно и регулярно изо дня в день».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Прямоугольник 4" descr=""/>
          <p:cNvPicPr/>
          <p:nvPr/>
        </p:nvPicPr>
        <p:blipFill>
          <a:blip r:embed="rId1"/>
          <a:stretch/>
        </p:blipFill>
        <p:spPr>
          <a:xfrm>
            <a:off x="-176040" y="1036800"/>
            <a:ext cx="9289800" cy="65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250920" y="0"/>
            <a:ext cx="8893080" cy="67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rebuchet MS"/>
              </a:rPr>
              <a:t>Совет академика А.Н. Крылова ученикам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«Всему </a:t>
            </a:r>
            <a:r>
              <a:rPr b="1" i="1" lang="ru-RU" sz="2400" spc="-1" strike="noStrike">
                <a:solidFill>
                  <a:srgbClr val="ff0000"/>
                </a:solidFill>
                <a:latin typeface="Trebuchet MS"/>
              </a:rPr>
              <a:t>учись сам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Никогда не рассчитывай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что можно овладеть знаниями без работ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Старайся не просто запоминать изучаемое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а </a:t>
            </a:r>
            <a:r>
              <a:rPr b="1" i="1" lang="ru-RU" sz="2400" spc="-1" strike="noStrike">
                <a:solidFill>
                  <a:srgbClr val="ff0000"/>
                </a:solidFill>
                <a:latin typeface="Trebuchet MS"/>
              </a:rPr>
              <a:t>старайся понять сущность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 дел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То, что понято,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легко запоминается и долго не забываетс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rebuchet MS"/>
              </a:rPr>
              <a:t>Накапливай опыт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rebuchet MS"/>
              </a:rPr>
              <a:t>Будь стоек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, не бойся разочароваться, 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rebuchet MS"/>
              </a:rPr>
              <a:t>не бросай начатого дела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rebuchet MS"/>
              </a:rPr>
              <a:t>Работай упорно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и регулярно изо дня в день».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Прямоугольник 2" descr=""/>
          <p:cNvPicPr/>
          <p:nvPr/>
        </p:nvPicPr>
        <p:blipFill>
          <a:blip r:embed="rId1"/>
          <a:stretch/>
        </p:blipFill>
        <p:spPr>
          <a:xfrm>
            <a:off x="-92160" y="128520"/>
            <a:ext cx="2500560" cy="145584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5" descr=""/>
          <p:cNvPicPr/>
          <p:nvPr/>
        </p:nvPicPr>
        <p:blipFill>
          <a:blip r:embed="rId2"/>
          <a:stretch/>
        </p:blipFill>
        <p:spPr>
          <a:xfrm>
            <a:off x="2835360" y="139680"/>
            <a:ext cx="2449440" cy="145728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6" descr=""/>
          <p:cNvPicPr/>
          <p:nvPr/>
        </p:nvPicPr>
        <p:blipFill>
          <a:blip r:embed="rId3"/>
          <a:stretch/>
        </p:blipFill>
        <p:spPr>
          <a:xfrm>
            <a:off x="5803920" y="128520"/>
            <a:ext cx="3522600" cy="1455840"/>
          </a:xfrm>
          <a:prstGeom prst="rect">
            <a:avLst/>
          </a:prstGeom>
          <a:ln w="0">
            <a:noFill/>
          </a:ln>
        </p:spPr>
      </p:pic>
      <p:sp>
        <p:nvSpPr>
          <p:cNvPr id="219" name="Правая фигурная скобка 9"/>
          <p:cNvSpPr/>
          <p:nvPr/>
        </p:nvSpPr>
        <p:spPr>
          <a:xfrm rot="5400000">
            <a:off x="4193640" y="-1520640"/>
            <a:ext cx="571680" cy="8312040"/>
          </a:xfrm>
          <a:custGeom>
            <a:avLst/>
            <a:gdLst>
              <a:gd name="textAreaLeft" fmla="*/ 0 w 571680"/>
              <a:gd name="textAreaRight" fmla="*/ 206280 w 571680"/>
              <a:gd name="textAreaTop" fmla="*/ 14760 h 8312040"/>
              <a:gd name="textAreaBottom" fmla="*/ 8297280 h 831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2"/>
                  <a:pt x="10800" y="124"/>
                </a:cubicBezTo>
                <a:lnTo>
                  <a:pt x="10800" y="10676"/>
                </a:lnTo>
                <a:cubicBezTo>
                  <a:pt x="10800" y="10738"/>
                  <a:pt x="16200" y="10800"/>
                  <a:pt x="21600" y="10800"/>
                </a:cubicBezTo>
                <a:cubicBezTo>
                  <a:pt x="16200" y="10800"/>
                  <a:pt x="10800" y="10862"/>
                  <a:pt x="10800" y="10924"/>
                </a:cubicBezTo>
                <a:lnTo>
                  <a:pt x="10800" y="21476"/>
                </a:lnTo>
                <a:cubicBezTo>
                  <a:pt x="10800" y="21538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101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0" name="Прямоугольник 10" descr=""/>
          <p:cNvPicPr/>
          <p:nvPr/>
        </p:nvPicPr>
        <p:blipFill>
          <a:blip r:embed="rId4"/>
          <a:stretch/>
        </p:blipFill>
        <p:spPr>
          <a:xfrm>
            <a:off x="1841400" y="3560760"/>
            <a:ext cx="7266240" cy="12859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1" descr=""/>
          <p:cNvPicPr/>
          <p:nvPr/>
        </p:nvPicPr>
        <p:blipFill>
          <a:blip r:embed="rId5"/>
          <a:stretch/>
        </p:blipFill>
        <p:spPr>
          <a:xfrm>
            <a:off x="88920" y="3425760"/>
            <a:ext cx="1655640" cy="1379520"/>
          </a:xfrm>
          <a:prstGeom prst="rect">
            <a:avLst/>
          </a:prstGeom>
          <a:ln w="0">
            <a:noFill/>
          </a:ln>
        </p:spPr>
      </p:pic>
      <p:sp>
        <p:nvSpPr>
          <p:cNvPr id="222" name="Стрелка вправо 12"/>
          <p:cNvSpPr/>
          <p:nvPr/>
        </p:nvSpPr>
        <p:spPr>
          <a:xfrm>
            <a:off x="2155680" y="679320"/>
            <a:ext cx="895320" cy="4255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Стрелка вправо 13"/>
          <p:cNvSpPr/>
          <p:nvPr/>
        </p:nvSpPr>
        <p:spPr>
          <a:xfrm>
            <a:off x="5070600" y="644400"/>
            <a:ext cx="893520" cy="42552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Прямоугольник 2" descr=""/>
          <p:cNvPicPr/>
          <p:nvPr/>
        </p:nvPicPr>
        <p:blipFill>
          <a:blip r:embed="rId1"/>
          <a:stretch/>
        </p:blipFill>
        <p:spPr>
          <a:xfrm>
            <a:off x="291960" y="249120"/>
            <a:ext cx="8596440" cy="10731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5"/>
          <p:cNvSpPr/>
          <p:nvPr/>
        </p:nvSpPr>
        <p:spPr>
          <a:xfrm>
            <a:off x="444600" y="4292640"/>
            <a:ext cx="849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- это технология</a:t>
            </a:r>
            <a:r>
              <a:rPr b="0" lang="ru-RU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и предоставляемые ею услуги по пересылке и получению электронных сообщений по компьютерной сет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290520" y="15573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- это передача писем в Интернет с помощью персональных компьютеров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444600" y="2852640"/>
            <a:ext cx="839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- это прием/передача сообщений одному или группе лиц по сет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Прямоугольник 2" descr=""/>
          <p:cNvPicPr/>
          <p:nvPr/>
        </p:nvPicPr>
        <p:blipFill>
          <a:blip r:embed="rId1"/>
          <a:stretch/>
        </p:blipFill>
        <p:spPr>
          <a:xfrm>
            <a:off x="-92160" y="1158840"/>
            <a:ext cx="2500560" cy="145584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5" descr=""/>
          <p:cNvPicPr/>
          <p:nvPr/>
        </p:nvPicPr>
        <p:blipFill>
          <a:blip r:embed="rId2"/>
          <a:stretch/>
        </p:blipFill>
        <p:spPr>
          <a:xfrm>
            <a:off x="3151080" y="1060560"/>
            <a:ext cx="2451240" cy="145728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6" descr=""/>
          <p:cNvPicPr/>
          <p:nvPr/>
        </p:nvPicPr>
        <p:blipFill>
          <a:blip r:embed="rId3"/>
          <a:stretch/>
        </p:blipFill>
        <p:spPr>
          <a:xfrm>
            <a:off x="6095880" y="1047600"/>
            <a:ext cx="3524400" cy="145764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10" descr=""/>
          <p:cNvPicPr/>
          <p:nvPr/>
        </p:nvPicPr>
        <p:blipFill>
          <a:blip r:embed="rId4"/>
          <a:stretch/>
        </p:blipFill>
        <p:spPr>
          <a:xfrm>
            <a:off x="1755720" y="-12600"/>
            <a:ext cx="7265880" cy="128736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1" descr=""/>
          <p:cNvPicPr/>
          <p:nvPr/>
        </p:nvPicPr>
        <p:blipFill>
          <a:blip r:embed="rId5"/>
          <a:stretch/>
        </p:blipFill>
        <p:spPr>
          <a:xfrm>
            <a:off x="230040" y="0"/>
            <a:ext cx="1656000" cy="1379520"/>
          </a:xfrm>
          <a:prstGeom prst="rect">
            <a:avLst/>
          </a:prstGeom>
          <a:ln w="0">
            <a:noFill/>
          </a:ln>
        </p:spPr>
      </p:pic>
      <p:sp>
        <p:nvSpPr>
          <p:cNvPr id="236" name="Стрелка вправо 12"/>
          <p:cNvSpPr/>
          <p:nvPr/>
        </p:nvSpPr>
        <p:spPr>
          <a:xfrm>
            <a:off x="2155680" y="1577880"/>
            <a:ext cx="895320" cy="4255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Стрелка вправо 13"/>
          <p:cNvSpPr/>
          <p:nvPr/>
        </p:nvSpPr>
        <p:spPr>
          <a:xfrm>
            <a:off x="5580000" y="1577880"/>
            <a:ext cx="895320" cy="4255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Прямоугольник 14"/>
          <p:cNvSpPr/>
          <p:nvPr/>
        </p:nvSpPr>
        <p:spPr>
          <a:xfrm>
            <a:off x="119160" y="2247840"/>
            <a:ext cx="324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- технология</a:t>
            </a: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и предоставляемые ею услуги по пересылке и получению электронных сообщений по компьютерной се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6"/>
          <a:stretch/>
        </p:blipFill>
        <p:spPr>
          <a:xfrm>
            <a:off x="3198960" y="2492280"/>
            <a:ext cx="2828880" cy="216072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15"/>
          <p:cNvSpPr/>
          <p:nvPr/>
        </p:nvSpPr>
        <p:spPr>
          <a:xfrm>
            <a:off x="6208560" y="2468520"/>
            <a:ext cx="2932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680">
              <a:buClr>
                <a:srgbClr val="000000"/>
              </a:buClr>
              <a:buFont typeface="Arial"/>
              <a:buChar char="•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Быть грамотным пользователем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4680">
              <a:buClr>
                <a:srgbClr val="000000"/>
              </a:buClr>
              <a:buFont typeface="Arial"/>
              <a:buChar char="•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Уметь взаимодействовать с другими людь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4680">
              <a:buClr>
                <a:srgbClr val="000000"/>
              </a:buClr>
              <a:buFont typeface="Arial"/>
              <a:buChar char="•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4680">
              <a:buClr>
                <a:srgbClr val="000000"/>
              </a:buClr>
              <a:buFont typeface="Arial"/>
              <a:buChar char="•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0"/>
          <a:ext cx="9144000" cy="7085160"/>
        </p:xfrm>
        <a:graphic>
          <a:graphicData uri="http://schemas.openxmlformats.org/drawingml/2006/table">
            <a:tbl>
              <a:tblPr/>
              <a:tblGrid>
                <a:gridCol w="4683240"/>
                <a:gridCol w="4460760"/>
              </a:tblGrid>
              <a:tr h="394560">
                <a:tc>
                  <a:txBody>
                    <a:bodyPr lIns="65160" rIns="651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еимуществ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5160" rIns="65160" tIns="900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достат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164960">
                <a:tc>
                  <a:txBody>
                    <a:bodyPr lIns="65160" rIns="65160" tIns="90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озможности пересылки не только  текстовой информа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5160" rIns="65160" tIns="90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граничение в размере из- за пропускной способности канал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164960">
                <a:tc>
                  <a:txBody>
                    <a:bodyPr lIns="65160" rIns="65160" tIns="90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ешевизна, простота, скорость достав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5160" rIns="65160" tIns="90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озможность доступа третьих лиц  во время перепис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164960">
                <a:tc>
                  <a:txBody>
                    <a:bodyPr lIns="65160" rIns="65160" tIns="90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сылать сообщение сразу нескольким абонентам (рассылка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5160" rIns="65160" tIns="90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гарантированное время пересылки  (задержка в пути по техническим причина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164960">
                <a:tc>
                  <a:txBody>
                    <a:bodyPr lIns="65160" rIns="65160" tIns="90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ересылать письма на другие адрес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5160" rIns="65160" tIns="90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лучение невостребованной электронной почты (спа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550160">
                <a:tc>
                  <a:txBody>
                    <a:bodyPr lIns="65160" rIns="65160" tIns="90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ключить автоответчик, на все приходящие письма будет автоматически отсылаться отве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5160" rIns="65160" tIns="900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пасность заражения вирус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5160" marR="65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1:39:29Z</dcterms:created>
  <dc:creator>Valued Acer Customer</dc:creator>
  <dc:description/>
  <dc:language>en-US</dc:language>
  <cp:lastModifiedBy>122211122</cp:lastModifiedBy>
  <dcterms:modified xsi:type="dcterms:W3CDTF">2013-04-06T15:59:38Z</dcterms:modified>
  <cp:revision>40</cp:revision>
  <dc:subject/>
  <dc:title>Презентация PowerPoint</dc:title>
</cp:coreProperties>
</file>