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385-4514-4FF7-8D8F-57F33A75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1AD-E74F-4570-91AC-3C57C09F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F0A-7291-4EBE-8D96-23722D85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853-7C81-4D7A-B523-60B5CD5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A4EF-EE69-4FA1-BE03-40FD1D6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F8DE-26EE-413F-B53F-EFA9E65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E1B-08B6-4323-B9FE-A09920F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C02-CEDE-4A08-9F58-6AFB014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1A4-E1C1-4147-804B-A806717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381-0CB5-4FB5-B864-F63769E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0248-C635-4CDD-BF32-7FF1C99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B39-1AF8-4056-8944-F2AAB74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196C-4A19-4D0A-BF1F-EC4E9E8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F150-D7EC-4ADA-B70D-5B0E066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E29-7FAD-4A5E-9D07-29AC091B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B7D9-D5B4-4F36-A69E-A07A0F3D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2C9B-BD8B-4780-A67D-523FB727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0BFA-F0C2-4485-805A-F2BAB623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C131-E927-4F01-83F5-C5B86B4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8CD9-FF3D-48A8-95C1-9E1860A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B897-BF69-481E-A8B3-C7A8E3E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9B24-3C3C-479C-BBD5-A0D2C9F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8B7-32AE-464F-8E15-B4EA88D0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3208-1C1C-4795-8635-5682115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DF63-3DB7-461F-8473-4F353C0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750D-F7DB-46E2-8AE5-F6FCF62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43FD-504A-467F-B520-E9455F5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845E-FFE0-4296-9EBB-FAA9973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A287-753D-4876-A1C2-7E0DE83B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C9A2-1790-4337-B3B5-77829F4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F34D-9BF2-48A2-B9E9-D69ADCD9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9381-802F-4429-87D8-DFCC0F89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ACC7-D57F-460A-8748-6CB73C85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80D-2EF4-4A4C-9EB2-41351AD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0ECF-7668-4E81-A92C-1486B20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93C2-F89D-4ADB-AE8F-9707072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7226-9263-4CC8-A0CF-3D23ED7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FAD0-11B0-4983-8555-7CF316A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B966-B7E9-4C1E-8840-4F5521F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D1B6-DB4D-4B2C-B2EC-42071F8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B51A-1DE7-4423-BF6C-8297ED2D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497D-F983-41F5-83A5-B7105688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F71F-E7DA-48A3-96BF-52D61957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DE8-F10B-402C-B1B2-B76815A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DF2-73B6-477F-ABFE-208762C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ECC-E791-4BCF-9584-004387B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720-F9BD-40DE-9FCC-748C376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ECE-81C9-4396-9A77-FC973DE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905A-A4A8-4753-8184-B955D12D10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33F2-9C9F-4FE7-9DD9-AEE5AF6CD5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DF37-AA8A-43D7-96BE-13F971F4E1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E504-670E-46A8-BDE8-211A8666F97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0"/>
            <a:ext cx="889308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Совет академика А.Н. Крылова ученикам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Всему учись са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икогда не рассчитывай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 можно овладеть знаниями без рабо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арайся не просто запоминать изучаемо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а старайся понять сущность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, что понято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легко запоминается и долго не забывае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акапливай опыт…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Будь стоек, не бойся разочароваться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е бросай начатого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ботай упорно и регулярно изо дня в день»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-176040" y="1036800"/>
            <a:ext cx="9289800" cy="65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50920" y="0"/>
            <a:ext cx="889308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Совет академика А.Н. Крылова ученикам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Всему 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учись сам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икогда не рассчитывай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 можно овладеть знаниями без рабо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арайся не просто запоминать изучаемо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а 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старайся понять сущность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, что понято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легко запоминается и долго не забывае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Накапливай опыт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Будь стоек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, не бойся разочароваться,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не бросай начатого дела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Работай упорно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регулярно изо дня в день»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128520"/>
            <a:ext cx="2500560" cy="14558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2"/>
          <a:stretch/>
        </p:blipFill>
        <p:spPr>
          <a:xfrm>
            <a:off x="2835360" y="139680"/>
            <a:ext cx="2449440" cy="14572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6" descr=""/>
          <p:cNvPicPr/>
          <p:nvPr/>
        </p:nvPicPr>
        <p:blipFill>
          <a:blip r:embed="rId3"/>
          <a:stretch/>
        </p:blipFill>
        <p:spPr>
          <a:xfrm>
            <a:off x="5803920" y="128520"/>
            <a:ext cx="3522600" cy="1455840"/>
          </a:xfrm>
          <a:prstGeom prst="rect">
            <a:avLst/>
          </a:prstGeom>
          <a:ln w="0">
            <a:noFill/>
          </a:ln>
        </p:spPr>
      </p:pic>
      <p:sp>
        <p:nvSpPr>
          <p:cNvPr id="219" name="Правая фигурная скобка 9"/>
          <p:cNvSpPr/>
          <p:nvPr/>
        </p:nvSpPr>
        <p:spPr>
          <a:xfrm rot="5400000">
            <a:off x="4193640" y="-1520640"/>
            <a:ext cx="571680" cy="831204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8312040"/>
              <a:gd name="textAreaBottom" fmla="*/ 8297280 h 831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Прямоугольник 10" descr=""/>
          <p:cNvPicPr/>
          <p:nvPr/>
        </p:nvPicPr>
        <p:blipFill>
          <a:blip r:embed="rId4"/>
          <a:stretch/>
        </p:blipFill>
        <p:spPr>
          <a:xfrm>
            <a:off x="1841400" y="3560760"/>
            <a:ext cx="7266240" cy="12859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1" descr=""/>
          <p:cNvPicPr/>
          <p:nvPr/>
        </p:nvPicPr>
        <p:blipFill>
          <a:blip r:embed="rId5"/>
          <a:stretch/>
        </p:blipFill>
        <p:spPr>
          <a:xfrm>
            <a:off x="88920" y="3425760"/>
            <a:ext cx="1655640" cy="137952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12"/>
          <p:cNvSpPr/>
          <p:nvPr/>
        </p:nvSpPr>
        <p:spPr>
          <a:xfrm>
            <a:off x="2155680" y="67932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Стрелка вправо 13"/>
          <p:cNvSpPr/>
          <p:nvPr/>
        </p:nvSpPr>
        <p:spPr>
          <a:xfrm>
            <a:off x="5070600" y="644400"/>
            <a:ext cx="893520" cy="425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291960" y="249120"/>
            <a:ext cx="8596440" cy="1073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444600" y="429264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технология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и предоставляемые ею услуги по пересылке и получению электронных сообщений по компьютерной се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90520" y="1557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передача писем в Интернет с помощью персональных компьютер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44600" y="2852640"/>
            <a:ext cx="83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прием/передача сообщений одному или группе лиц по се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1158840"/>
            <a:ext cx="2500560" cy="14558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5" descr=""/>
          <p:cNvPicPr/>
          <p:nvPr/>
        </p:nvPicPr>
        <p:blipFill>
          <a:blip r:embed="rId2"/>
          <a:stretch/>
        </p:blipFill>
        <p:spPr>
          <a:xfrm>
            <a:off x="3151080" y="1060560"/>
            <a:ext cx="2451240" cy="1457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6" descr=""/>
          <p:cNvPicPr/>
          <p:nvPr/>
        </p:nvPicPr>
        <p:blipFill>
          <a:blip r:embed="rId3"/>
          <a:stretch/>
        </p:blipFill>
        <p:spPr>
          <a:xfrm>
            <a:off x="6095880" y="1047600"/>
            <a:ext cx="3524400" cy="14576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10" descr=""/>
          <p:cNvPicPr/>
          <p:nvPr/>
        </p:nvPicPr>
        <p:blipFill>
          <a:blip r:embed="rId4"/>
          <a:stretch/>
        </p:blipFill>
        <p:spPr>
          <a:xfrm>
            <a:off x="1755720" y="-12600"/>
            <a:ext cx="7265880" cy="1287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1" descr=""/>
          <p:cNvPicPr/>
          <p:nvPr/>
        </p:nvPicPr>
        <p:blipFill>
          <a:blip r:embed="rId5"/>
          <a:stretch/>
        </p:blipFill>
        <p:spPr>
          <a:xfrm>
            <a:off x="230040" y="0"/>
            <a:ext cx="1656000" cy="13795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право 12"/>
          <p:cNvSpPr/>
          <p:nvPr/>
        </p:nvSpPr>
        <p:spPr>
          <a:xfrm>
            <a:off x="2155680" y="157788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Стрелка вправо 13"/>
          <p:cNvSpPr/>
          <p:nvPr/>
        </p:nvSpPr>
        <p:spPr>
          <a:xfrm>
            <a:off x="5580000" y="157788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119160" y="2247840"/>
            <a:ext cx="324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- технология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предоставляемые ею услуги по пересылке и получению электронных сообщений по компьютерной се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3198960" y="2492280"/>
            <a:ext cx="2828880" cy="2160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5"/>
          <p:cNvSpPr/>
          <p:nvPr/>
        </p:nvSpPr>
        <p:spPr>
          <a:xfrm>
            <a:off x="6208560" y="2468520"/>
            <a:ext cx="293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Быть грамотным пользователем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Уметь взаимодействовать с другими людь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7085160"/>
        </p:xfrm>
        <a:graphic>
          <a:graphicData uri="http://schemas.openxmlformats.org/drawingml/2006/table">
            <a:tbl>
              <a:tblPr/>
              <a:tblGrid>
                <a:gridCol w="4683240"/>
                <a:gridCol w="4460760"/>
              </a:tblGrid>
              <a:tr h="394560">
                <a:tc>
                  <a:txBody>
                    <a:bodyPr lIns="65160" rIns="651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можности пересылки не только  текстовой информ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граничение в размере из- за пропускной способности кана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шевизна, простота, скорость доста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можность доступа третьих лиц  во время перепис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сылать сообщение сразу нескольким абонентам (рассылк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гарантированное время пересылки  (задержка в пути по техническим причина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есылать письма на другие адрес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учение невостребованной электронной почты (спа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5501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ключить автоответчик, на все приходящие письма будет автоматически отсылаться отв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пасность заражения виру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9:29Z</dcterms:created>
  <dc:creator>Valued Acer Customer</dc:creator>
  <dc:description/>
  <dc:language>en-US</dc:language>
  <cp:lastModifiedBy>122211122</cp:lastModifiedBy>
  <dcterms:modified xsi:type="dcterms:W3CDTF">2013-04-06T15:59:38Z</dcterms:modified>
  <cp:revision>40</cp:revision>
  <dc:subject/>
  <dc:title>Презентация PowerPoint</dc:title>
</cp:coreProperties>
</file>