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6368-634D-467A-A369-0789651F0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D539-A63F-45C8-A0F4-5E2AAD7C1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9EB2-8F7E-47A1-BF2E-323C00261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C89F-E883-4DD5-85DD-FD6C605F9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8A15-15B3-4521-A6CF-B272CA50E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10CA-FC61-46B0-8CC1-CF2FE1B10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E0A7-2C7F-4E2B-895C-BDCC83540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8B17-28FA-4618-8654-B78E32B25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1BCE-4D5D-420A-94C0-CF3422407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7557-6EC6-4667-A36B-601417F1E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1177-724B-4F8B-B9C3-13CEFCB49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0FA8-CCBC-484D-A8F1-D6C59F2D9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A5D9CB-A9D5-4C02-81BA-621AAF9E484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376360" y="226440"/>
            <a:ext cx="67676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Уважаемые родители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384720" y="1188720"/>
            <a:ext cx="432108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ccccff"/>
                </a:solidFill>
                <a:latin typeface="Arial"/>
              </a:rPr>
              <a:t>С 1 сентября 2011 года все образовательные учреждения России переходят на новый Федеральный государственный образовательный стандарт начального общего образования (ФГОС НОО)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502920" y="1332000"/>
            <a:ext cx="9069480" cy="54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личительной особенностью начала обучения является то, чт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наряду с традиционным письмом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бенок сразу начинает осваивать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клавиатурный набор текст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    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контексте изучения всех предметов будут использоваться различные источники информации, в том числе, в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нтерне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2920" y="1258560"/>
            <a:ext cx="90694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Arial"/>
              </a:rPr>
              <a:t>Что такое обучение деятельностью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87280" y="2123640"/>
            <a:ext cx="950616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1-ом классе реализуется цикл проектов, участвуя в которых,  дети знакомятся друг с другом, обмениваются информацией о себе, о школе, о своих интересах и увлечения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, например, проект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Я и мое имя»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Моя семья»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вместное издание Азбуки и многое друго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86920" y="1332000"/>
            <a:ext cx="9069480" cy="5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Arial"/>
              </a:rPr>
              <a:t>Что такое интегрированный подход к обучению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02920" y="2411280"/>
            <a:ext cx="9069480" cy="4345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тегрированный подход к обучению предполагает активное использование знаний, полученных при изучении одного предмета, на уроках по другим предметам. Например, на уроке русского языка идет работа над текстами-описаниями, эта же работа продолжается на уроке окружающего мира, например, в связи с изучением времен года. Результатом этой деятельности становится проект, например, видеорепортаж, описывающий картины природы, природные явления и т.п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6360" y="1186920"/>
            <a:ext cx="906912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Arial"/>
              </a:rPr>
              <a:t>Что такое внеурочная деятельность, каковы ее особенности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3280" y="2339640"/>
            <a:ext cx="936144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обиться требуемых образовательных  результатов только на уроке нельзя. Поэтому очень важно, чтобы ребенок посещал специальные занятия во второй половине дня (внеурочную деятельность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      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         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о внеурочную деятельность могут входить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79280">
              <a:lnSpc>
                <a:spcPct val="73000"/>
              </a:lnSpc>
              <a:spcAft>
                <a:spcPts val="1137"/>
              </a:spcAft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ыполнение домашних заданий (начиная со второго полугодия)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79280">
              <a:lnSpc>
                <a:spcPct val="73000"/>
              </a:lnSpc>
              <a:spcAft>
                <a:spcPts val="1137"/>
              </a:spcAft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ндивидуальные занятия учителя с детьми, требующими психолого-педагогической  и коррекционной поддержки (в том числе – индивидуальные занятия по постановке устной речи, почерка и письменной речи и т.д.)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79280">
              <a:lnSpc>
                <a:spcPct val="73000"/>
              </a:lnSpc>
              <a:spcAft>
                <a:spcPts val="1137"/>
              </a:spcAft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экскурсии, кружки, секции, олимпиады, соревнования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79280">
              <a:lnSpc>
                <a:spcPct val="73000"/>
              </a:lnSpc>
              <a:spcAft>
                <a:spcPts val="1137"/>
              </a:spcAft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оисковые исследования и выполнение проект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       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76360" y="1485360"/>
            <a:ext cx="8928000" cy="34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Главная цель введени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Федеральных Государственных образовательных стандартов начального общего образования (ФГОС НОО)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–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овышение качества образов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2920" y="13316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Что такое </a:t>
            </a:r>
            <a:br>
              <a:rPr sz="3200"/>
            </a:b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Федеральный государственный стандарт</a:t>
            </a:r>
            <a:br>
              <a:rPr sz="3200"/>
            </a:b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начального общего образовани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02920" y="2843280"/>
            <a:ext cx="9069480" cy="3913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 - совокупность требований, которые обязательно должна выполнить каждая школа, организуя процесс обучения и воспит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31280" y="1186920"/>
            <a:ext cx="906948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Что является отличительной особенностью нового Стандарт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76360" y="2195280"/>
            <a:ext cx="9069120" cy="4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андарты  первого поколения               Стандарты второго поко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рмировать, давать знания                                 Развивать ум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елью школы становятся не только знания, но и  ум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тавить цель и добиваться ее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амостоятельно добывать и применять знания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оставлять план своих действий и самостоятельно оценивать их последствия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задавать вопросы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ясно выражать свои мысли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заботиться о других, быть нравственным человек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охранять и укреплять своё здоровь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нформационном обществе главными стали не знания, а умения ими пользоваться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31640" y="4140360"/>
            <a:ext cx="928872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4"/>
          <p:cNvSpPr/>
          <p:nvPr/>
        </p:nvSpPr>
        <p:spPr>
          <a:xfrm>
            <a:off x="0" y="1332000"/>
            <a:ext cx="427212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Arial"/>
              </a:rPr>
              <a:t>Так учили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5327640" y="1258920"/>
            <a:ext cx="42004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Arial"/>
              </a:rPr>
              <a:t>Так будут учить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863640" y="5796000"/>
            <a:ext cx="4176720" cy="12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Arial"/>
              </a:rPr>
              <a:t>Не заставляйте ребенка заучивать учебник и искать готовые ответы!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7" descr=""/>
          <p:cNvPicPr/>
          <p:nvPr/>
        </p:nvPicPr>
        <p:blipFill>
          <a:blip r:embed="rId2"/>
          <a:stretch/>
        </p:blipFill>
        <p:spPr>
          <a:xfrm>
            <a:off x="287280" y="5867280"/>
            <a:ext cx="584280" cy="5349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"/>
          <p:cNvPicPr/>
          <p:nvPr/>
        </p:nvPicPr>
        <p:blipFill>
          <a:blip r:embed="rId3"/>
          <a:stretch/>
        </p:blipFill>
        <p:spPr>
          <a:xfrm>
            <a:off x="5256360" y="5867280"/>
            <a:ext cx="585720" cy="546120"/>
          </a:xfrm>
          <a:prstGeom prst="rect">
            <a:avLst/>
          </a:prstGeom>
          <a:ln w="0">
            <a:noFill/>
          </a:ln>
        </p:spPr>
      </p:pic>
      <p:sp>
        <p:nvSpPr>
          <p:cNvPr id="54" name="Text Box 9"/>
          <p:cNvSpPr/>
          <p:nvPr/>
        </p:nvSpPr>
        <p:spPr>
          <a:xfrm>
            <a:off x="5977080" y="5940360"/>
            <a:ext cx="4103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Arial"/>
              </a:rPr>
              <a:t>Текст нужно понять и уметь использовать!</a:t>
            </a:r>
            <a:r>
              <a:rPr b="1" lang="ru-RU" sz="31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0"/>
          <p:cNvSpPr/>
          <p:nvPr/>
        </p:nvSpPr>
        <p:spPr>
          <a:xfrm>
            <a:off x="287280" y="1979640"/>
            <a:ext cx="4032360" cy="301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Учител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роверяет Д/з. 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Учени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«выучил – пересказал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Учител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бъявляет новую те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Учитель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ъясняет новую тему («сиди и слушай!»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Учител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роверяет, как поняли «повтори!»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2"/>
          <p:cNvSpPr/>
          <p:nvPr/>
        </p:nvSpPr>
        <p:spPr>
          <a:xfrm>
            <a:off x="5208480" y="1979640"/>
            <a:ext cx="4872240" cy="301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.Ученик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ами вспоминают знания, которые пригодятс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Учител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оздает ситуацию.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 Ученики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зывают тему, вопрос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Ученик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ами открывают новые знания (в диалоге с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учителе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в учебнике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Ученик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делают вывод по тем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3"/>
          <p:cNvSpPr/>
          <p:nvPr/>
        </p:nvSpPr>
        <p:spPr>
          <a:xfrm>
            <a:off x="3887640" y="2195640"/>
            <a:ext cx="1284480" cy="0"/>
          </a:xfrm>
          <a:prstGeom prst="line">
            <a:avLst/>
          </a:prstGeom>
          <a:ln w="76320">
            <a:solidFill>
              <a:srgbClr val="2b03f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4"/>
          <p:cNvSpPr/>
          <p:nvPr/>
        </p:nvSpPr>
        <p:spPr>
          <a:xfrm>
            <a:off x="3887640" y="2987640"/>
            <a:ext cx="1295640" cy="0"/>
          </a:xfrm>
          <a:prstGeom prst="line">
            <a:avLst/>
          </a:prstGeom>
          <a:ln w="76320">
            <a:solidFill>
              <a:srgbClr val="2b03f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5"/>
          <p:cNvSpPr/>
          <p:nvPr/>
        </p:nvSpPr>
        <p:spPr>
          <a:xfrm>
            <a:off x="3887640" y="3780000"/>
            <a:ext cx="1344600" cy="0"/>
          </a:xfrm>
          <a:prstGeom prst="line">
            <a:avLst/>
          </a:prstGeom>
          <a:ln w="76320">
            <a:solidFill>
              <a:srgbClr val="2b03f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6"/>
          <p:cNvSpPr/>
          <p:nvPr/>
        </p:nvSpPr>
        <p:spPr>
          <a:xfrm>
            <a:off x="3816360" y="4788000"/>
            <a:ext cx="1405080" cy="0"/>
          </a:xfrm>
          <a:prstGeom prst="line">
            <a:avLst/>
          </a:prstGeom>
          <a:ln w="76320">
            <a:solidFill>
              <a:srgbClr val="2b03f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079640" y="5229000"/>
            <a:ext cx="756108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еняется и роль родител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431640" y="1258920"/>
            <a:ext cx="268956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Arial"/>
              </a:rPr>
              <a:t>Так учили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5400720" y="1187280"/>
            <a:ext cx="42004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Arial"/>
              </a:rPr>
              <a:t>Так будут учить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792000" y="5219640"/>
            <a:ext cx="4872240" cy="13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Arial"/>
              </a:rPr>
              <a:t>Не требуйте, чтобы ребенок читал и выполнял все, что есть в учебнике!</a:t>
            </a:r>
            <a:r>
              <a:rPr b="1" lang="ru-RU" sz="31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"/>
          <p:cNvPicPr/>
          <p:nvPr/>
        </p:nvPicPr>
        <p:blipFill>
          <a:blip r:embed="rId2"/>
          <a:stretch/>
        </p:blipFill>
        <p:spPr>
          <a:xfrm>
            <a:off x="287280" y="5292720"/>
            <a:ext cx="584280" cy="534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"/>
          <p:cNvPicPr/>
          <p:nvPr/>
        </p:nvPicPr>
        <p:blipFill>
          <a:blip r:embed="rId3"/>
          <a:stretch/>
        </p:blipFill>
        <p:spPr>
          <a:xfrm>
            <a:off x="5688000" y="5435640"/>
            <a:ext cx="585720" cy="546120"/>
          </a:xfrm>
          <a:prstGeom prst="rect">
            <a:avLst/>
          </a:prstGeom>
          <a:ln w="0">
            <a:noFill/>
          </a:ln>
        </p:spPr>
      </p:pic>
      <p:sp>
        <p:nvSpPr>
          <p:cNvPr id="67" name="Text Box 7"/>
          <p:cNvSpPr/>
          <p:nvPr/>
        </p:nvSpPr>
        <p:spPr>
          <a:xfrm>
            <a:off x="6408720" y="5219640"/>
            <a:ext cx="3948120" cy="13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Arial"/>
              </a:rPr>
              <a:t>Нужно учиться выбирать главное и интересное!</a:t>
            </a:r>
            <a:r>
              <a:rPr b="1" lang="ru-RU" sz="31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287280" y="2124000"/>
            <a:ext cx="4535640" cy="168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«Успешный ученик тот – кто читает весь учебник и выполняет все задания – «от корки до корки»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0"/>
          <p:cNvSpPr/>
          <p:nvPr/>
        </p:nvSpPr>
        <p:spPr>
          <a:xfrm>
            <a:off x="4822920" y="2124000"/>
            <a:ext cx="525780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Задания и тексты в учебнике   даны с избытком – для выбор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9"/>
          <p:cNvSpPr/>
          <p:nvPr/>
        </p:nvSpPr>
        <p:spPr>
          <a:xfrm>
            <a:off x="4968720" y="3274920"/>
            <a:ext cx="5376960" cy="12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а контрольных спрашивается только малая часть того, что есть в учебник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152360" y="4642920"/>
            <a:ext cx="756144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оль родител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287280" y="1332000"/>
            <a:ext cx="411660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ак учи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4753080" y="1258920"/>
            <a:ext cx="453528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ак будут уч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719280" y="5364000"/>
            <a:ext cx="4116240" cy="17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Arial"/>
              </a:rPr>
              <a:t>Нельзя останавливать ребенка словами: «Мал еще, взрослые лучше знают!»</a:t>
            </a:r>
            <a:r>
              <a:rPr b="1" lang="ru-RU" sz="31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84240" y="5764320"/>
            <a:ext cx="583920" cy="5349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4968720" y="5796000"/>
            <a:ext cx="584280" cy="546120"/>
          </a:xfrm>
          <a:prstGeom prst="rect">
            <a:avLst/>
          </a:prstGeom>
          <a:ln w="0">
            <a:noFill/>
          </a:ln>
        </p:spPr>
      </p:pic>
      <p:sp>
        <p:nvSpPr>
          <p:cNvPr id="77" name="Text Box 7"/>
          <p:cNvSpPr/>
          <p:nvPr/>
        </p:nvSpPr>
        <p:spPr>
          <a:xfrm>
            <a:off x="5688000" y="5435640"/>
            <a:ext cx="4116240" cy="17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Arial"/>
              </a:rPr>
              <a:t>Поддержите ребенка, если он высказывает и аргументирует свою точку зрения.</a:t>
            </a:r>
            <a:r>
              <a:rPr b="1" lang="ru-RU" sz="31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8"/>
          <p:cNvSpPr/>
          <p:nvPr/>
        </p:nvSpPr>
        <p:spPr>
          <a:xfrm>
            <a:off x="360360" y="2124000"/>
            <a:ext cx="4200480" cy="26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 учебнике всегда есть один правильный ответ!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 учебнике излагается одна «правильная» точка зрения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0"/>
          <p:cNvSpPr/>
          <p:nvPr/>
        </p:nvSpPr>
        <p:spPr>
          <a:xfrm>
            <a:off x="4703760" y="2050920"/>
            <a:ext cx="5376960" cy="268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Часто в учебнике нет готового ответа, его надо создать самим, опираясь на текст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чти на любой творческий вопрос может быть несколько правильных ответов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152360" y="4858920"/>
            <a:ext cx="756144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оль родител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4"/>
          <p:cNvSpPr/>
          <p:nvPr/>
        </p:nvSpPr>
        <p:spPr>
          <a:xfrm>
            <a:off x="719280" y="4859280"/>
            <a:ext cx="4116240" cy="21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Arial"/>
              </a:rPr>
              <a:t>Не надо делать за ребенка домашнее задание и другие дела, которые он может сделать сам.</a:t>
            </a:r>
            <a:r>
              <a:rPr b="1" lang="ru-RU" sz="31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"/>
          <p:cNvPicPr/>
          <p:nvPr/>
        </p:nvPicPr>
        <p:blipFill>
          <a:blip r:embed="rId2"/>
          <a:stretch/>
        </p:blipFill>
        <p:spPr>
          <a:xfrm>
            <a:off x="84240" y="5375160"/>
            <a:ext cx="583920" cy="5367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"/>
          <p:cNvPicPr/>
          <p:nvPr/>
        </p:nvPicPr>
        <p:blipFill>
          <a:blip r:embed="rId3"/>
          <a:stretch/>
        </p:blipFill>
        <p:spPr>
          <a:xfrm>
            <a:off x="5208480" y="5375160"/>
            <a:ext cx="584280" cy="546120"/>
          </a:xfrm>
          <a:prstGeom prst="rect">
            <a:avLst/>
          </a:prstGeom>
          <a:ln w="0">
            <a:noFill/>
          </a:ln>
        </p:spPr>
      </p:pic>
      <p:sp>
        <p:nvSpPr>
          <p:cNvPr id="84" name="Text Box 7"/>
          <p:cNvSpPr/>
          <p:nvPr/>
        </p:nvSpPr>
        <p:spPr>
          <a:xfrm>
            <a:off x="5796000" y="4932360"/>
            <a:ext cx="4284720" cy="13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Arial"/>
              </a:rPr>
              <a:t>Поддержите стремление ребенка быть самостоятельным.</a:t>
            </a:r>
            <a:r>
              <a:rPr b="1" lang="ru-RU" sz="31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216000" y="2266920"/>
            <a:ext cx="4608360" cy="12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«Если не успел что-то сделать на уроке – дома с родителями разберешься»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0"/>
          <p:cNvSpPr/>
          <p:nvPr/>
        </p:nvSpPr>
        <p:spPr>
          <a:xfrm>
            <a:off x="4968720" y="2266920"/>
            <a:ext cx="4535640" cy="12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Домашнее задание – это способ развития самостоятельност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2"/>
          <p:cNvSpPr/>
          <p:nvPr/>
        </p:nvSpPr>
        <p:spPr>
          <a:xfrm>
            <a:off x="287280" y="1332000"/>
            <a:ext cx="411660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ак учи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4753080" y="1258920"/>
            <a:ext cx="453528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ак будут уч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79640" y="3924000"/>
            <a:ext cx="756108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оль родител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"/>
          <p:cNvPicPr/>
          <p:nvPr/>
        </p:nvPicPr>
        <p:blipFill>
          <a:blip r:embed="rId2"/>
          <a:stretch/>
        </p:blipFill>
        <p:spPr>
          <a:xfrm>
            <a:off x="863640" y="1332000"/>
            <a:ext cx="7980480" cy="5330880"/>
          </a:xfrm>
          <a:prstGeom prst="rect">
            <a:avLst/>
          </a:prstGeom>
          <a:ln w="0">
            <a:noFill/>
          </a:ln>
        </p:spPr>
      </p:pic>
      <p:sp>
        <p:nvSpPr>
          <p:cNvPr id="91" name="Text Box 5"/>
          <p:cNvSpPr/>
          <p:nvPr/>
        </p:nvSpPr>
        <p:spPr>
          <a:xfrm>
            <a:off x="504720" y="6904080"/>
            <a:ext cx="201636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7T05:18:47Z</dcterms:created>
  <dc:creator/>
  <dc:description/>
  <dc:language>en-US</dc:language>
  <cp:lastModifiedBy>3_8_2</cp:lastModifiedBy>
  <dcterms:modified xsi:type="dcterms:W3CDTF">2011-04-11T11:16:38Z</dcterms:modified>
  <cp:revision>15</cp:revision>
  <dc:subject/>
  <dc:title>Слайд 1</dc:title>
</cp:coreProperties>
</file>