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7DC8-2EED-470C-BD8A-D4DB8569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963F-714A-4968-87C2-6614188D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5AAA-1109-4C86-93D9-AB0F94F9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2608-E43E-4B5A-844E-4EE8BA01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92CA-A2D9-453D-BC6F-11FE3DC4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D2EA-57C9-453D-9FF6-651DFD83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AEAE-03E1-42EF-950A-40640A57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E099-55D4-4A7B-9D6D-C04EC65B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E149-B4A0-438C-8F18-FEB727D1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7AD9-0787-46F5-AEA9-A4D8EFE6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4D02-F44F-44A2-A904-B0A82649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AED4-E980-499D-BFF9-D41E07F6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32B22-5D12-4CC5-93F5-427BA7E147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76360" y="226440"/>
            <a:ext cx="6767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важаемые родител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84720" y="1188720"/>
            <a:ext cx="4321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ccccff"/>
                </a:solidFill>
                <a:latin typeface="Arial"/>
              </a:rPr>
              <a:t>С 1 сентября 2011 года все образовательные учреждения России переходят на новый Федеральный государственный образовательный стандарт начального общего образования (ФГОС НОО)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02920" y="1332000"/>
            <a:ext cx="906948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личительной особенностью начала обучения является то, ч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ряду с традиционным письм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енок сразу начинает осваивать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лавиатурный набор тек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нтексте изучения всех предметов будут использоваться различные источники информации, в том числе, в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н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1258560"/>
            <a:ext cx="90694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Что такое обучение деятельность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7280" y="2123640"/>
            <a:ext cx="9506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-ом классе реализуется цикл проектов, участвуя в которых,  дети знакомятся друг с другом, обмениваются информацией о себе, о школе, о своих интересах и увлечен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, например, проек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Я и мое имя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оя семья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местное издание Азбуки и многое друг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6920" y="1332000"/>
            <a:ext cx="906948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Что такое интегрированный подход к обучен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2411280"/>
            <a:ext cx="9069480" cy="434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грированный подход к обучению предполагает активное использование знаний, полученных при изучении одного предмета, на уроках по другим предметам. Например, на уроке русского языка идет работа над текстами-описаниями, эта же работа продолжается на уроке окружающего мира, например, в связи с изучением времен года. Результатом этой деятельности становится проект, например, видеорепортаж, описывающий картины природы, природные явления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6360" y="1186920"/>
            <a:ext cx="906912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Что такое внеурочная деятельность, каковы ее особенности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2339640"/>
            <a:ext cx="936144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биться требуемых образовательных  результатов только на уроке нельзя. Поэтому очень важно, чтобы ребенок посещал специальные занятия во второй половине дня (внеурочную деятельность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 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о внеурочную деятельность могут входить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ение домашних заданий (начиная со второго полугодия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дивидуальные занятия учителя с детьми, требующими психолого-педагогической  и коррекционной поддержки (в том числе – индивидуальные занятия по постановке устной речи, почерка и письменной речи и т.д.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кскурсии, кружки, секции, олимпиады, соревнован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исковые исследования и выполнение проек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76360" y="1485360"/>
            <a:ext cx="8928000" cy="34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лавная цель введ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едеральных Государственных образовательных стандартов начального общего образования (ФГОС НОО)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вышение качества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13316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Что такое 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Федеральный государственный стандарт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начального общего образо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2843280"/>
            <a:ext cx="906948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- совокупность требований, которые обязательно должна выполнить каждая школа, организуя процесс обучения и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1280" y="1186920"/>
            <a:ext cx="906948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Что является отличительной особенностью нового Стандар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6360" y="2195280"/>
            <a:ext cx="906912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ндарты  первого поколения               Стандарты второго поко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ть, давать знания                                 Развивать ум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ю школы становятся не только знания, но и  ум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авить цель и добиваться е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стоятельно добывать и применять зн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ставлять план своих действий и самостоятельно оценивать их последств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давать вопрос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сно выражать свои мысл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ботиться о других, быть нравственным челове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хранять и укреплять своё здоровь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онном обществе главными стали не знания, а умения ими пользоватьс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1640" y="4140360"/>
            <a:ext cx="9288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0" y="1332000"/>
            <a:ext cx="42721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ак учили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5327640" y="1258920"/>
            <a:ext cx="42004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ак будут учи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863640" y="5796000"/>
            <a:ext cx="417672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е заставляйте ребенка заучивать учебник и искать готовые ответы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287280" y="5867280"/>
            <a:ext cx="584280" cy="534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5256360" y="5867280"/>
            <a:ext cx="585720" cy="546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5977080" y="5940360"/>
            <a:ext cx="4103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Текст нужно понять и уметь использовать!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287280" y="1979640"/>
            <a:ext cx="4032360" cy="30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веряет Д/з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чени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выучил – пересказал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ъявляет новую 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сняет новую тему («сиди и слушай!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веряет, как поняли «повтори!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5208480" y="1979640"/>
            <a:ext cx="4872240" cy="30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.Уче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ами вспоминают знания, которые пригодя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здает ситуацию.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Ученик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 тему, вопро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че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ами открывают новые знания (в диалоге с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учебник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че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елают вывод по те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3"/>
          <p:cNvSpPr/>
          <p:nvPr/>
        </p:nvSpPr>
        <p:spPr>
          <a:xfrm>
            <a:off x="3887640" y="2195640"/>
            <a:ext cx="128448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3887640" y="2987640"/>
            <a:ext cx="129564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3887640" y="3780000"/>
            <a:ext cx="134460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3816360" y="4788000"/>
            <a:ext cx="140508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79640" y="5229000"/>
            <a:ext cx="75610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няется и роль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431640" y="1258920"/>
            <a:ext cx="268956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ак учили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5400720" y="1187280"/>
            <a:ext cx="42004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ак будут учи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92000" y="5219640"/>
            <a:ext cx="487224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е требуйте, чтобы ребенок читал и выполнял все, что есть в учебнике!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287280" y="5292720"/>
            <a:ext cx="584280" cy="534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5688000" y="5435640"/>
            <a:ext cx="585720" cy="546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6408720" y="5219640"/>
            <a:ext cx="394812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ужно учиться выбирать главное и интересное!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87280" y="2124000"/>
            <a:ext cx="4535640" cy="16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Успешный ученик тот – кто читает весь учебник и выполняет все задания – «от корки до корк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822920" y="2124000"/>
            <a:ext cx="52578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дания и тексты в учебнике   даны с избытком – для выбо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4968720" y="3274920"/>
            <a:ext cx="53769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контрольных спрашивается только малая часть того, что есть в учебни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52360" y="4642920"/>
            <a:ext cx="75614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ь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87280" y="1332000"/>
            <a:ext cx="41166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уч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753080" y="1258920"/>
            <a:ext cx="45352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будут 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719280" y="5364000"/>
            <a:ext cx="4116240" cy="17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ельзя останавливать ребенка словами: «Мал еще, взрослые лучше знают!»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84240" y="5764320"/>
            <a:ext cx="583920" cy="534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4968720" y="5796000"/>
            <a:ext cx="584280" cy="546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5688000" y="5435640"/>
            <a:ext cx="4116240" cy="17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Поддержите ребенка, если он высказывает и аргументирует свою точку зрения.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360360" y="2124000"/>
            <a:ext cx="420048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учебнике всегда есть один правильный ответ!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учебнике излагается одна «правильная» точка зр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4703760" y="2050920"/>
            <a:ext cx="537696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о в учебнике нет готового ответа, его надо создать самим, опираясь на текс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чти на любой творческий вопрос может быть несколько правильных отве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52360" y="4858920"/>
            <a:ext cx="75614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ь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719280" y="4859280"/>
            <a:ext cx="411624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е надо делать за ребенка домашнее задание и другие дела, которые он может сделать сам.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84240" y="5375160"/>
            <a:ext cx="583920" cy="536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5208480" y="5375160"/>
            <a:ext cx="584280" cy="5461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5796000" y="4932360"/>
            <a:ext cx="428472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Поддержите стремление ребенка быть самостоятельным.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16000" y="2266920"/>
            <a:ext cx="46083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Если не успел что-то сделать на уроке – дома с родителями разберешься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4968720" y="2266920"/>
            <a:ext cx="453564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машнее задание – это способ развития самостоятель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287280" y="1332000"/>
            <a:ext cx="41166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уч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753080" y="1258920"/>
            <a:ext cx="45352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будут 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79640" y="3924000"/>
            <a:ext cx="75610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ь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863640" y="1332000"/>
            <a:ext cx="7980480" cy="53308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504720" y="6904080"/>
            <a:ext cx="201636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5:18:47Z</dcterms:created>
  <dc:creator/>
  <dc:description/>
  <dc:language>en-US</dc:language>
  <cp:lastModifiedBy>3_8_2</cp:lastModifiedBy>
  <dcterms:modified xsi:type="dcterms:W3CDTF">2011-04-11T11:16:38Z</dcterms:modified>
  <cp:revision>15</cp:revision>
  <dc:subject/>
  <dc:title>Слайд 1</dc:title>
</cp:coreProperties>
</file>