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-11798280" y="-11796840"/>
            <a:ext cx="11790360" cy="124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-11798280" y="-11796840"/>
            <a:ext cx="11793600" cy="1248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-11798280" y="-11796840"/>
            <a:ext cx="11796840" cy="124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FA40-4D01-48C8-B0EA-ED70D1F0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F200-0E80-4D62-B2F2-0EBD2FF1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7444-6A78-4B14-8D5C-DAAAC4AD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46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236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46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236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C91C-F00C-473B-B12B-EB3B6480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D94D-1A99-476F-B19F-B6599A75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EED0-626E-4A86-9A3B-4FD08BBC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9FF8-92FE-42B2-8CD8-B02F0925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39AD-B9AB-47F6-848D-D4BF1EC4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C85F-40C8-4624-B45A-601286BA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832C-8DC1-43AE-A2C2-9D7DEBBE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66FE-B57F-4688-B1B7-56DC1657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0565-2B4F-4F72-937A-2F28C4F4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018-5C7A-4690-BF3F-8D3EFABB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DC8A-B9E0-4B84-A21E-2351C84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FC0B-8A58-419E-ACAD-1B31416C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D6B8-A62B-41F8-85D6-A34E99E5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46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236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46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236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B278-1D32-42E5-B202-2D1FC57C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F49A-1D4D-43F9-A2A5-87EFE111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3541-5DAA-4AEF-A52C-515BE08A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B05E-067E-45E8-A935-E8A0AC0A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7606-F071-4991-9278-4E043808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5CC8-78F4-4133-884D-703ED2C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BFF7-3337-4249-9119-419D84C4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839F-122E-43AB-9FD5-4318F671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1457-14D3-453A-82EC-BA079216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7F23-05A3-4996-99A2-72F7AD6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2C140-7EAB-4471-BF6E-48890F2F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E56C-2738-4EA4-BC5E-0DE728EE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25BC-0DB5-43C7-A0C8-9405572D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46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1236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46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1236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8DFC-E371-4AB6-958C-6AF090EC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AC85D-616D-4CC8-9E41-A4B36625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D9D7-4B53-4235-9A86-CEAA1787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9F887-E7C7-4C18-992D-A1CA7972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D7DE6-05CE-4714-94D6-536C31A7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5A733-F8CB-4EDD-9C4C-CA5E4786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FD43-CFF2-4DBF-A264-E60578E1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46370-F7F3-4E18-A06B-656B214A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631A-BE7C-4493-A87F-CEF04C3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4295-E7AF-46A5-901D-C4682376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CD580-FB3F-4929-ABC4-10E482A1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28A9-1B99-4C2E-9A5E-549D0216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4309E-7FC2-4025-8A73-60A58472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460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12360" y="159984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460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12360" y="3940920"/>
            <a:ext cx="264492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79EA-FC65-4D74-AE29-8A89E581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5449-EA2F-44D2-BDD4-21CDBD32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15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11BE-D9AB-4778-9883-21D5BEC9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1A8A-DCBF-4057-87E2-C4D8DAB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040" y="394092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3826-8D96-4AEB-8E2A-40377971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599840"/>
            <a:ext cx="400896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0920"/>
            <a:ext cx="8215200" cy="21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0B3F-7456-4874-A0A1-CA03B043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960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3D172-FC29-4B85-AB6C-2877FBB1F7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d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580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9600"/>
            <a:ext cx="28814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284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E6EED7-E25F-42D3-B195-5F0922B2CD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15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15200" cy="44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956310F-FE78-4BD8-A101-EB045F8EE7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81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193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8BD7165-9B92-4EAB-BB1E-29E6ED69391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85800" y="1766520"/>
            <a:ext cx="77580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4bd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725480"/>
            <a:ext cx="777240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40000" y="4679640"/>
            <a:ext cx="63324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79280" y="1778040"/>
            <a:ext cx="8748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2300dc"/>
                </a:solidFill>
                <a:latin typeface="Garamond"/>
              </a:rPr>
              <a:t>Игровые технологии-</a:t>
            </a:r>
            <a:r>
              <a:rPr b="1" lang="ru-RU" sz="4400" spc="-1" strike="noStrike">
                <a:solidFill>
                  <a:srgbClr val="2300dc"/>
                </a:solidFill>
                <a:latin typeface="Garamond"/>
              </a:rPr>
              <a:t>средство развития мыслительной деятельности и познавательной активности</a:t>
            </a: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2300dc"/>
                </a:solidFill>
                <a:latin typeface="Garamond"/>
              </a:rPr>
              <a:t>обучающих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00360" y="4319640"/>
            <a:ext cx="684036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4a4a"/>
                </a:solidFill>
                <a:latin typeface="Arial"/>
              </a:rPr>
              <a:t>Выполнила</a:t>
            </a:r>
            <a:r>
              <a:rPr b="0" i="1" lang="ru-RU" sz="3600" spc="-1" strike="noStrike">
                <a:solidFill>
                  <a:srgbClr val="004a4a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4a4a"/>
                </a:solidFill>
                <a:latin typeface="Arial"/>
              </a:rPr>
              <a:t>Ясинская Валенти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4a4a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4a4a"/>
                </a:solidFill>
                <a:latin typeface="Arial"/>
              </a:rPr>
              <a:t>Учитель математики </a:t>
            </a:r>
            <a:r>
              <a:rPr b="1" lang="ru-RU" sz="2000" spc="-1" strike="noStrike">
                <a:solidFill>
                  <a:srgbClr val="004a4a"/>
                </a:solidFill>
                <a:latin typeface="HelveticaNeue"/>
                <a:ea typeface="HelveticaNeue"/>
              </a:rPr>
              <a:t>“Центр дистанционного обучения детей – инвалидов” в Республике Ко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4a4a"/>
                </a:solidFill>
                <a:latin typeface="HelveticaNeue"/>
                <a:ea typeface="HelveticaNeue"/>
              </a:rPr>
              <a:t>2013 год      г. Сыктывка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60360" y="179280"/>
            <a:ext cx="8459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300dc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2300dc"/>
                </a:solidFill>
                <a:latin typeface="Garamond"/>
              </a:rPr>
              <a:t>ЦЕЛЕВЫЕ ОРИЕНТАЦИИ ПЕДАГОГИЧЕСКИХ ИГ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900000"/>
            <a:ext cx="864072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Garamond"/>
              </a:rPr>
              <a:t>Дидактические</a:t>
            </a:r>
            <a:r>
              <a:rPr b="0" lang="ru-RU" sz="2400" spc="-1" strike="noStrike">
                <a:solidFill>
                  <a:srgbClr val="c5000b"/>
                </a:solidFill>
                <a:latin typeface="Garamond"/>
              </a:rPr>
              <a:t>: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расширение кругозора, познавательная деятельность,  формирование определенных умений, навыков, необходимых в практической деятельности; развитие общеучебных умений и навыков; развитие трудовых нав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Garamond"/>
              </a:rPr>
              <a:t>Воспитывающие: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воспитание самостоятельности, формирование определенных  подходов, позиций, нравственных, эстетических и мировоззренческих установок; воспитание сотрудничества, коллективизма, общительности, коммуникатив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Garamond"/>
              </a:rPr>
              <a:t>Развивающие: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развитие внимания, памяти, речи, мышления, умений сравнивать, сопоставлять, находить аналогии, воображения, фантазии, творческих способностей, эмпатии, рефлексии, умений находить </a:t>
            </a:r>
            <a:r>
              <a:rPr b="1" lang="ru-RU" sz="2400" spc="-1" strike="noStrike">
                <a:solidFill>
                  <a:srgbClr val="800000"/>
                </a:solidFill>
                <a:latin typeface="Garamond"/>
              </a:rPr>
              <a:t>оптимальные решения, развитие мотивации учеб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5000b"/>
                </a:solidFill>
                <a:latin typeface="Garamond"/>
              </a:rPr>
              <a:t>Социализирующие</a:t>
            </a:r>
            <a:r>
              <a:rPr b="0" lang="ru-RU" sz="2400" spc="-1" strike="noStrike">
                <a:solidFill>
                  <a:srgbClr val="c5000b"/>
                </a:solidFill>
                <a:latin typeface="Garamond"/>
              </a:rPr>
              <a:t>: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приобщение к нормам и ценностям общества; адаптация к условиям среды; стрессовый  контроль, саморегуляция; обучение общению, психотерап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23840"/>
            <a:ext cx="822024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7020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800360" y="179280"/>
            <a:ext cx="504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00dc"/>
                </a:solidFill>
                <a:latin typeface="Garamond"/>
              </a:rPr>
              <a:t>Игровая технолог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0360" y="1260360"/>
            <a:ext cx="8459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aramond"/>
              </a:rPr>
              <a:t>Технология игровой деятельности (игровая технология)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 - представляет собой определенную последовательность действий, операций специалиста (педагога, психолога, игротехника и т.д.) по отбору материала, разработке и подготовке игры, включению детей в игровую деятельность, осуществлению самой игры, подведению ее итогов и содержательных результатов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0773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24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1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60360" y="0"/>
            <a:ext cx="8280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300dc"/>
                </a:solidFill>
                <a:latin typeface="Garamond"/>
              </a:rPr>
              <a:t>Особенности игровых технологи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1260360"/>
            <a:ext cx="80996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Все следующие за дошкольным возрастные периоды со своими ведущими видами деятельности (младший школьный возраст - учебная деятельность, средний - общественно полезная, старший школьный возраст - учебно-профессиональная деятельность) не вытесняют игру, а продолжают включать ее в проце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-179280"/>
            <a:ext cx="9180360" cy="7037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9640" y="-84240"/>
            <a:ext cx="7740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00dc"/>
                </a:solidFill>
                <a:latin typeface="Garamond"/>
              </a:rPr>
              <a:t>Игровые технологии </a:t>
            </a:r>
            <a:br>
              <a:rPr sz="3200"/>
            </a:br>
            <a:r>
              <a:rPr b="1" i="1" lang="ru-RU" sz="3200" spc="-1" strike="noStrike">
                <a:solidFill>
                  <a:srgbClr val="2300dc"/>
                </a:solidFill>
                <a:latin typeface="Garamond"/>
              </a:rPr>
              <a:t>в дошкольном пери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0360" y="1079640"/>
            <a:ext cx="828036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Программа игровой деятельности состоит из набора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развивающих игр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: набор задач, которые ребенок решает с помощью кубиков, кирпичиков, квадратов из картона или пластика, деталей из конструктора-механика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В</a:t>
            </a:r>
            <a:r>
              <a:rPr b="1" lang="ru-RU" sz="28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развивающих играх удалось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объединить 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один из основных принципов обучения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от простого к сложному 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с очень важным принципом творческой деятельности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самостоятельно по способност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8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39640" y="82440"/>
            <a:ext cx="7740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2300dc"/>
                </a:solidFill>
                <a:latin typeface="Garamond"/>
              </a:rPr>
              <a:t>Игровые технологии </a:t>
            </a:r>
            <a:br>
              <a:rPr sz="3200"/>
            </a:br>
            <a:r>
              <a:rPr b="1" i="1" lang="ru-RU" sz="3200" spc="-1" strike="noStrike">
                <a:solidFill>
                  <a:srgbClr val="2300dc"/>
                </a:solidFill>
                <a:latin typeface="Garamond"/>
              </a:rPr>
              <a:t>в младшем школьном возрасте.</a:t>
            </a:r>
            <a:br>
              <a:rPr sz="32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" y="1260360"/>
            <a:ext cx="84596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Для младшего школьного возраста характерны яркость и непосредственность восприятия, легкость вхождения в образы. Дети легко вовлекаются в любую деятельность, особенно в игровую, самостоятельно организуются в групповую игру, продолжают игры с предметами, игрушками, появляются неимитационные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Основу деятельности составляет игровое моделирование, часть деятельности учащихся происходит в условно-игровом пл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Ребята действуют по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игровым правилам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. Итоги игры выступают в </a:t>
            </a:r>
            <a:r>
              <a:rPr b="1" i="1" lang="ru-RU" sz="2800" spc="-1" strike="noStrike">
                <a:solidFill>
                  <a:srgbClr val="800000"/>
                </a:solidFill>
                <a:latin typeface="Garamond"/>
              </a:rPr>
              <a:t>двойном плане </a:t>
            </a:r>
            <a:r>
              <a:rPr b="0" i="1" lang="ru-RU" sz="2800" spc="-1" strike="noStrike">
                <a:solidFill>
                  <a:srgbClr val="800000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как игровой и как учебно-познавательный результа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39640" y="50760"/>
            <a:ext cx="809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2300dc"/>
                </a:solidFill>
                <a:latin typeface="Garamond"/>
              </a:rPr>
              <a:t>Игровые технологии в среднем и старшем школьном возраст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0360" y="1260360"/>
            <a:ext cx="8280360" cy="60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В подростковом возрасте наблюдается обострение потребности в создании своего собственного мира, в стремлении к взрослости, бурное развитие воображения, фантазии, появление стихийных групповых иг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Особенностями игровой технологии для старшеклассников  является нацеленность на самоутверждение перед обществом, юмористическая окраска, стремление к розыгрышу, групповой характер игр, ориентация на речевую деятельность, а также вовлечение в игру посторонних лиц в качестве зрителей, экспер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79280" y="0"/>
            <a:ext cx="8804520" cy="69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ff420e"/>
                </a:solidFill>
                <a:latin typeface="Times New Roman"/>
              </a:rPr>
              <a:t>Как повысить эффективность урока? Какими способами вызвать интерес у детей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Установка на игру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 обычно создается в увлекательной форме, иногда с использованием слайдов, рисунков, кинофрагментов. Например: 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</a:rPr>
              <a:t>«Давайте представим себе, что..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Игровая ситуация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может разыгрываться в вымышленном пространстве  (сказочный лес, акватория океана и т.д.), очерченном географической картой, историческим временем, поставленной проблемой. В игровой ситуации участвует определенное количество учеников (группа, класс), которые выполняют определенные действ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Следующим структурным элементом игры являются </a:t>
            </a: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игровые задачи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, которые соединяются с</a:t>
            </a: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 учебными задачами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, выступающими в замаскированном, неявном виде. Благодаря учебным задачам осуществляется непреднамеренное обучение школьников (Реши кроссворд, найди ошибку…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60360" y="179280"/>
            <a:ext cx="845964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Правила игры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 должны соответствовать «профессиональной деятельности» участника игры и быть направлены на выполнение действий в определенной последовательно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Игровые правила реализуются в </a:t>
            </a:r>
            <a:r>
              <a:rPr b="0" lang="ru-RU" sz="2200" spc="-1" strike="noStrike">
                <a:solidFill>
                  <a:srgbClr val="c5000b"/>
                </a:solidFill>
                <a:latin typeface="Arial"/>
              </a:rPr>
              <a:t>игровых действиях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.  Выделяют внешние действия (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</a:rPr>
              <a:t>слушать, чертить схему, решать задачу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) и умственные (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</a:rPr>
              <a:t>сравнивать, анализировать, классифицировать, обобщать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). Чем разнообразнее действия, тем интереснее игра. Но, если не сформированы определенные умения, лучше не проводить игр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Во время игры у ребенка возникает определенное </a:t>
            </a:r>
            <a:r>
              <a:rPr b="0" i="1" lang="ru-RU" sz="2200" spc="-1" strike="noStrike">
                <a:solidFill>
                  <a:srgbClr val="c5000b"/>
                </a:solidFill>
                <a:latin typeface="Arial"/>
              </a:rPr>
              <a:t>игровое состояние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– важный элемент игры, которое включает наличие переживания, активизацию воображения участников, эмоциональное отношение к действительности, поддерживается проблемностью ситуации, элементами соревновательности и занимательности, используемыми аксессуарами, присутствием юмора и элементов дискуссии, свободной творческой атмосферой, ситуацией выбо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8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60360" y="179280"/>
            <a:ext cx="8459640" cy="71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аким образом, можно говорить о том, что игровые технологии представляют собой ступени от игры-забавы к  игре-увлечению познанием. И высшей ступенью является – от игры к творчеству, к научной логике, к опережению школьных програм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Результат как обязательный структурный элемент игры проявляется в том, что игра - это эффективное средство воспитания познавательных интересов и активизации   деятельности учащихс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- тренировка памяти, помогающая учащимся выработать речевые умения и навык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- стимулирует умственную деятельность учащихся, развивает внимание и познавательный интерес к предмету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- способствует преодолению пассивности ученико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- способствует усилению работоспособности учащих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81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62040" y="466560"/>
            <a:ext cx="7797600" cy="68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пользование игровых технологий способству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повышению интереса, активизации и развитию мыш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 использованию знаний в новой ситу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несет здоровьесберегающий фактор в развитии и обуч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идет передача опыта старших поколений младши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является естественной формой труда ребенка, приготовлением к будущей жизн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- способствует объединению коллектива и формированию ответств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25272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Теории игр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60360" y="179280"/>
            <a:ext cx="864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Times New Roman"/>
              </a:rPr>
              <a:t>Игра - одно из замечательных явлений жизни, деятельность, как будто бесполезная и вместе с тем необходимая. Невольно чаруя и привлекая к себе как жизненное явление, игра оказалась весьма серьезной и трудной проблемой для научной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e0021"/>
                </a:solidFill>
                <a:latin typeface="Times New Roman"/>
              </a:rPr>
              <a:t>По определению,</a:t>
            </a:r>
            <a:r>
              <a:rPr b="1" lang="ru-RU" sz="2400" spc="-1" strike="noStrike">
                <a:solidFill>
                  <a:srgbClr val="7e0021"/>
                </a:solidFill>
                <a:latin typeface="Times New Roman"/>
              </a:rPr>
              <a:t>  игра - </a:t>
            </a:r>
            <a:r>
              <a:rPr b="1" i="1" lang="ru-RU" sz="2400" spc="-1" strike="noStrike">
                <a:solidFill>
                  <a:srgbClr val="7e0021"/>
                </a:solidFill>
                <a:latin typeface="Times New Roman"/>
              </a:rPr>
              <a:t>это вид деятельности в условиях ситуаций, направленных на воссоздание и усвоение общественного опыта, в котором складывается и совершенствуется самоуправление повед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e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e0021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7e0021"/>
                </a:solidFill>
                <a:latin typeface="Times New Roman"/>
              </a:rPr>
              <a:t>Игра  позволяет эффективно формировать личность,   воспитывать нравственные качества, развивать творческие задат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e0021"/>
                </a:solidFill>
                <a:latin typeface="Times New Roman"/>
                <a:ea typeface="Times New Roman"/>
              </a:rPr>
              <a:t>Игра наряду с трудом и ученьем - один из основных видов деятельности человека, удивительный феномен нашего существ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179280"/>
            <a:ext cx="8640720" cy="66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aramond"/>
              </a:rPr>
              <a:t>Заклю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Garamond"/>
              </a:rPr>
              <a:t>Игра</a:t>
            </a: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 - школа профессиональной и семейной жизни, школа человеческих отношений. Но от обычной школы она отличается тем, что человек, обучаясь в ходе игры, и не подозревает о том, что чему-то учится. В обычной школе нетрудно указать источник знаний. Это - учитель - лицо обучающее. Процесс обучения может вестись в форме монолога (учитель объясняет, ученик слушает) и в форме диалога (либо ученик задает вопрос учителю, если он чего-то не понял и в состоянии свое понимание зафиксировать, либо учитель опрашивает учеников с целью контроля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Garamond"/>
              </a:rPr>
              <a:t>В игре нет легко опознаваемого источника знаний, нет обучаемого лица. Процесс обучения развивается на языке действий, учатся и учат все участники игры в результате активных контактов друг с другом. Игровое обучение ненавязчиво. Игра большей частью добровольна и желан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179280" y="1523880"/>
            <a:ext cx="8355240" cy="2976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я наша жизнь – игр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9840"/>
            <a:ext cx="82281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260360" y="1800360"/>
            <a:ext cx="665964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развлекательн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коммуникативн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самореализаци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игротерапевтическ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диагностическ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коррекци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социализаци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"/>
          <p:cNvSpPr/>
          <p:nvPr/>
        </p:nvSpPr>
        <p:spPr>
          <a:xfrm>
            <a:off x="326880" y="272880"/>
            <a:ext cx="8312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300dc"/>
                </a:solidFill>
                <a:latin typeface="Garamond"/>
              </a:rPr>
              <a:t>Функции игровой деятельност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916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3520" y="1935000"/>
            <a:ext cx="8062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60360" y="2160720"/>
            <a:ext cx="8332920" cy="36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Свободная развивающая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деятель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Творческий, импровизированный, активный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 </a:t>
            </a: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харак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Эмоциональная приподнятость, состязатель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- Наличие правил.</a:t>
            </a: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3720" y="179280"/>
            <a:ext cx="83962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00dc"/>
                </a:solidFill>
                <a:latin typeface="Garamond"/>
              </a:rPr>
              <a:t>Главные черты  большинства игр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60360" y="360360"/>
            <a:ext cx="845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гру как метод обучения, передачи опыта старших поколений младшим, люди использовали с древности.  Широкое применение игра находит в народной педагогике, в дошкольных и внешкольных учреждениях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Учебная игра как технология обучения давно интересует ученых и практ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ак педагогическая технология игра интересна тем, что создает эмоциональный подъем, а мотивы игровой деятельности ориентированы на процесс постижения смысла эт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17000"/>
            <a:ext cx="82263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60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60360" y="360360"/>
            <a:ext cx="84596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1792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300dc"/>
                </a:solidFill>
                <a:latin typeface="Garamond"/>
              </a:rPr>
              <a:t>«Игровые педагогические технологии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" y="1979640"/>
            <a:ext cx="86882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Garamond"/>
              </a:rPr>
              <a:t>В отличие от игр </a:t>
            </a:r>
            <a:r>
              <a:rPr b="1" lang="ru-RU" sz="3200" spc="-1" strike="noStrike">
                <a:solidFill>
                  <a:srgbClr val="800000"/>
                </a:solidFill>
                <a:latin typeface="Garamond"/>
              </a:rPr>
              <a:t>вообще </a:t>
            </a:r>
            <a:r>
              <a:rPr b="1" i="1" lang="ru-RU" sz="3200" spc="-1" strike="noStrike">
                <a:solidFill>
                  <a:srgbClr val="800000"/>
                </a:solidFill>
                <a:latin typeface="Garamond"/>
              </a:rPr>
              <a:t>педагогическая игра обладает существенным признаком - четко поставленной целью обучения и соответствующим ей педагогическим результатом, которые могут быть обоснованы, выделены в явном виде и характеризуются учебно-познавательной направленност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916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60360" y="360360"/>
            <a:ext cx="8459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Игровая форма занятий создается на уроках при помощи игровых приемов и ситуаций, которые выступают как средство побуждения, стимулирования учащихся к учеб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Реализация игровых приемов и ситуаций при урочной форме занятий происходит по таким основным направлениям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-  дидактическая цель ставится перед учащимися в форме игровой задач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- учебная деятельность подчиняется правилам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- учебный материал используется в качестве ее средства, в учебную деятельность вводится элемент соревнования, который переводит дидактическую задачу в игрову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Garamond"/>
              </a:rPr>
              <a:t>- успешное выполнение дидактического задания связывается с игровым результатом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17000"/>
            <a:ext cx="822636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70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</cp:lastModifiedBy>
  <dcterms:modified xsi:type="dcterms:W3CDTF">2010-09-14T06:21:2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