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48D4-E76C-4BA9-B122-C0CF373D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B09E-45F8-40FE-88E7-24E301B4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2726-2AF3-43A1-829D-5D9DB0B1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46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236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46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236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3361-F024-4E4F-8B25-43A2DFFC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DD72-EBD2-427D-B29C-70A81485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04AF-540B-46A3-A5E0-C601E7CC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3380-BFCC-44D1-8AF3-3923707B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23D6-0019-4C7E-9874-5A6FC645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432A-F984-4F15-A4A4-90B665BE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52A8-59E3-430F-9944-F1AA199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8F8C-EDCD-41BE-B78F-BC93095A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1AEC-2F47-45DA-878C-2DE055CA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FDB6-DE8A-4079-9879-C8E51490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FF25-174B-45FA-8F72-AC3F165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D5C8-2442-4700-9432-6D1FB12D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26A7-C939-4EFD-B086-A580932C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46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236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46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236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A8A6-3703-4522-A791-A32B593F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1514-CBC9-4237-B3B7-AE669C50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62A9-7008-4B42-8D35-C4B475E7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9576-F48F-4E73-9700-D6A352E2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D43B-B6A8-4625-9265-5D0E3A26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57E2-02C9-459A-863E-936F7301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E546-5920-4B26-B6BB-548671DF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5750-FD5F-46BF-9D36-D2778453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49F96-A5D6-4425-99F5-5EF54127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7B61-21C2-4673-8867-EA35526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BCCE-1CA8-4D1D-B7E3-0519AA35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10AA-6BC5-4701-A6E7-CF668643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1272-57C1-427B-A57F-4EF690F6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46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1236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46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1236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CCAC-B07F-4B65-B9F4-28FFF7E7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FE88-3ADE-401C-9643-7BE12AB3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BABC0-BE92-40C0-8F71-FD263CE6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257D-44CD-492F-9D5D-231AD471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C002-A366-46C1-B815-E8124E74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362E-CC4F-41CA-BF23-6194618F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AA444-BBDF-43B2-AA30-04C376EB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BAE0-6CE0-49FB-8437-C4315B4C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F854-B4BE-475B-9E9C-8D760AC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0BDC0-C752-4812-9EDF-41B25E32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F1F9-0C05-4A4D-A2DB-AC6611F0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3418F-40F6-4C2F-89C0-7C4FD40C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FE82-1848-4E03-8047-62F97D2D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46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236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46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236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0E088-8A28-47C1-9E0F-94E2C14C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10C2-896C-43CA-9594-AE655675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60A1-EDC2-4873-AA37-73D500CB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FED3-F9EC-4EC4-A3EE-90997761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9C59-4FAC-4C91-BE80-F35C0D5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096E-37D0-4FBE-B985-21C7DD8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960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03E13-68D7-4635-AF15-7806270CA6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d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580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960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284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157EE7-212E-43E8-9E55-75665E7BE3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317B9A-73BB-489D-9BBB-29B32A0423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87D9D0-783A-4744-A86A-3575ECAA204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580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d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72548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40000" y="4679640"/>
            <a:ext cx="63324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9280" y="1778040"/>
            <a:ext cx="8748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300dc"/>
                </a:solidFill>
                <a:latin typeface="Garamond"/>
              </a:rPr>
              <a:t>Игровые технологии-</a:t>
            </a:r>
            <a:r>
              <a:rPr b="1" lang="ru-RU" sz="4400" spc="-1" strike="noStrike">
                <a:solidFill>
                  <a:srgbClr val="2300dc"/>
                </a:solidFill>
                <a:latin typeface="Garamond"/>
              </a:rPr>
              <a:t>средство развития мыслительной деятельности и познавательной активности</a:t>
            </a: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2300dc"/>
                </a:solidFill>
                <a:latin typeface="Garamond"/>
              </a:rPr>
              <a:t>обучающих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0360" y="4319640"/>
            <a:ext cx="684036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4a4a"/>
                </a:solidFill>
                <a:latin typeface="Arial"/>
              </a:rPr>
              <a:t>Выполнила</a:t>
            </a:r>
            <a:r>
              <a:rPr b="0" i="1" lang="ru-RU" sz="3600" spc="-1" strike="noStrike">
                <a:solidFill>
                  <a:srgbClr val="004a4a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a4a"/>
                </a:solidFill>
                <a:latin typeface="Arial"/>
              </a:rPr>
              <a:t>Ясинская Валенти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4a4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4a4a"/>
                </a:solidFill>
                <a:latin typeface="Arial"/>
              </a:rPr>
              <a:t>Учитель математики </a:t>
            </a:r>
            <a:r>
              <a:rPr b="1" lang="ru-RU" sz="2000" spc="-1" strike="noStrike">
                <a:solidFill>
                  <a:srgbClr val="004a4a"/>
                </a:solidFill>
                <a:latin typeface="HelveticaNeue"/>
                <a:ea typeface="HelveticaNeue"/>
              </a:rPr>
              <a:t>“Центр дистанционного обучения детей – инвалидов” в Республике Ко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4a4a"/>
                </a:solidFill>
                <a:latin typeface="HelveticaNeue"/>
                <a:ea typeface="HelveticaNeue"/>
              </a:rPr>
              <a:t>2013 год      г. Сыктывка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60360" y="179280"/>
            <a:ext cx="8459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300dc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2300dc"/>
                </a:solidFill>
                <a:latin typeface="Garamond"/>
              </a:rPr>
              <a:t>ЦЕЛЕВЫЕ ОРИЕНТАЦИИ ПЕДАГОГИЧЕСКИХ ИГ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900000"/>
            <a:ext cx="86407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Garamond"/>
              </a:rPr>
              <a:t>Дидактические</a:t>
            </a:r>
            <a:r>
              <a:rPr b="0" lang="ru-RU" sz="2400" spc="-1" strike="noStrike">
                <a:solidFill>
                  <a:srgbClr val="c5000b"/>
                </a:solidFill>
                <a:latin typeface="Garamond"/>
              </a:rPr>
              <a:t>: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расширение кругозора, познавательная деятельность,  формирование определенных умений, навыков, необходимых в практической деятельности; развитие общеучебных умений и навыков; развитие трудовых нав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Garamond"/>
              </a:rPr>
              <a:t>Воспитывающие: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воспитание самостоятельности, формирование определенных  подходов, позиций, нравственных, эстетических и мировоззренческих установок; воспитание сотрудничества, коллективизма, общительности, коммуникатив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Garamond"/>
              </a:rPr>
              <a:t>Развивающие: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развитие внимания, памяти, речи, мышления, умений сравнивать, сопоставлять, находить аналогии, воображения, фантазии, творческих способностей, эмпатии, рефлексии, умений находить </a:t>
            </a:r>
            <a:r>
              <a:rPr b="1" lang="ru-RU" sz="2400" spc="-1" strike="noStrike">
                <a:solidFill>
                  <a:srgbClr val="800000"/>
                </a:solidFill>
                <a:latin typeface="Garamond"/>
              </a:rPr>
              <a:t>оптимальные решения, развитие мотивации учеб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Garamond"/>
              </a:rPr>
              <a:t>Социализирующие</a:t>
            </a:r>
            <a:r>
              <a:rPr b="0" lang="ru-RU" sz="2400" spc="-1" strike="noStrike">
                <a:solidFill>
                  <a:srgbClr val="c5000b"/>
                </a:solidFill>
                <a:latin typeface="Garamond"/>
              </a:rPr>
              <a:t>: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приобщение к нормам и ценностям общества; адаптация к условиям среды; стрессовый  контроль, саморегуляция; обучение общению, психотерап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024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7020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800360" y="179280"/>
            <a:ext cx="504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00dc"/>
                </a:solidFill>
                <a:latin typeface="Garamond"/>
              </a:rPr>
              <a:t>Игровая технолог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0360" y="1260360"/>
            <a:ext cx="8459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aramond"/>
              </a:rPr>
              <a:t>Технология игровой деятельности (игровая технология)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 - представляет собой определенную последовательность действий, операций специалиста (педагога, психолога, игротехника и т.д.) по отбору материала, разработке и подготовке игры, включению детей в игровую деятельность, осуществлению самой игры, подведению ее итогов и содержательных результатов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0773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1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60360" y="0"/>
            <a:ext cx="8280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300dc"/>
                </a:solidFill>
                <a:latin typeface="Garamond"/>
              </a:rPr>
              <a:t>Особенности игровых технолог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1260360"/>
            <a:ext cx="80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Все следующие за дошкольным возрастные периоды со своими ведущими видами деятельности (младший школьный возраст - учебная деятельность, средний - общественно полезная, старший школьный возраст - учебно-профессиональная деятельность) не вытесняют игру, а продолжают включать ее в проц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-179280"/>
            <a:ext cx="9180360" cy="7037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9640" y="-84240"/>
            <a:ext cx="7740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00dc"/>
                </a:solidFill>
                <a:latin typeface="Garamond"/>
              </a:rPr>
              <a:t>Игровые технологии </a:t>
            </a:r>
            <a:br>
              <a:rPr sz="3200"/>
            </a:br>
            <a:r>
              <a:rPr b="1" i="1" lang="ru-RU" sz="3200" spc="-1" strike="noStrike">
                <a:solidFill>
                  <a:srgbClr val="2300dc"/>
                </a:solidFill>
                <a:latin typeface="Garamond"/>
              </a:rPr>
              <a:t>в дошкольном пери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0360" y="1079640"/>
            <a:ext cx="828036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Программа игровой деятельности состоит из набора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развивающих игр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: набор задач, которые ребенок решает с помощью кубиков, кирпичиков, квадратов из картона или пластика, деталей из конструктора-механика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В</a:t>
            </a:r>
            <a:r>
              <a:rPr b="1" lang="ru-RU" sz="28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развивающих играх удалось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объединить 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один из основных принципов обучения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от простого к сложному 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с очень важным принципом творческой деятельности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самостоятельно по способност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8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39640" y="82440"/>
            <a:ext cx="7740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00dc"/>
                </a:solidFill>
                <a:latin typeface="Garamond"/>
              </a:rPr>
              <a:t>Игровые технологии </a:t>
            </a:r>
            <a:br>
              <a:rPr sz="3200"/>
            </a:br>
            <a:r>
              <a:rPr b="1" i="1" lang="ru-RU" sz="3200" spc="-1" strike="noStrike">
                <a:solidFill>
                  <a:srgbClr val="2300dc"/>
                </a:solidFill>
                <a:latin typeface="Garamond"/>
              </a:rPr>
              <a:t>в младшем школьном возрасте.</a:t>
            </a:r>
            <a:br>
              <a:rPr sz="32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" y="1260360"/>
            <a:ext cx="8459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Для младшего школьного возраста характерны яркость и непосредственность восприятия, легкость вхождения в образы. Дети легко вовлекаются в любую деятельность, особенно в игровую, самостоятельно организуются в групповую игру, продолжают игры с предметами, игрушками, появляются неимитационны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Основу деятельности составляет игровое моделирование, часть деятельности учащихся происходит в условно-игровом пл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Ребята действуют по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игровым правилам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. Итоги игры выступают в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двойном плане </a:t>
            </a:r>
            <a:r>
              <a:rPr b="0" i="1" lang="ru-RU" sz="2800" spc="-1" strike="noStrike">
                <a:solidFill>
                  <a:srgbClr val="800000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как игровой и как учебно-познавательный результа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39640" y="50760"/>
            <a:ext cx="809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300dc"/>
                </a:solidFill>
                <a:latin typeface="Garamond"/>
              </a:rPr>
              <a:t>Игровые технологии в среднем и старшем школьном возраст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0360" y="1260360"/>
            <a:ext cx="828036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В подростковом возрасте наблюдается обострение потребности в создании своего собственного мира, в стремлении к взрослости, бурное развитие воображения, фантазии, появление стихийных групповых иг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Особенностями игровой технологии для старшеклассников  является нацеленность на самоутверждение перед обществом, юмористическая окраска, стремление к розыгрышу, групповой характер игр, ориентация на речевую деятельность, а также вовлечение в игру посторонних лиц в качестве зрителей, экспер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79280" y="0"/>
            <a:ext cx="8804520" cy="69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420e"/>
                </a:solidFill>
                <a:latin typeface="Times New Roman"/>
              </a:rPr>
              <a:t>Как повысить эффективность урока? Какими способами вызвать интерес у детей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Установка на игру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 обычно создается в увлекательной форме, иногда с использованием слайдов, рисунков, кинофрагментов. Например: 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</a:rPr>
              <a:t>«Давайте представим себе, что..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Игровая ситуация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может разыгрываться в вымышленном пространстве  (сказочный лес, акватория океана и т.д.), очерченном географической картой, историческим временем, поставленной проблемой. В игровой ситуации участвует определенное количество учеников (группа, класс), которые выполняют определенные действ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Следующим структурным элементом игры являются </a:t>
            </a: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игровые задачи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, которые соединяются с</a:t>
            </a: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 учебными задачами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, выступающими в замаскированном, неявном виде. Благодаря учебным задачам осуществляется непреднамеренное обучение школьников (Реши кроссворд, найди ошибку…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0360" y="179280"/>
            <a:ext cx="845964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Правила игры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 должны соответствовать «профессиональной деятельности» участника игры и быть направлены на выполнение действий в определенной последовательно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Игровые правила реализуются в </a:t>
            </a:r>
            <a:r>
              <a:rPr b="0" lang="ru-RU" sz="2200" spc="-1" strike="noStrike">
                <a:solidFill>
                  <a:srgbClr val="c5000b"/>
                </a:solidFill>
                <a:latin typeface="Arial"/>
              </a:rPr>
              <a:t>игровых действиях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.  Выделяют внешние действия (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</a:rPr>
              <a:t>слушать, чертить схему, решать задачу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) и умственные (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</a:rPr>
              <a:t>сравнивать, анализировать, классифицировать, обобщать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). Чем разнообразнее действия, тем интереснее игра. Но, если не сформированы определенные умения, лучше не проводить игр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Во время игры у ребенка возникает определенное </a:t>
            </a: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игровое состояние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– важный элемент игры, которое включает наличие переживания, активизацию воображения участников, эмоциональное отношение к действительности, поддерживается проблемностью ситуации, элементами соревновательности и занимательности, используемыми аксессуарами, присутствием юмора и элементов дискуссии, свободной творческой атмосферой, ситуацией выб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8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60360" y="179280"/>
            <a:ext cx="8459640" cy="71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аким образом, можно говорить о том, что игровые технологии представляют собой ступени от игры-забавы к  игре-увлечению познанием. И высшей ступенью является – от игры к творчеству, к научной логике, к опережению школьных програм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Результат как обязательный структурный элемент игры проявляется в том, что игра - это эффективное средство воспитания познавательных интересов и активизации   деятельности учащих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- тренировка памяти, помогающая учащимся выработать речевые умения и навы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- стимулирует умственную деятельность учащихся, развивает внимание и познавательный интерес к предмет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- способствует преодолению пассивности ученик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- способствует усилению работоспособности учащих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8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62040" y="466560"/>
            <a:ext cx="7797600" cy="68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пользование игровых технологий способству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повышению интереса, активизации и развитию мыш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 использованию знаний в новой ситу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несет здоровьесберегающий фактор в развитии и обуч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идет передача опыта старших поколений младши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является естественной формой труда ребенка, приготовлением к будущей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способствует объединению коллектива и формированию ответ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252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Теории игр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60360" y="179280"/>
            <a:ext cx="864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Times New Roman"/>
              </a:rPr>
              <a:t>Игра - одно из замечательных явлений жизни, деятельность, как будто бесполезная и вместе с тем необходимая. Невольно чаруя и привлекая к себе как жизненное явление, игра оказалась весьма серьезной и трудной проблемой для научной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e0021"/>
                </a:solidFill>
                <a:latin typeface="Times New Roman"/>
              </a:rPr>
              <a:t>По определению,</a:t>
            </a:r>
            <a:r>
              <a:rPr b="1" lang="ru-RU" sz="2400" spc="-1" strike="noStrike">
                <a:solidFill>
                  <a:srgbClr val="7e0021"/>
                </a:solidFill>
                <a:latin typeface="Times New Roman"/>
              </a:rPr>
              <a:t>  игра - </a:t>
            </a:r>
            <a:r>
              <a:rPr b="1" i="1" lang="ru-RU" sz="2400" spc="-1" strike="noStrike">
                <a:solidFill>
                  <a:srgbClr val="7e0021"/>
                </a:solidFill>
                <a:latin typeface="Times New Roman"/>
              </a:rPr>
              <a:t>это вид деятельности в условиях ситуаций, направленных на воссоздание и усвоение общественного опыта, в котором складывается и совершенствуется самоуправление повед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e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e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7e0021"/>
                </a:solidFill>
                <a:latin typeface="Times New Roman"/>
              </a:rPr>
              <a:t>Игра  позволяет эффективно формировать личность,   воспитывать нравственные качества, развивать творческие зада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Times New Roman"/>
                <a:ea typeface="Times New Roman"/>
              </a:rPr>
              <a:t>Игра наряду с трудом и ученьем - один из основных видов деятельности человека, удивительный феномен нашего существ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179280"/>
            <a:ext cx="8640720" cy="66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aramond"/>
              </a:rPr>
              <a:t>Заклю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aramond"/>
              </a:rPr>
              <a:t>Игра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 - школа профессиональной и семейной жизни, школа человеческих отношений. Но от обычной школы она отличается тем, что человек, обучаясь в ходе игры, и не подозревает о том, что чему-то учится. В обычной школе нетрудно указать источник знаний. Это - учитель - лицо обучающее. Процесс обучения может вестись в форме монолога (учитель объясняет, ученик слушает) и в форме диалога (либо ученик задает вопрос учителю, если он чего-то не понял и в состоянии свое понимание зафиксировать, либо учитель опрашивает учеников с целью контроля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В игре нет легко опознаваемого источника знаний, нет обучаемого лица. Процесс обучения развивается на языке действий, учатся и учат все участники игры в результате активных контактов друг с другом. Игровое обучение ненавязчиво. Игра большей частью добровольна и желан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179280" y="1523880"/>
            <a:ext cx="8355240" cy="297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я наша жизнь – иг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8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260360" y="1800360"/>
            <a:ext cx="665964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развлекательн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коммуникативн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самореализаци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игротерапевтическ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диагностическ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коррекци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социализаци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"/>
          <p:cNvSpPr/>
          <p:nvPr/>
        </p:nvSpPr>
        <p:spPr>
          <a:xfrm>
            <a:off x="326880" y="272880"/>
            <a:ext cx="8312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Garamond"/>
              </a:rPr>
              <a:t>Функции игровой деятельност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916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3520" y="1935000"/>
            <a:ext cx="8062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60360" y="2160720"/>
            <a:ext cx="8332920" cy="36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Свободная развивающ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деятель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Творческий, импровизированный, активный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 </a:t>
            </a: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харак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Эмоциональная приподнятость, состязатель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Наличие правил.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3720" y="179280"/>
            <a:ext cx="83962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00dc"/>
                </a:solidFill>
                <a:latin typeface="Garamond"/>
              </a:rPr>
              <a:t>Главные черты  большинства игр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0360" y="360360"/>
            <a:ext cx="845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гру как метод обучения, передачи опыта старших поколений младшим, люди использовали с древности.  Широкое применение игра находит в народной педагогике, в дошкольных и внешкольных учреждениях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Учебная игра как технология обучения давно интересует ученых и практ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ак педагогическая технология игра интересна тем, что создает эмоциональный подъем, а мотивы игровой деятельности ориентированы на процесс постижения смысла эт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7000"/>
            <a:ext cx="82263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60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360" y="360360"/>
            <a:ext cx="84596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1792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00dc"/>
                </a:solidFill>
                <a:latin typeface="Garamond"/>
              </a:rPr>
              <a:t>«Игровые педагогические технологии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" y="1979640"/>
            <a:ext cx="86882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В отличие от игр </a:t>
            </a:r>
            <a:r>
              <a:rPr b="1" lang="ru-RU" sz="3200" spc="-1" strike="noStrike">
                <a:solidFill>
                  <a:srgbClr val="800000"/>
                </a:solidFill>
                <a:latin typeface="Garamond"/>
              </a:rPr>
              <a:t>вообще </a:t>
            </a: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педагогическая игра обладает существенным признаком - четко поставленной целью обучения и соответствующим ей педагогическим результатом, которые могут быть обоснованы, выделены в явном виде и характеризуются учебно-познавательной направлен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916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60360" y="360360"/>
            <a:ext cx="8459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Игровая форма занятий создается на уроках при помощи игровых приемов и ситуаций, которые выступают как средство побуждения, стимулирования учащихся к учеб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Реализация игровых приемов и ситуаций при урочной форме занятий происходит по таким основным направлен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-  дидактическая цель ставится перед учащимися в форме игров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- учебная деятельность подчиняется правилам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- учебный материал используется в качестве ее средства, в учебную деятельность вводится элемент соревнования, который переводит дидактическую задачу в игрову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- успешное выполнение дидактического задания связывается с игровым результатом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17000"/>
            <a:ext cx="82263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</cp:lastModifiedBy>
  <dcterms:modified xsi:type="dcterms:W3CDTF">2010-09-14T06:21:2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