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A7D-0C1E-444F-9174-C8797943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F3D-A950-4101-BAA4-F3A1E978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5D7-211F-4EC3-B221-C0D82473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A91-1E9F-4E55-AC11-1DA1B8FA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748-867A-4176-B36C-36166435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34F-22CA-4AA5-AA90-D9D61F71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408-11AC-4D15-80EA-BDC7E7AE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87A-6B1D-4A08-B441-F7A341F7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0E4-F355-4732-BDDC-50DE4F0E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914-9565-42D4-9838-52C98AE7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F42-D104-4F68-BE2E-40662EE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9C7-B75D-4C54-8508-6F9E86BF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0A4E-B91C-44D4-B4D1-ABCA474F84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3:20:09Z</dcterms:created>
  <dc:creator>Елена</dc:creator>
  <dc:description/>
  <dc:language>en-US</dc:language>
  <cp:lastModifiedBy>Елена</cp:lastModifiedBy>
  <dcterms:modified xsi:type="dcterms:W3CDTF">2013-04-06T13:26:16Z</dcterms:modified>
  <cp:revision>1</cp:revision>
  <dc:subject/>
  <dc:title>Слайд 1</dc:title>
</cp:coreProperties>
</file>