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E35-549E-48DF-9648-41951769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A92-8DDF-4791-8808-DF39CD1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CB7-FB4C-48AF-B227-9822B936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44F-2456-41E3-A785-D8CB264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594-FB50-43C9-8FA9-CC3EFA9D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94B-12F5-4E94-8D87-5613552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9EF-C5D4-452E-9A68-3A55ED25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93C-6F99-449F-9EFB-ACCE2C3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CF3-96E1-4BEF-ADEA-08369240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8C6-8599-4557-AF0D-E3CBDED8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E99-DB68-4DFF-90B2-79F5C3D1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A12-22F8-45B3-9805-5A2686C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1847-B1EA-4BDD-AC30-4AD0FDE28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3:20:09Z</dcterms:created>
  <dc:creator>Елена</dc:creator>
  <dc:description/>
  <dc:language>en-US</dc:language>
  <cp:lastModifiedBy>Елена</cp:lastModifiedBy>
  <dcterms:modified xsi:type="dcterms:W3CDTF">2013-04-06T13:26:16Z</dcterms:modified>
  <cp:revision>1</cp:revision>
  <dc:subject/>
  <dc:title>Слайд 1</dc:title>
</cp:coreProperties>
</file>