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5F5-FD30-4DA0-9113-40F05E8C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4AB-D7F5-4D64-A796-52D2AA67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C17-A635-4F63-A0E1-A3BBE0C3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E4A-450D-4AA8-B87B-41B0EEE0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CC95-6E84-4A70-9360-E2D6F642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AB15-B7C7-47BC-B43E-F346EB6A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9DC6-D253-452A-ADCB-D8F9FB37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CF59-22C4-4A0B-98F9-44924A65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49CB-7B90-449B-8B0F-7CB2E75B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57C2-004F-4900-BEA4-9C9C98F4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E193-1FC3-414C-8A8A-A7C03B34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5323-95B3-4177-A540-69889B16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307E-0E92-473D-868C-91BEC8B0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7205-A7ED-44C7-BD0F-74030CE3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5AA1-B3A0-4471-AAB9-994DEAD7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C489-0EDA-4172-9308-01D8BAAF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B22D-8915-4420-A125-781BC18D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A6BA2-FE08-4461-BD03-9ED9B576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5884C-DBA4-44F5-AB97-153849DD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3DF1D-9832-41D6-954A-1A7574A4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90ECA-1330-42FA-B001-2ADA3D82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965C6-9713-4200-A2E6-1AE4166E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568-29C9-4BF5-AF67-3A4D899D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7CEF9-1422-4DF5-B31A-D68EC0FD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F0B03-34B0-4B87-BA00-3018F039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779C8-E009-4896-851C-24D515FF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B2603-A98A-4382-A76A-94BD4258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D51D-B8D0-43A7-9340-FFA95C8A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0F11-B78E-4319-BB31-51E5FD63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C295E-DA57-4753-BE16-6BD61920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57FF5-86B7-4558-A29C-7653DB53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FEBBD-B639-442A-988D-223ECFA3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A5408-DC28-4DCD-AB47-00EC0E86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400-D8DA-4652-916F-FC87F93C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79A18-C935-4ED6-B017-B2BBC0B5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A68C3-7648-49E7-945E-582F8157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487B6-C16F-4747-A727-899D6904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7AD38-CE99-4779-AF35-C09F3961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7D2EA-404A-4982-AD11-04ADDDE2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4B792-82BA-471F-84D8-DD900D28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B8F00-E166-4091-9F37-BD698A63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4DEAE-BFC5-4EF2-B989-46D7F1D5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8B3D4-92EE-4467-8232-0ED26F87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E29-F97F-4C55-B749-00C48325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2EB-41EB-40B0-8B08-045FB219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165-8533-494B-9C20-8A5A52DC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CA25-F38F-43E9-8338-7F5E0A45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8E0-10D9-4EC5-9297-86DDCD67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356C-FEAD-4C03-8997-6D209043366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DE6C-F906-44A4-9D24-2D05E2813F8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E05F-0460-4626-BAF8-A40F82828D0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C56B-671C-4F3A-B9C9-14894F31F62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57200" y="-176040"/>
            <a:ext cx="8674200" cy="2017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133360" y="6237360"/>
            <a:ext cx="7010280" cy="6206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Выполнила: ученица 10А класса Синицына Анна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2"/>
          <a:stretch/>
        </p:blipFill>
        <p:spPr>
          <a:xfrm>
            <a:off x="1928880" y="2428920"/>
            <a:ext cx="554508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2556000" y="457200"/>
            <a:ext cx="613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cca"/>
                </a:solidFill>
                <a:latin typeface="Calibri"/>
              </a:rPr>
              <a:t>Рабочая панель</a:t>
            </a:r>
            <a:r>
              <a:rPr b="0" lang="ru-RU" sz="40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8cca"/>
                </a:solidFill>
                <a:latin typeface="Calibri"/>
              </a:rPr>
              <a:t>Выделение</a:t>
            </a:r>
            <a:r>
              <a:rPr b="0" lang="ru-RU" sz="4000" spc="-1" strike="noStrike">
                <a:solidFill>
                  <a:srgbClr val="008cca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627280" y="1981080"/>
            <a:ext cx="6059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озволяет осуществить различные варианты выделения объек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ыделить отдельные объ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группы объ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rcRect l="0" t="8963" r="94352" b="65571"/>
          <a:stretch/>
        </p:blipFill>
        <p:spPr>
          <a:xfrm>
            <a:off x="468360" y="692280"/>
            <a:ext cx="1725480" cy="58323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5"/>
          <p:cNvSpPr/>
          <p:nvPr/>
        </p:nvSpPr>
        <p:spPr>
          <a:xfrm>
            <a:off x="2340000" y="1916280"/>
            <a:ext cx="289080" cy="4608360"/>
          </a:xfrm>
          <a:custGeom>
            <a:avLst/>
            <a:gdLst>
              <a:gd name="textAreaLeft" fmla="*/ 0 w 289080"/>
              <a:gd name="textAreaRight" fmla="*/ 104400 w 28908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2556000" y="2205000"/>
            <a:ext cx="64180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зволяет грамотно оформить чертеж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бозначить на чертеже размеры дета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делать надпи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9219" r="94592" b="65950"/>
          <a:stretch/>
        </p:blipFill>
        <p:spPr>
          <a:xfrm>
            <a:off x="336600" y="620640"/>
            <a:ext cx="1716120" cy="59040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5"/>
          <p:cNvSpPr/>
          <p:nvPr/>
        </p:nvSpPr>
        <p:spPr>
          <a:xfrm>
            <a:off x="2124000" y="1844640"/>
            <a:ext cx="289080" cy="4608720"/>
          </a:xfrm>
          <a:custGeom>
            <a:avLst/>
            <a:gdLst>
              <a:gd name="textAreaLeft" fmla="*/ 0 w 289080"/>
              <a:gd name="textAreaRight" fmla="*/ 104400 w 28908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2556000" y="549360"/>
            <a:ext cx="658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cca"/>
                </a:solidFill>
                <a:latin typeface="Calibri"/>
              </a:rPr>
              <a:t>Рабочая панель </a:t>
            </a:r>
            <a:r>
              <a:rPr b="1" lang="ru-RU" sz="3600" spc="-1" strike="noStrike">
                <a:solidFill>
                  <a:srgbClr val="008cca"/>
                </a:solidFill>
                <a:latin typeface="Calibri"/>
              </a:rPr>
              <a:t>Измерения</a:t>
            </a:r>
            <a:r>
              <a:rPr b="0" lang="ru-RU" sz="4600" spc="-1" strike="noStrike">
                <a:solidFill>
                  <a:srgbClr val="008cca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rcRect l="0" t="8973" r="94385" b="66092"/>
          <a:stretch/>
        </p:blipFill>
        <p:spPr>
          <a:xfrm>
            <a:off x="611280" y="620640"/>
            <a:ext cx="1773000" cy="590400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5"/>
          <p:cNvSpPr/>
          <p:nvPr/>
        </p:nvSpPr>
        <p:spPr>
          <a:xfrm>
            <a:off x="2411280" y="1844640"/>
            <a:ext cx="289080" cy="4608720"/>
          </a:xfrm>
          <a:custGeom>
            <a:avLst/>
            <a:gdLst>
              <a:gd name="textAreaLeft" fmla="*/ 0 w 289080"/>
              <a:gd name="textAreaRight" fmla="*/ 104400 w 28908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725560" y="1844640"/>
            <a:ext cx="64184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озволяет измер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сстояния (вычисляются и отображаются в миллиметрах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глы (в градусах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еримет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площади различных объ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755640" y="981000"/>
            <a:ext cx="7561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Общее назначение системы </a:t>
            </a:r>
            <a:r>
              <a:rPr b="0" lang="ru-RU" sz="3200" spc="-1" strike="noStrike">
                <a:solidFill>
                  <a:srgbClr val="00b0f0"/>
                </a:solidFill>
                <a:latin typeface="Cambria"/>
              </a:rPr>
              <a:t>КОМПАС-3D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— создание трехмерных ассоциативных моделей отдельных элементов и сборных конструкций из них. Конструкции могут содержать как оригинальные (созданные пользователем), так и стандартизованные конструктивные элементы, взятые из каталог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70452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имеры работ в программе         Компас3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Содержимое 3" descr="kompas3d10_05.jpg"/>
          <p:cNvPicPr/>
          <p:nvPr/>
        </p:nvPicPr>
        <p:blipFill>
          <a:blip r:embed="rId1"/>
          <a:stretch/>
        </p:blipFill>
        <p:spPr>
          <a:xfrm>
            <a:off x="1000080" y="1857240"/>
            <a:ext cx="7143840" cy="450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1" name="Содержимое 3" descr="x_d5977950.jpg"/>
          <p:cNvPicPr/>
          <p:nvPr/>
        </p:nvPicPr>
        <p:blipFill>
          <a:blip r:embed="rId1"/>
          <a:stretch/>
        </p:blipFill>
        <p:spPr>
          <a:xfrm>
            <a:off x="500040" y="785880"/>
            <a:ext cx="8215200" cy="5572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3" name="Содержимое 3" descr="rabota3-2.jpg"/>
          <p:cNvPicPr/>
          <p:nvPr/>
        </p:nvPicPr>
        <p:blipFill>
          <a:blip r:embed="rId1"/>
          <a:stretch/>
        </p:blipFill>
        <p:spPr>
          <a:xfrm>
            <a:off x="365040" y="785880"/>
            <a:ext cx="8493120" cy="5643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755640" y="981000"/>
            <a:ext cx="763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КОМПАС-3D как универсальная система трехмерного моделирования находит свое применение при решении различных задач, в том числе и архитектурно-строительного и технологического проект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" descr=""/>
          <p:cNvPicPr/>
          <p:nvPr/>
        </p:nvPicPr>
        <p:blipFill>
          <a:blip r:embed="rId1"/>
          <a:stretch/>
        </p:blipFill>
        <p:spPr>
          <a:xfrm>
            <a:off x="4067280" y="4365720"/>
            <a:ext cx="3809880" cy="19717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3529080" cy="2016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4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ru-RU" sz="4300" spc="-1" strike="noStrike">
                <a:solidFill>
                  <a:srgbClr val="e2d700"/>
                </a:solidFill>
                <a:latin typeface="Times New Roman"/>
              </a:rPr>
              <a:t>системы компьютерного черчения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1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Множество элементов в компьютере, связанные с геометрическими построениями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632720" cy="573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684360" y="98100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Заголовок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расположен в самой верхней части окна. В нем отображается название программы, номер ее версии и имя текущего доку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Главное меню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сположено в верхней части программного окна, сразу под заголовком. В нем расположены все основные меню системы. В каждом из меню хранятся связанные с ним кома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2556000" y="333360"/>
            <a:ext cx="4248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8cca"/>
                </a:solidFill>
                <a:latin typeface="Calibri"/>
              </a:rPr>
              <a:t>Окно программ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rcRect l="0" t="0" r="0" b="4174"/>
          <a:stretch/>
        </p:blipFill>
        <p:spPr>
          <a:xfrm>
            <a:off x="2340000" y="1700280"/>
            <a:ext cx="6553080" cy="470988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12"/>
          <p:cNvSpPr/>
          <p:nvPr/>
        </p:nvSpPr>
        <p:spPr>
          <a:xfrm flipH="1">
            <a:off x="6947640" y="549360"/>
            <a:ext cx="1800360" cy="863640"/>
          </a:xfrm>
          <a:prstGeom prst="wedgeRectCallout">
            <a:avLst>
              <a:gd name="adj1" fmla="val -50884"/>
              <a:gd name="adj2" fmla="val 84740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нопки управления ок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flipH="1">
            <a:off x="178560" y="3213000"/>
            <a:ext cx="2016360" cy="576360"/>
          </a:xfrm>
          <a:prstGeom prst="wedgeRectCallout">
            <a:avLst>
              <a:gd name="adj1" fmla="val -57481"/>
              <a:gd name="adj2" fmla="val -179203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струментальная пан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4"/>
          <p:cNvSpPr/>
          <p:nvPr/>
        </p:nvSpPr>
        <p:spPr>
          <a:xfrm flipH="1">
            <a:off x="178560" y="4221000"/>
            <a:ext cx="2016360" cy="576360"/>
          </a:xfrm>
          <a:prstGeom prst="wedgeRectCallout">
            <a:avLst>
              <a:gd name="adj1" fmla="val -131736"/>
              <a:gd name="adj2" fmla="val -20527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чее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5"/>
          <p:cNvSpPr/>
          <p:nvPr/>
        </p:nvSpPr>
        <p:spPr>
          <a:xfrm flipH="1">
            <a:off x="178560" y="5157720"/>
            <a:ext cx="2016360" cy="576360"/>
          </a:xfrm>
          <a:prstGeom prst="wedgeRectCallout">
            <a:avLst>
              <a:gd name="adj1" fmla="val -62680"/>
              <a:gd name="adj2" fmla="val 117217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ока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 flipH="1">
            <a:off x="178560" y="6093000"/>
            <a:ext cx="2016360" cy="576000"/>
          </a:xfrm>
          <a:prstGeom prst="wedgeRectCallout">
            <a:avLst>
              <a:gd name="adj1" fmla="val -61185"/>
              <a:gd name="adj2" fmla="val -7578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ока сооб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7"/>
          <p:cNvSpPr/>
          <p:nvPr/>
        </p:nvSpPr>
        <p:spPr>
          <a:xfrm flipH="1">
            <a:off x="178560" y="2060640"/>
            <a:ext cx="2016360" cy="576360"/>
          </a:xfrm>
          <a:prstGeom prst="wedgeRectCallout">
            <a:avLst>
              <a:gd name="adj1" fmla="val -57481"/>
              <a:gd name="adj2" fmla="val -46694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 flipH="1">
            <a:off x="178560" y="1268280"/>
            <a:ext cx="2016360" cy="576360"/>
          </a:xfrm>
          <a:prstGeom prst="wedgeRectCallout">
            <a:avLst>
              <a:gd name="adj1" fmla="val -57481"/>
              <a:gd name="adj2" fmla="val 67629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нель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ню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1"/>
          <p:cNvSpPr/>
          <p:nvPr/>
        </p:nvSpPr>
        <p:spPr>
          <a:xfrm flipH="1">
            <a:off x="250920" y="333360"/>
            <a:ext cx="2016000" cy="576360"/>
          </a:xfrm>
          <a:prstGeom prst="wedgeRectCallout">
            <a:avLst>
              <a:gd name="adj1" fmla="val -119921"/>
              <a:gd name="adj2" fmla="val 191870"/>
            </a:avLst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ока 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cca"/>
                </a:solidFill>
                <a:latin typeface="Calibri"/>
              </a:rPr>
              <a:t>Панель переключ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340000" y="4221000"/>
            <a:ext cx="6553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опка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Times New Roman"/>
                <a:hlinkClick r:id="rId1" action="ppaction://hlinksldjump"/>
              </a:rPr>
              <a:t>Панель геометрические постро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опка Панель размер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опка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Times New Roman"/>
                <a:hlinkClick r:id="rId2" action="ppaction://hlinksldjump"/>
              </a:rPr>
              <a:t>Панель редакт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опка Панель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нопка Панель вы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3"/>
          <a:srcRect l="0" t="9032" r="94278" b="85554"/>
          <a:stretch/>
        </p:blipFill>
        <p:spPr>
          <a:xfrm>
            <a:off x="250920" y="1413000"/>
            <a:ext cx="2016000" cy="14302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8"/>
          <p:cNvSpPr/>
          <p:nvPr/>
        </p:nvSpPr>
        <p:spPr>
          <a:xfrm>
            <a:off x="2627280" y="1413000"/>
            <a:ext cx="6265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той панели расположены кнопки для переключения между страницами Инструментальной пан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ереключении меняются кнопки команд, отображаемые на Инструментальной пан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2340000" y="1916280"/>
            <a:ext cx="6480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содержит кнопки, позволяющие рисовать на чертеже определенные объект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90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очк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90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трез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90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руж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90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ямоугольник и другие.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>
            <a:lum contrast="18000"/>
          </a:blip>
          <a:srcRect l="0" t="9091" r="94256" b="66481"/>
          <a:stretch/>
        </p:blipFill>
        <p:spPr>
          <a:xfrm>
            <a:off x="295200" y="692280"/>
            <a:ext cx="1830600" cy="58323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/>
          <p:cNvSpPr/>
          <p:nvPr/>
        </p:nvSpPr>
        <p:spPr>
          <a:xfrm>
            <a:off x="2195640" y="1989000"/>
            <a:ext cx="288720" cy="4535640"/>
          </a:xfrm>
          <a:custGeom>
            <a:avLst/>
            <a:gdLst>
              <a:gd name="textAreaLeft" fmla="*/ 0 w 288720"/>
              <a:gd name="textAreaRight" fmla="*/ 104040 w 288720"/>
              <a:gd name="textAreaTop" fmla="*/ 118080 h 4535640"/>
              <a:gd name="textAreaBottom" fmla="*/ 4417560 h 453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2916360" y="457200"/>
            <a:ext cx="5770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cca"/>
                </a:solidFill>
                <a:latin typeface="Calibri"/>
              </a:rPr>
              <a:t>Рабочая панель</a:t>
            </a:r>
            <a:r>
              <a:rPr b="0" lang="ru-RU" sz="4000" spc="-1" strike="noStrike">
                <a:solidFill>
                  <a:srgbClr val="008cca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8cca"/>
                </a:solidFill>
                <a:latin typeface="Calibri"/>
              </a:rPr>
              <a:t>Редактирование</a:t>
            </a:r>
            <a:r>
              <a:rPr b="0" lang="ru-RU" sz="4000" spc="-1" strike="noStrike">
                <a:solidFill>
                  <a:srgbClr val="008cca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556000" y="1981080"/>
            <a:ext cx="640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одержит кнопки, которые позволяют вносить изменения в чертеж, производя над объектами различные опер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90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ерем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90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пир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190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асштабирование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rcRect l="-192" t="9396" r="94208" b="65704"/>
          <a:stretch/>
        </p:blipFill>
        <p:spPr>
          <a:xfrm>
            <a:off x="468360" y="692280"/>
            <a:ext cx="1824120" cy="568800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6"/>
          <p:cNvSpPr/>
          <p:nvPr/>
        </p:nvSpPr>
        <p:spPr>
          <a:xfrm>
            <a:off x="2411280" y="1773360"/>
            <a:ext cx="289080" cy="4608360"/>
          </a:xfrm>
          <a:custGeom>
            <a:avLst/>
            <a:gdLst>
              <a:gd name="textAreaLeft" fmla="*/ 0 w 289080"/>
              <a:gd name="textAreaRight" fmla="*/ 104400 w 28908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07:35:58Z</dcterms:created>
  <dc:creator>Настенька</dc:creator>
  <dc:description/>
  <dc:language>en-US</dc:language>
  <cp:lastModifiedBy>пк2</cp:lastModifiedBy>
  <dcterms:modified xsi:type="dcterms:W3CDTF">2013-04-06T05:00:20Z</dcterms:modified>
  <cp:revision>7</cp:revision>
  <dc:subject/>
  <dc:title>Программа КОМПАС 3D.</dc:title>
</cp:coreProperties>
</file>