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D35C-C120-46A9-8AA5-05C3231DF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4424-8CE9-4A8B-9F4B-EF333C9F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2E35-21E0-4B5E-8D20-03B94D2F6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3CA5-AF83-4095-A5CB-87EC57DD6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8A3B-58D7-4D9F-89EC-3180F918E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62C0-3341-4704-A3BC-ECAE389A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3CAB-193C-436A-AC0E-82BFDE58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3F6E3-DBDF-4A19-89BE-2A69D34C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F3F8-2B6D-41E2-B44D-FEFB41E5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B1C0-F5A4-42FA-B700-F5257F91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E87F-3EFA-4361-951D-C24214B0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4D50-A50A-4247-B66C-67326EEA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2C8E-2D02-4F76-B4C0-77484D4B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0CEC-C8DC-4CB7-8FD6-AB782FEF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2E1F-E9AB-457E-BFDA-95D4BEF2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ADA0A-C777-4508-8F0E-FF19A99CD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BE0E6-A396-4297-B150-D9363C80E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27DA1-DD82-4CEE-A1C1-635D2F950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6F8BA-E81E-49AB-8CCC-8D052154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06235-865D-49F0-A152-1FEF3AB2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78E08-C4DB-4381-B8BF-C1A4199D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C8857-F3D5-4ADC-9A8C-C8E1A69D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EC18-ABC0-4AF2-9232-B8949633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C6115-29BD-413C-858E-1C9FEB60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CFFA8-E6E2-4724-AEC5-AAEB71D2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ECFE0-5BFE-483F-AC98-75E1979E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F8090-B21E-438D-8456-18FF5097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AB8F9-10AB-4485-9557-849A2F20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C088B-8CA6-4203-A3F9-C255F7AAF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FEB0F-FFA3-4854-8C72-0E75E04F4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1B411-A5B1-4AE1-9897-8B142DC7B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E1136-D53A-46B5-A7F3-EC7B0BC2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ACE3A-9E1F-4F07-B1FC-B33A191C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3C52-977E-4FCA-99D7-C6BFBC8E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88388-E59F-42F0-9822-C0A07CF0F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BAD05-FDDF-48B6-AFCF-7351498E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F0115-57CB-4068-A2DC-FAC98F80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312D3-4958-4014-A490-EEA2EAA9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733AB-C1B6-4D65-A98E-B98256C9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D5FDE-4489-439F-8B7B-984835CD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850C4-0D22-4B10-BFD5-002A8B85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D1A4D-53C5-48A4-915A-F85E373FC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5A3F2-297E-4692-B96C-1143ABFC1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AD7B-A192-42AF-B39C-63975D92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A515-5C38-40C5-A7AE-5BBFD679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D1CB-480C-426E-82FE-C0CDF650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BCB6-4331-4DE2-B2EB-76D102A7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AFBA-7A9F-4DCF-A3AC-AB749ABC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AF27-F533-4298-8774-CA2B62FAD27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1FDF-603F-4272-92D4-3A01819189A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EE37-883C-4C25-81AB-96F17FBF5201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D116-BD0D-43F9-B1EA-BAC362D4928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457200" y="-176040"/>
            <a:ext cx="8674200" cy="20174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2133360" y="6237360"/>
            <a:ext cx="7010280" cy="6206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Выполнила: ученица 10А класса Синицына Анна</a:t>
            </a: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7" descr=""/>
          <p:cNvPicPr/>
          <p:nvPr/>
        </p:nvPicPr>
        <p:blipFill>
          <a:blip r:embed="rId2"/>
          <a:stretch/>
        </p:blipFill>
        <p:spPr>
          <a:xfrm>
            <a:off x="1928880" y="2428920"/>
            <a:ext cx="5545080" cy="3456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2556000" y="457200"/>
            <a:ext cx="613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0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cca"/>
                </a:solidFill>
                <a:latin typeface="Calibri"/>
              </a:rPr>
              <a:t>Рабочая панель</a:t>
            </a:r>
            <a:r>
              <a:rPr b="0" lang="ru-RU" sz="40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8cca"/>
                </a:solidFill>
                <a:latin typeface="Calibri"/>
              </a:rPr>
              <a:t>Выделение</a:t>
            </a:r>
            <a:r>
              <a:rPr b="0" lang="ru-RU" sz="4000" spc="-1" strike="noStrike">
                <a:solidFill>
                  <a:srgbClr val="008cca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2627280" y="1981080"/>
            <a:ext cx="60595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позволяет осуществить различные варианты выделения объект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ыделить отдельные объе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группы объек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rcRect l="0" t="8963" r="94352" b="65571"/>
          <a:stretch/>
        </p:blipFill>
        <p:spPr>
          <a:xfrm>
            <a:off x="468360" y="692280"/>
            <a:ext cx="1725480" cy="583236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5"/>
          <p:cNvSpPr/>
          <p:nvPr/>
        </p:nvSpPr>
        <p:spPr>
          <a:xfrm>
            <a:off x="2340000" y="1916280"/>
            <a:ext cx="289080" cy="4608360"/>
          </a:xfrm>
          <a:custGeom>
            <a:avLst/>
            <a:gdLst>
              <a:gd name="textAreaLeft" fmla="*/ 0 w 289080"/>
              <a:gd name="textAreaRight" fmla="*/ 104400 w 289080"/>
              <a:gd name="textAreaTop" fmla="*/ 119880 h 4608360"/>
              <a:gd name="textAreaBottom" fmla="*/ 4488480 h 46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2556000" y="2205000"/>
            <a:ext cx="641808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озволяет грамотно оформить чертеж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обозначить на чертеже размеры детал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сделать надпи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rcRect l="0" t="9219" r="94592" b="65950"/>
          <a:stretch/>
        </p:blipFill>
        <p:spPr>
          <a:xfrm>
            <a:off x="336600" y="620640"/>
            <a:ext cx="1716120" cy="590400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5"/>
          <p:cNvSpPr/>
          <p:nvPr/>
        </p:nvSpPr>
        <p:spPr>
          <a:xfrm>
            <a:off x="2124000" y="1844640"/>
            <a:ext cx="289080" cy="4608720"/>
          </a:xfrm>
          <a:custGeom>
            <a:avLst/>
            <a:gdLst>
              <a:gd name="textAreaLeft" fmla="*/ 0 w 289080"/>
              <a:gd name="textAreaRight" fmla="*/ 104400 w 289080"/>
              <a:gd name="textAreaTop" fmla="*/ 119880 h 4608720"/>
              <a:gd name="textAreaBottom" fmla="*/ 4488840 h 460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2556000" y="549360"/>
            <a:ext cx="6588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0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cca"/>
                </a:solidFill>
                <a:latin typeface="Calibri"/>
              </a:rPr>
              <a:t>Рабочая панель </a:t>
            </a:r>
            <a:r>
              <a:rPr b="1" lang="ru-RU" sz="3600" spc="-1" strike="noStrike">
                <a:solidFill>
                  <a:srgbClr val="008cca"/>
                </a:solidFill>
                <a:latin typeface="Calibri"/>
              </a:rPr>
              <a:t>Измерения</a:t>
            </a:r>
            <a:r>
              <a:rPr b="0" lang="ru-RU" sz="4600" spc="-1" strike="noStrike">
                <a:solidFill>
                  <a:srgbClr val="008cca"/>
                </a:solidFill>
                <a:latin typeface="Calibri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1"/>
          <a:srcRect l="0" t="8973" r="94385" b="66092"/>
          <a:stretch/>
        </p:blipFill>
        <p:spPr>
          <a:xfrm>
            <a:off x="611280" y="620640"/>
            <a:ext cx="1773000" cy="590400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5"/>
          <p:cNvSpPr/>
          <p:nvPr/>
        </p:nvSpPr>
        <p:spPr>
          <a:xfrm>
            <a:off x="2411280" y="1844640"/>
            <a:ext cx="289080" cy="4608720"/>
          </a:xfrm>
          <a:custGeom>
            <a:avLst/>
            <a:gdLst>
              <a:gd name="textAreaLeft" fmla="*/ 0 w 289080"/>
              <a:gd name="textAreaRight" fmla="*/ 104400 w 289080"/>
              <a:gd name="textAreaTop" fmla="*/ 119880 h 4608720"/>
              <a:gd name="textAreaBottom" fmla="*/ 4488840 h 460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2725560" y="1844640"/>
            <a:ext cx="641844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озволяет измеря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расстояния (вычисляются и отображаются в миллиметрах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углы (в градусах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ериметр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лощади различных объек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755640" y="981000"/>
            <a:ext cx="75614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Общее назначение системы </a:t>
            </a:r>
            <a:r>
              <a:rPr b="0" lang="ru-RU" sz="3200" spc="-1" strike="noStrike">
                <a:solidFill>
                  <a:srgbClr val="00b0f0"/>
                </a:solidFill>
                <a:latin typeface="Cambria"/>
              </a:rPr>
              <a:t>КОМПАС-3D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— создание трехмерных ассоциативных моделей отдельных элементов и сборных конструкций из них. Конструкции могут содержать как оригинальные (созданные пользователем), так и стандартизованные конструктивные элементы, взятые из каталог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57120" y="70452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римеры работ в программе         Компас3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d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9" name="Содержимое 3" descr="kompas3d10_05.jpg"/>
          <p:cNvPicPr/>
          <p:nvPr/>
        </p:nvPicPr>
        <p:blipFill>
          <a:blip r:embed="rId1"/>
          <a:stretch/>
        </p:blipFill>
        <p:spPr>
          <a:xfrm>
            <a:off x="1000080" y="1857240"/>
            <a:ext cx="7143840" cy="4500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1" name="Содержимое 3" descr="x_d5977950.jpg"/>
          <p:cNvPicPr/>
          <p:nvPr/>
        </p:nvPicPr>
        <p:blipFill>
          <a:blip r:embed="rId1"/>
          <a:stretch/>
        </p:blipFill>
        <p:spPr>
          <a:xfrm>
            <a:off x="500040" y="785880"/>
            <a:ext cx="8215200" cy="55720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3" name="Содержимое 3" descr="rabota3-2.jpg"/>
          <p:cNvPicPr/>
          <p:nvPr/>
        </p:nvPicPr>
        <p:blipFill>
          <a:blip r:embed="rId1"/>
          <a:stretch/>
        </p:blipFill>
        <p:spPr>
          <a:xfrm>
            <a:off x="365040" y="785880"/>
            <a:ext cx="8493120" cy="5643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1"/>
          <p:cNvSpPr/>
          <p:nvPr/>
        </p:nvSpPr>
        <p:spPr>
          <a:xfrm>
            <a:off x="755640" y="981000"/>
            <a:ext cx="7632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КОМПАС-3D как универсальная система трехмерного моделирования находит свое применение при решении различных задач, в том числе и архитектурно-строительного и технологического проектир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Рисунок 3" descr=""/>
          <p:cNvPicPr/>
          <p:nvPr/>
        </p:nvPicPr>
        <p:blipFill>
          <a:blip r:embed="rId1"/>
          <a:stretch/>
        </p:blipFill>
        <p:spPr>
          <a:xfrm>
            <a:off x="4067280" y="4365720"/>
            <a:ext cx="3809880" cy="197172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4" descr=""/>
          <p:cNvPicPr/>
          <p:nvPr/>
        </p:nvPicPr>
        <p:blipFill>
          <a:blip r:embed="rId2"/>
          <a:stretch/>
        </p:blipFill>
        <p:spPr>
          <a:xfrm>
            <a:off x="250920" y="4365720"/>
            <a:ext cx="3529080" cy="2016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1" lang="ru-RU" sz="4300" spc="-1" strike="noStrike">
                <a:solidFill>
                  <a:srgbClr val="e2d700"/>
                </a:solidFill>
                <a:latin typeface="Times New Roman"/>
              </a:rPr>
              <a:t>системы компьютерного черчения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1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Множество элементов в компьютере, связанные с геометрическими построениями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7632720" cy="5730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1"/>
          <p:cNvSpPr/>
          <p:nvPr/>
        </p:nvSpPr>
        <p:spPr>
          <a:xfrm>
            <a:off x="684360" y="981000"/>
            <a:ext cx="7920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mbria"/>
              </a:rPr>
              <a:t>Заголовок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расположен в самой верхней части окна. В нем отображается название программы, номер ее версии и имя текущего докуме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mbria"/>
              </a:rPr>
              <a:t>Главное меню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расположено в верхней части программного окна, сразу под заголовком. В нем расположены все основные меню системы. В каждом из меню хранятся связанные с ним коман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2556000" y="333360"/>
            <a:ext cx="4248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000"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8cca"/>
                </a:solidFill>
                <a:latin typeface="Calibri"/>
              </a:rPr>
              <a:t>Окно программы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rcRect l="0" t="0" r="0" b="4174"/>
          <a:stretch/>
        </p:blipFill>
        <p:spPr>
          <a:xfrm>
            <a:off x="2340000" y="1700280"/>
            <a:ext cx="6553080" cy="4709880"/>
          </a:xfrm>
          <a:prstGeom prst="rect">
            <a:avLst/>
          </a:prstGeom>
          <a:ln w="0">
            <a:noFill/>
          </a:ln>
        </p:spPr>
      </p:pic>
      <p:sp>
        <p:nvSpPr>
          <p:cNvPr id="207" name="AutoShape 12"/>
          <p:cNvSpPr/>
          <p:nvPr/>
        </p:nvSpPr>
        <p:spPr>
          <a:xfrm flipH="1">
            <a:off x="6947640" y="549360"/>
            <a:ext cx="1800360" cy="863640"/>
          </a:xfrm>
          <a:prstGeom prst="wedgeRectCallout">
            <a:avLst>
              <a:gd name="adj1" fmla="val -50884"/>
              <a:gd name="adj2" fmla="val 84740"/>
            </a:avLst>
          </a:pr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нопки управления ок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3"/>
          <p:cNvSpPr/>
          <p:nvPr/>
        </p:nvSpPr>
        <p:spPr>
          <a:xfrm flipH="1">
            <a:off x="178560" y="3213000"/>
            <a:ext cx="2016360" cy="576360"/>
          </a:xfrm>
          <a:prstGeom prst="wedgeRectCallout">
            <a:avLst>
              <a:gd name="adj1" fmla="val -57481"/>
              <a:gd name="adj2" fmla="val -179203"/>
            </a:avLst>
          </a:pr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нструментальная пан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4"/>
          <p:cNvSpPr/>
          <p:nvPr/>
        </p:nvSpPr>
        <p:spPr>
          <a:xfrm flipH="1">
            <a:off x="178560" y="4221000"/>
            <a:ext cx="2016360" cy="576360"/>
          </a:xfrm>
          <a:prstGeom prst="wedgeRectCallout">
            <a:avLst>
              <a:gd name="adj1" fmla="val -131736"/>
              <a:gd name="adj2" fmla="val -20527"/>
            </a:avLst>
          </a:pr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бочее п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5"/>
          <p:cNvSpPr/>
          <p:nvPr/>
        </p:nvSpPr>
        <p:spPr>
          <a:xfrm flipH="1">
            <a:off x="178560" y="5157720"/>
            <a:ext cx="2016360" cy="576360"/>
          </a:xfrm>
          <a:prstGeom prst="wedgeRectCallout">
            <a:avLst>
              <a:gd name="adj1" fmla="val -62680"/>
              <a:gd name="adj2" fmla="val 117217"/>
            </a:avLst>
          </a:pr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рока состоя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6"/>
          <p:cNvSpPr/>
          <p:nvPr/>
        </p:nvSpPr>
        <p:spPr>
          <a:xfrm flipH="1">
            <a:off x="178560" y="6093000"/>
            <a:ext cx="2016360" cy="576000"/>
          </a:xfrm>
          <a:prstGeom prst="wedgeRectCallout">
            <a:avLst>
              <a:gd name="adj1" fmla="val -61185"/>
              <a:gd name="adj2" fmla="val -7578"/>
            </a:avLst>
          </a:pr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рока сооб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7"/>
          <p:cNvSpPr/>
          <p:nvPr/>
        </p:nvSpPr>
        <p:spPr>
          <a:xfrm flipH="1">
            <a:off x="178560" y="2060640"/>
            <a:ext cx="2016360" cy="576360"/>
          </a:xfrm>
          <a:prstGeom prst="wedgeRectCallout">
            <a:avLst>
              <a:gd name="adj1" fmla="val -57481"/>
              <a:gd name="adj2" fmla="val -46694"/>
            </a:avLst>
          </a:pr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анель инстр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20"/>
          <p:cNvSpPr/>
          <p:nvPr/>
        </p:nvSpPr>
        <p:spPr>
          <a:xfrm flipH="1">
            <a:off x="178560" y="1268280"/>
            <a:ext cx="2016360" cy="576360"/>
          </a:xfrm>
          <a:prstGeom prst="wedgeRectCallout">
            <a:avLst>
              <a:gd name="adj1" fmla="val -57481"/>
              <a:gd name="adj2" fmla="val 67629"/>
            </a:avLst>
          </a:pr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анель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ню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21"/>
          <p:cNvSpPr/>
          <p:nvPr/>
        </p:nvSpPr>
        <p:spPr>
          <a:xfrm flipH="1">
            <a:off x="250920" y="333360"/>
            <a:ext cx="2016000" cy="576360"/>
          </a:xfrm>
          <a:prstGeom prst="wedgeRectCallout">
            <a:avLst>
              <a:gd name="adj1" fmla="val -119921"/>
              <a:gd name="adj2" fmla="val 191870"/>
            </a:avLst>
          </a:pr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рока загол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53964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cca"/>
                </a:solidFill>
                <a:latin typeface="Calibri"/>
              </a:rPr>
              <a:t>Панель переключе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2340000" y="4221000"/>
            <a:ext cx="65530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нопка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Times New Roman"/>
                <a:hlinkClick r:id="rId1" action="ppaction://hlinksldjump"/>
              </a:rPr>
              <a:t>Панель геометрические постро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нопка Панель размеро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нопка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Times New Roman"/>
                <a:hlinkClick r:id="rId2" action="ppaction://hlinksldjump"/>
              </a:rPr>
              <a:t>Панель редакт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нопка Панель измер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нопка Панель вы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"/>
          <p:cNvPicPr/>
          <p:nvPr/>
        </p:nvPicPr>
        <p:blipFill>
          <a:blip r:embed="rId3"/>
          <a:srcRect l="0" t="9032" r="94278" b="85554"/>
          <a:stretch/>
        </p:blipFill>
        <p:spPr>
          <a:xfrm>
            <a:off x="250920" y="1413000"/>
            <a:ext cx="2016000" cy="143028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8"/>
          <p:cNvSpPr/>
          <p:nvPr/>
        </p:nvSpPr>
        <p:spPr>
          <a:xfrm>
            <a:off x="2627280" y="1413000"/>
            <a:ext cx="626580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этой панели расположены кнопки для переключения между страницами Инструментальной пан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переключении меняются кнопки команд, отображаемые на Инструментальной пан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2340000" y="1916280"/>
            <a:ext cx="648000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содержит кнопки, позволяющие рисовать на чертеже определенные объект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190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очк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190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трезо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190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круж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190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рямоугольник и другие.</a:t>
            </a: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"/>
          <p:cNvPicPr/>
          <p:nvPr/>
        </p:nvPicPr>
        <p:blipFill>
          <a:blip r:embed="rId1">
            <a:lum contrast="18000"/>
          </a:blip>
          <a:srcRect l="0" t="9091" r="94256" b="66481"/>
          <a:stretch/>
        </p:blipFill>
        <p:spPr>
          <a:xfrm>
            <a:off x="295200" y="692280"/>
            <a:ext cx="1830600" cy="583236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6"/>
          <p:cNvSpPr/>
          <p:nvPr/>
        </p:nvSpPr>
        <p:spPr>
          <a:xfrm>
            <a:off x="2195640" y="1989000"/>
            <a:ext cx="288720" cy="4535640"/>
          </a:xfrm>
          <a:custGeom>
            <a:avLst/>
            <a:gdLst>
              <a:gd name="textAreaLeft" fmla="*/ 0 w 288720"/>
              <a:gd name="textAreaRight" fmla="*/ 104040 w 288720"/>
              <a:gd name="textAreaTop" fmla="*/ 118080 h 4535640"/>
              <a:gd name="textAreaBottom" fmla="*/ 4417560 h 453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2916360" y="457200"/>
            <a:ext cx="5770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0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cca"/>
                </a:solidFill>
                <a:latin typeface="Calibri"/>
              </a:rPr>
              <a:t>Рабочая панель</a:t>
            </a:r>
            <a:r>
              <a:rPr b="0" lang="ru-RU" sz="40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8cca"/>
                </a:solidFill>
                <a:latin typeface="Calibri"/>
              </a:rPr>
              <a:t>Редактирование</a:t>
            </a:r>
            <a:r>
              <a:rPr b="0" lang="ru-RU" sz="4000" spc="-1" strike="noStrike">
                <a:solidFill>
                  <a:srgbClr val="008cca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2556000" y="1981080"/>
            <a:ext cx="640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одержит кнопки, которые позволяют вносить изменения в чертеж, производя над объектами различные опера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190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еремещ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190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опирова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190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масштабирование и друг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1"/>
          <a:srcRect l="-192" t="9396" r="94208" b="65704"/>
          <a:stretch/>
        </p:blipFill>
        <p:spPr>
          <a:xfrm>
            <a:off x="468360" y="692280"/>
            <a:ext cx="1824120" cy="5688000"/>
          </a:xfrm>
          <a:prstGeom prst="rect">
            <a:avLst/>
          </a:prstGeom>
          <a:ln w="0">
            <a:noFill/>
          </a:ln>
        </p:spPr>
      </p:pic>
      <p:sp>
        <p:nvSpPr>
          <p:cNvPr id="225" name="AutoShape 6"/>
          <p:cNvSpPr/>
          <p:nvPr/>
        </p:nvSpPr>
        <p:spPr>
          <a:xfrm>
            <a:off x="2411280" y="1773360"/>
            <a:ext cx="289080" cy="4608360"/>
          </a:xfrm>
          <a:custGeom>
            <a:avLst/>
            <a:gdLst>
              <a:gd name="textAreaLeft" fmla="*/ 0 w 289080"/>
              <a:gd name="textAreaRight" fmla="*/ 104400 w 289080"/>
              <a:gd name="textAreaTop" fmla="*/ 119880 h 4608360"/>
              <a:gd name="textAreaBottom" fmla="*/ 4488480 h 46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31T07:35:58Z</dcterms:created>
  <dc:creator>Настенька</dc:creator>
  <dc:description/>
  <dc:language>en-US</dc:language>
  <cp:lastModifiedBy>пк2</cp:lastModifiedBy>
  <dcterms:modified xsi:type="dcterms:W3CDTF">2013-04-06T05:00:20Z</dcterms:modified>
  <cp:revision>7</cp:revision>
  <dc:subject/>
  <dc:title>Программа КОМПАС 3D.</dc:title>
</cp:coreProperties>
</file>