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D7B-BD9C-48DE-A9C4-0E0E2653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7A1-B06A-4C54-BCF9-9482F4BF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3616-B799-4BBB-B1CC-7AADC587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4E5-C146-4F86-A6F3-C351E623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653-F6B2-4C5B-AB88-86C3139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9878-4115-4913-A950-34218F24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838-BF73-4AB1-8601-BC69D490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1B8D-D160-458F-81BB-AB44A57D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525-D236-4DCE-A4AA-743A6F08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49C-BEF8-400A-B751-5DE4A826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430-FB86-4FAA-8A76-70D5AA7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E93-B544-4F81-A855-AEB4733A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41A-CD06-4E35-B975-E031AEAF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4d4d4d"/>
                </a:solidFill>
                <a:latin typeface="Calibri"/>
              </a:rPr>
              <a:t>В.М. Головнин.</a:t>
            </a:r>
            <a:br>
              <a:rPr sz="4400"/>
            </a:br>
            <a:r>
              <a:rPr b="0" i="1" lang="en-US" sz="4400" spc="-1" strike="noStrike">
                <a:solidFill>
                  <a:srgbClr val="4d4d4d"/>
                </a:solidFill>
                <a:latin typeface="Calibri"/>
              </a:rPr>
              <a:t>Служение во славу Оте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1773360"/>
            <a:ext cx="3895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772080" cy="5661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Памятник В.М. Головнину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в р.п. Старожилово Ряза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1108080"/>
            <a:ext cx="8642160" cy="5749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Памятная стела в честь В.М. Головнина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в Старожиловском районе Ряз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508428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В память о В.М. Головнине в Океании была выпущена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Calibri"/>
              </a:rPr>
              <a:t>серия юбилейных почтовых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5280" y="1052640"/>
            <a:ext cx="8353440" cy="40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Давно называют свет бурным океаном,</a:t>
            </a:r>
            <a:br>
              <a:rPr sz="2800"/>
            </a:br>
            <a:r>
              <a:rPr b="0" i="1" lang="en-US" sz="2800" spc="-1" strike="noStrike">
                <a:solidFill>
                  <a:srgbClr val="4d4d4d"/>
                </a:solidFill>
                <a:latin typeface="Calibri"/>
              </a:rPr>
              <a:t>но счастлив, кто плывёт с компасом.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.М. Карамзин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55640" y="1779480"/>
            <a:ext cx="763272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Кругосветное путешествие В.М. Головнина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а шлюпе «Диана» в 1807-1809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5 июля 1807 г. ― выход «Дианы» из Кронштад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1807 г. ― достижение мыса Гор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сентябрь 1807 г. ― вынужденная стоянка в Портсму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9 января 1808 г. ― остановка на острове Святой Екатерины (Бразил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1808 г. ― прибытие к берегам мыса Доброй На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апрель 1808 г. ― задержание экипажа корабля английской эскадрой в Саймонтау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май-сентябрь 1809 г. ― смелое освобождение из плена переход до острова Тана (Новогебридский архипелаг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3 сентября 1809 г. ― прибытие в Петропавловск-Камчат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d4d4d"/>
                </a:solidFill>
                <a:latin typeface="Calibri"/>
              </a:rPr>
              <a:t>Шлюп «Диа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35280" y="0"/>
            <a:ext cx="55242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Calibri"/>
              </a:rPr>
              <a:t>Исследование Камчат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Кругосветное путешествие В.М. Головнина</a:t>
            </a:r>
            <a:br>
              <a:rPr sz="2800"/>
            </a:br>
            <a:r>
              <a:rPr b="1" i="1" lang="en-US" sz="2800" spc="-1" strike="noStrike">
                <a:solidFill>
                  <a:srgbClr val="4d4d4d"/>
                </a:solidFill>
                <a:latin typeface="Calibri"/>
              </a:rPr>
              <a:t>на шлюпе «Камчатка» в 1807-1809 г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6 августа 1817 г. ― начало путеше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3 октября 1817 г. ― достижение экват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6 ноября 1817 г. ― прибытие в Рио-де-Жанейро (Бразил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май 1818 г. ― прибытие на Камчат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июнь 1818 г. ― вход в Павловскую гавань на острове Кадья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август 1818 г. ― прибытие к берегам Калифор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октябрь 1818 г. ― достижение Гавайских остров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20 июля 1819 г. ― остановка в Портсму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5 сентября 1819 г. ― возвращение в Кронштад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d4d4d"/>
                </a:solidFill>
                <a:latin typeface="Calibri"/>
              </a:rPr>
              <a:t>Шлюп «Камчат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50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alibri"/>
              </a:rPr>
              <a:t>Карта кругосветных путешествий В.М. Голов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Музей династии Головниных в с. Троицы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Calibri"/>
              </a:rPr>
              <a:t>Спасского района Ряз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1069920"/>
            <a:ext cx="72007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0:40:53Z</dcterms:created>
  <dc:creator>Ann</dc:creator>
  <dc:description/>
  <dc:language>en-US</dc:language>
  <cp:lastModifiedBy>User</cp:lastModifiedBy>
  <dcterms:modified xsi:type="dcterms:W3CDTF">2013-04-06T07:31:54Z</dcterms:modified>
  <cp:revision>124</cp:revision>
  <dc:subject/>
  <dc:title>В.М. Головнин. Служение во славу Отечества</dc:title>
</cp:coreProperties>
</file>