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61D-B27A-40BB-94A2-E4A44DEC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15A-17B1-411D-BC84-950F0C0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6BD-A49C-433F-8618-2159FC2E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ACF-ACB0-4FB2-A2AC-880B7E3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600-E5AA-4B1F-8559-48BDCDCC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F44-1AC6-462F-B374-B400CD7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CD2-B30C-40C6-B070-FA413BB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CBF-2CBD-4588-9B7A-F8AF868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E7E-28B8-4970-935A-9D6E78D3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95A-544A-4CA3-BF0F-B68FAE1A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5EE-3F25-4B7F-BA36-ED895ED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DEC-9956-4CBA-8399-0F11029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B06-1485-4BA2-A5F3-E4CCB39BF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d4d4d"/>
                </a:solidFill>
                <a:latin typeface="Calibri"/>
              </a:rPr>
              <a:t>В.М. Головнин.</a:t>
            </a:r>
            <a:br>
              <a:rPr sz="4400"/>
            </a:br>
            <a:r>
              <a:rPr b="0" i="1" lang="en-US" sz="4400" spc="-1" strike="noStrike">
                <a:solidFill>
                  <a:srgbClr val="4d4d4d"/>
                </a:solidFill>
                <a:latin typeface="Calibri"/>
              </a:rPr>
              <a:t>Служение во славу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895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772080" cy="5661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Памятник В.М. Головнину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в р.п. Старожилово Ряза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08080"/>
            <a:ext cx="8642160" cy="5749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Памятная стела в честь В.М. Головнина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в Старожиловском районе Ряз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В память о В.М. Головнине в Океании была выпущена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серия юбилейных почтовых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35344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Давно называют свет бурным океаном,</a:t>
            </a:r>
            <a:br>
              <a:rPr sz="2800"/>
            </a:b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но счастлив, кто плывёт с компасом.</a:t>
            </a:r>
            <a:br>
              <a:rPr sz="2800"/>
            </a:b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Н.М. Карамзин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1779480"/>
            <a:ext cx="76327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Кругосветное путешествие В.М. Головнина</a:t>
            </a:r>
            <a:br>
              <a:rPr sz="2800"/>
            </a:b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на шлюпе «Диана» в 1807-1809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5 июля 1807 г. ― выход «Дианы» из Кронштад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1807 г. ― достижение мыса Гор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сентябрь 1807 г. ― вынужденная стоянка в Портсму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9 января 1808 г. ― остановка на острове Святой Екатерины (Бразил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1808 г. ― прибытие к берегам мыса Доброй На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апрель 1808 г. ― задержание экипажа корабля английской эскадрой в Саймонтау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май-сентябрь 1809 г. ― смелое освобождение из плена переход до острова Тана (Новогебридский архипелаг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3 сентября 1809 г. ― прибытие в Петропавловск-Камчат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d4d4d"/>
                </a:solidFill>
                <a:latin typeface="Calibri"/>
              </a:rPr>
              <a:t>Шлюп «Диа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5242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Calibri"/>
              </a:rPr>
              <a:t>Исследование Камчат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Кругосветное путешествие В.М. Головнина</a:t>
            </a:r>
            <a:br>
              <a:rPr sz="2800"/>
            </a:b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на шлюпе «Камчатка» в 1807-1809 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6 августа 1817 г. ― начало путе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3 октября 1817 г. ― достижение экват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6 ноября 1817 г. ― прибытие в Рио-де-Жанейро (Бразил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май 1818 г. ― прибытие на Камч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июнь 1818 г. ― вход в Павловскую гавань на острове Кадья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август 1818 г. ― прибытие к берегам Калифор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октябрь 1818 г. ― достижение Гавайских остро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0 июля 1819 г. ― остановка в Портсму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5 сентября 1819 г. ― возвращение в Кронштад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d4d4d"/>
                </a:solidFill>
                <a:latin typeface="Calibri"/>
              </a:rPr>
              <a:t>Шлюп «Камча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50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Карта кругосветных путешествий В.М. Голов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Музей династии Головниных в с. Троицы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Спасского района Ряз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1069920"/>
            <a:ext cx="7200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0:40:53Z</dcterms:created>
  <dc:creator>Ann</dc:creator>
  <dc:description/>
  <dc:language>en-US</dc:language>
  <cp:lastModifiedBy>User</cp:lastModifiedBy>
  <dcterms:modified xsi:type="dcterms:W3CDTF">2013-04-06T07:31:54Z</dcterms:modified>
  <cp:revision>124</cp:revision>
  <dc:subject/>
  <dc:title>В.М. Головнин. Служение во славу Отечества</dc:title>
</cp:coreProperties>
</file>