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gif" ContentType="image/gif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AE07-3D84-4BE3-8281-8ED572B27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C735-4923-4201-A543-8BBCFD27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0043-9F9B-473E-B362-AF05D081D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778C-F151-463F-AFF4-5A0375448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F5E7-B63C-45C4-9A2B-4945523E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AB14-B72C-4863-85A0-7C734333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0DC5-E928-4F34-B4CA-53F4A038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0EEA-9D08-40B9-ACCD-23E78BB5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6068-EBC6-4BA4-9CD8-0BBA3EC9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CF8E-4504-4727-91CD-963443F9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94CF-4331-43BE-870C-A3A17AAC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3296-624A-4433-AA9A-497F9FEB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3712-5713-4622-B8C5-B3602D5ED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gif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Match and s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1341360"/>
            <a:ext cx="7416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Dres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blouse  </a:t>
            </a:r>
            <a:r>
              <a:rPr b="0" lang="en-US" sz="3600" spc="-1" strike="noStrike">
                <a:solidFill>
                  <a:srgbClr val="808000"/>
                </a:solidFill>
                <a:latin typeface="Arial"/>
              </a:rPr>
              <a:t>ha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9933ff"/>
                </a:solidFill>
                <a:latin typeface="Arial"/>
              </a:rPr>
              <a:t>T-shir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skirt </a:t>
            </a:r>
            <a:r>
              <a:rPr b="0" lang="en-US" sz="3600" spc="-1" strike="noStrike">
                <a:solidFill>
                  <a:srgbClr val="336600"/>
                </a:solidFill>
                <a:latin typeface="Arial"/>
              </a:rPr>
              <a:t>trousers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socks 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h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732720" y="4292640"/>
            <a:ext cx="1493640" cy="1225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4000" y="2276640"/>
            <a:ext cx="1439640" cy="1384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050920" y="2852640"/>
            <a:ext cx="1608120" cy="1584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443640" y="2276640"/>
            <a:ext cx="1873440" cy="1522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4572000" y="4508640"/>
            <a:ext cx="1441440" cy="1439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4500720" y="270828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2484360" y="4869000"/>
            <a:ext cx="1295640" cy="1224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324000" y="4508640"/>
            <a:ext cx="1400040" cy="128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ayarnaya T.G. school № 203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5:05:21Z</dcterms:created>
  <dc:creator>Admin</dc:creator>
  <dc:description/>
  <dc:language>en-US</dc:language>
  <cp:lastModifiedBy>Admin</cp:lastModifiedBy>
  <dcterms:modified xsi:type="dcterms:W3CDTF">2010-02-28T15:23:37Z</dcterms:modified>
  <cp:revision>4</cp:revision>
  <dc:subject/>
  <dc:title>Match and say</dc:title>
</cp:coreProperties>
</file>