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FAF-9028-4F00-9D25-620A1669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140-2115-457F-BA1F-B086B4EE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EFE-2904-48B6-9FA7-015A8849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B2D-6DDD-4038-A81D-1CF0772F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CE0-939B-4932-A5ED-F9C4F835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684-F5F2-4818-A66C-5C6AD98D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AD8-55C4-43EA-BBB9-72EE475F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909-A56E-4714-AED6-FF006AB1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E41-0073-4F37-851C-1758B71A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C28-B144-4BEA-966C-AED58CBC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B80-2A4A-453D-9D6A-2F755142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36C-6F31-4631-BBE5-87E64DBD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0A05-ED9A-4CA2-9031-C8517CAD0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gif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tch and 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341360"/>
            <a:ext cx="7416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Dre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blouse  </a:t>
            </a:r>
            <a:r>
              <a:rPr b="0" lang="en-US" sz="3600" spc="-1" strike="noStrike">
                <a:solidFill>
                  <a:srgbClr val="808000"/>
                </a:solidFill>
                <a:latin typeface="Arial"/>
              </a:rPr>
              <a:t>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T-shir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skirt </a:t>
            </a: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trousers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socks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32720" y="4292640"/>
            <a:ext cx="1493640" cy="122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1439640" cy="1384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050920" y="2852640"/>
            <a:ext cx="1608120" cy="158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443640" y="2276640"/>
            <a:ext cx="1873440" cy="1522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572000" y="4508640"/>
            <a:ext cx="1441440" cy="143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500720" y="2708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484360" y="4869000"/>
            <a:ext cx="1295640" cy="1224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24000" y="4508640"/>
            <a:ext cx="140004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yarnaya T.G. school № 203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5:05:21Z</dcterms:created>
  <dc:creator>Admin</dc:creator>
  <dc:description/>
  <dc:language>en-US</dc:language>
  <cp:lastModifiedBy>Admin</cp:lastModifiedBy>
  <dcterms:modified xsi:type="dcterms:W3CDTF">2010-02-28T15:23:37Z</dcterms:modified>
  <cp:revision>4</cp:revision>
  <dc:subject/>
  <dc:title>Match and say</dc:title>
</cp:coreProperties>
</file>