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117FA-48FF-4F7F-890B-6DECB90AD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11D45-E6F3-4C71-8F58-747AA39F9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929EE-0DA5-44D0-8FFA-1297C8FD6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B24E5-9C55-4DEE-B206-EC64222C1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257F5B-4EBE-46AC-8DEB-6DC3AF4A1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F707A5-2BDF-41EB-AD11-A001A206C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384111-F6C6-47BC-B4B4-34B130B79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3E6885-F298-4DF3-AE6D-5325C5019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85DDA3-4A26-4985-885F-2152D1AF5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C07943-4C6C-4FF8-82B6-8A3E3F7DD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AB8633-E2BF-4BA3-B09C-83C4EE8D4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0DA3C-1A3F-4F02-9B6B-C00844DDB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C0F25A-9418-4939-9525-FBB84C73F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706683-AE01-4CBD-9990-64DB28EB2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1C0B2A-0B8D-4B67-87FB-0A67FDC06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40F61D-C593-4C61-80AE-E345F39C7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020360-3B96-4A52-9F62-3FE668FDB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12B92-924B-4733-9450-36B353689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EA621-21AA-4DA4-890C-A360A11B9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7CD21-1176-4B17-8496-52EC582FE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60B3D-3F37-4D55-97C9-DA0367313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DC8BD-F73D-443B-A15D-39610B8E6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07AF0-512E-4390-8F55-4C749CE90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2DA54-EE51-4FE9-B1A4-A901DF71D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0B90C-4A44-4431-B7F2-643014A5A28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C05F8-C91F-40AB-9FA9-EB4BD392158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Tahoma"/>
              </a:rPr>
              <a:t>Материалы Монтессор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делала Захарова Н.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тудентка 5 курса з/о логопед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ahoma"/>
              </a:rPr>
              <a:t>   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Tahoma"/>
              </a:rPr>
              <a:t>Устный урок:</a:t>
            </a:r>
            <a:r>
              <a:rPr b="0" lang="ru-RU" sz="3200" spc="-1" strike="noStrike">
                <a:solidFill>
                  <a:srgbClr val="ff3300"/>
                </a:solidFill>
                <a:latin typeface="Tahoma"/>
              </a:rPr>
              <a:t> Он посвящён названием цветов жёлтый,красный, голубой(трёхступенчатый урок)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Применение: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Ребёнок,выбирает один,какой-нибудь цвет и ищет в комнате предметы того же цвет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ahoma"/>
              </a:rPr>
              <a:t>Материал для различения структуры поверхностей и материалов.</a:t>
            </a:r>
            <a:br>
              <a:rPr sz="2800"/>
            </a:b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3.Клавишная доска (шероховатый- гладкий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Материал: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Доска(24 см. Х 12 см.), которая разделена на2 квадрата. Один квадрат гладко отлакирован,другой обтянут шершавой бумагой.Доска(24см. Х 12см.), которая разделена на9 равных полос.Они поперечно отлакированы или обтянуты шершавой бумагой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Прямая цель: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Развитие осязания. Узнать различные качества поверхностей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Возраст: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Около трёх лет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Как работать с материалом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Учитель берёт первую доску. Он показывает,как пальцами одной руки с расслабленным запястьем медленно и легко сверху вниз проводят сначала по одной, потом по другой поверхности.Делает это несколько раз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5003640" y="2205000"/>
            <a:ext cx="367200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ебёнок повторяет упражнение.Затем учитель берёт вторую доску, снова легко касается поверхности,но теперь уже только указательным и средним пальцами,так как промежуток очень узок.Начинает с одного края доски и переходит затем от одного к другому промежутку.Чувствительность концов пальцев можно повысить с помощью мытья рук в тёплой воде. Касание должно быть таким лёгким,словно пальцы парят над поверхностью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Контроль над ошибками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азличные качества шершавой и гладкой поверхносте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Дальнейшие упражнения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икоснуться сначала ко всем шершавым, затем ко всем гладким поверхностя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Tahoma"/>
              </a:rPr>
              <a:t>Устный урок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Tahoma"/>
              </a:rPr>
              <a:t>Шершавый– гладкий. Учитель закрывает глаза, касается пальцами шершавой поверхности и говорит:«Шершавая».Лучшая концентрация при касании.Затем он касается гладкой поверхности и говорит: «Гладкая».Он делает это несколько раз и побуждает повторить ребёнка (1-я ступень). «Покажи мне шершавую поверхность,покажи мне гладкую!» Ребёнок отвечает: «шершавая».Какая на ощупь другая поверхность?»-«Гладкая» (3-я ступень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Применение: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Учитель предлагает ребёнку: «Найди в комнате что-нибудь шершавое!»;«Найди что-нибудь гладкое!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ahoma"/>
              </a:rPr>
              <a:t>Материал для различения вкусовых качеств.</a:t>
            </a:r>
            <a:br>
              <a:rPr sz="4000"/>
            </a:br>
            <a:r>
              <a:rPr b="1" lang="en-US" sz="4000" spc="-1" strike="noStrike">
                <a:solidFill>
                  <a:srgbClr val="ff3300"/>
                </a:solidFill>
                <a:latin typeface="Tahoma"/>
              </a:rPr>
              <a:t>4. </a:t>
            </a: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Вкусовые банки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Материал: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8 баночек,8 пипеток, маленькая ложечка. Готовят4 раствора: сладкий(раствор сахара),солёный (раствор соли), кислый(раствор уксуса или лимона),горький раствор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Цель: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Дифференциация восприятия с помощью вкусовых ощущений, различение вкусовых качеств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Возраст: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Около четырёх лет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Как работать с материалом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В присутствии ребёнка учитель готовит 4 раствора:сладкий, солёный,кислый и горький. Каждые2 банки он заполняет одинаковым раствором.Берёт одну банку с раствором и чётко показывает,как с помощью пипетки нужно взять из банки несколько капель и накапать их на ложку. Важно чётко показать, как обращаться с пипеткой, так как это действие непривычно. Ребёнок пробует.Точно так же учитель поступает с другими банками. Ребёнок узнаёт,что, содержимое,которое одинаково по вкусу, ставятся рядом друг с другом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4648320" y="194328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66"/>
                </a:solidFill>
                <a:latin typeface="Tahoma"/>
              </a:rPr>
              <a:t>Устный урок: Назвать вкус жидкостей: сладкий - солёный- кислый - горький. Название связывается со вкусом жидкости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рименение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Определить знакомые вкусовые качества пищевых продуктов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Установить различный вкус сортов хлеба,сорто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Tahoma"/>
              </a:rPr>
              <a:t>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Tahoma"/>
              </a:rPr>
              <a:t>         </a:t>
            </a:r>
            <a:r>
              <a:rPr b="0" lang="en-US" sz="3200" spc="-1" strike="noStrike">
                <a:solidFill>
                  <a:srgbClr val="ff0066"/>
                </a:solidFill>
                <a:latin typeface="Tahoma"/>
              </a:rPr>
              <a:t>СПАСИБО ЗА ВНИМАНИЕ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3300"/>
                </a:solidFill>
                <a:latin typeface="Tahoma"/>
              </a:rPr>
              <a:t>Если научной педагогике суждено родиться из изучения личности, то это изучение должно заключаться в наблюдении свободных детей"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cc00"/>
                </a:solidFill>
                <a:latin typeface="Tahoma"/>
              </a:rPr>
              <a:t>           </a:t>
            </a:r>
            <a:r>
              <a:rPr b="0" i="1" lang="ru-RU" sz="3600" spc="-1" strike="noStrike">
                <a:solidFill>
                  <a:srgbClr val="ffcc00"/>
                </a:solidFill>
                <a:latin typeface="Tahoma"/>
              </a:rPr>
              <a:t>Мария Монтессори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Tahoma"/>
              </a:rPr>
              <a:t>          </a:t>
            </a:r>
            <a:r>
              <a:rPr b="0" lang="ru-RU" sz="4400" spc="-1" strike="noStrike">
                <a:solidFill>
                  <a:srgbClr val="ff3300"/>
                </a:solidFill>
                <a:latin typeface="Tahoma"/>
              </a:rPr>
              <a:t>Мария Монтессор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2509920" y="1905120"/>
            <a:ext cx="41227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Tahoma"/>
              </a:rPr>
              <a:t>Материалы для развития чувств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Эти материалы развивают различные сферы чувств, такие,как осязание,вкус, обоняние. На этих материалах ребёнок учится слушать тишину и звуки, различать вес, цвет и форму предметов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ahoma"/>
              </a:rPr>
              <a:t>1.Розовая башн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Материал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: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Розовая башня состоит из 10 кубиков(тяжёлое дерево,розовый цвет)разных размеров.Длина ребра наименьшего кубика 1 см., длина ребра наибольшего кубика 10 см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Прямая цель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: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Формирование понятий «большой»- «маленький»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Косвенная цель: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Развитие моторики, координации движений, умения упорядочивать предметы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Возраст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: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Около трёх лет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Как работать с материалом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Место для работы -ковёр, на котором лежат в беспорядке кубики. Ковёр должен отличаться по цвету материала.Учитель берёт одной рукой самый большой куб и ставит его перед ребёнком,берёт следующий по величине куб и ставит точно сверху на первый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5124600" y="1905120"/>
            <a:ext cx="30844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Младшие дети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берут большой куб обеими руками.Обхватывая и сжимая кубики в руках, дети учатся различать размеры. При этом надо обратить внимание на равные промежутки между боковыми гранями меньшего и большего кубов и на целенаправленность действий при построении башни. Так, по порядку уменьшения размеров, кубики ставятся друг на друга, и получается башня. Мы можем руками провести по боковым граням башни снизу вверх и сверху вниз.После этого ребёнку становится понятной закономерность изменения величин. Башню разбирают кубик за кубиком.Ребёнок может повторить упражнение.Этим завершается весь ход упражнения.Оно закончено,когда материал возвращён на своё место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Контроль над ошибками</a:t>
            </a: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: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Если заданный порядок построения башни не соблюдён,то ошибка определяется зрительно или с помощью рук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Дальнейшие упражнения: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-Вариации основного упражнения в вертикальном и горизонтальном направлениях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-Кубики нужно так поставить друг на друга или положить друг за другом,чтобы угол и две стороны каждого кубика совпали. Самый маленький кубик ставится, на образовавшемся,свободное место. Самый маленький кубик можно считать воплощённой мерой изменения величин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-Кубики так раскладывают один за другим,чтобы последующий меньший куб приставлялся к середине грани предыдущего поочерёдно то слева, то справа от её средней линии.При этом будет понятна статическая закономерность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-Кубики ставятся друг за другом по диагонали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-Изменение зада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-Ряд кубиков прерывают,вынимая из него один кубик, и ребёнку становится очевидной дисгармония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-Башня строится с закрытыми глазами.зада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нного порядка 10 -1 с учётом гармонии,в вертикальном и горизонтальном направлениях;10-5-9-4-8-3-7-2-6-1 или 10-1-9-2-8-3-7-4-6-5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Через подобную закономерность ребёнок может найти много вариаций работы с материалом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ahoma"/>
              </a:rPr>
              <a:t>Словесный урок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Tahoma"/>
              </a:rPr>
              <a:t>большой- маленький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Tahoma"/>
              </a:rPr>
              <a:t>большой- больше - самый большой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Tahoma"/>
              </a:rPr>
              <a:t>маленький- меньше - самый маленький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Tahoma"/>
              </a:rPr>
              <a:t>самый большой самый маленький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Tahoma"/>
              </a:rPr>
              <a:t>больше,чем - меньше,чем (трёхступенчатый урок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Применение:</a:t>
            </a:r>
            <a:r>
              <a:rPr b="0" lang="ru-RU" sz="2400" spc="-1" strike="noStrike">
                <a:solidFill>
                  <a:srgbClr val="ffff00"/>
                </a:solidFill>
                <a:latin typeface="Tahoma"/>
              </a:rPr>
              <a:t>-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Предложить найти кубы равного размера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-Перенос понятия «большой- маленький»на предметы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-Предложить найти градации величин других предметов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Tahoma"/>
              </a:rPr>
              <a:t>Материал для различения цвета</a:t>
            </a:r>
            <a:br>
              <a:rPr sz="4000"/>
            </a:br>
            <a:r>
              <a:rPr b="0" lang="en-US" sz="4000" spc="-1" strike="noStrike">
                <a:solidFill>
                  <a:srgbClr val="ff3300"/>
                </a:solidFill>
                <a:latin typeface="Tahoma"/>
              </a:rPr>
              <a:t>2.</a:t>
            </a:r>
            <a:r>
              <a:rPr b="0" lang="en-US" sz="4000" spc="-1" strike="noStrike">
                <a:solidFill>
                  <a:srgbClr val="ffff00"/>
                </a:solidFill>
                <a:latin typeface="Tahoma"/>
              </a:rPr>
              <a:t>Цветные таблички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Материал: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Ящик 1содержит по2 таблички жёлтого,красного и голубого цвета.Короткие стороны табличек снабжены планками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Прямая цель: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Различение основных цветов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Косвенная цель: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Развитие тонкой моторики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Возраст: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Около трёх лет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Как работать с материалом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Учитель вынимает из ящика таблички и перемещает их. Он выбирает две таблички одного цвета и кладёт их одну рядом с другой. При работе с этим материалом требуется хорошее освещение.Как обращаться с табличками,ясно по их внешнему виду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4648320" y="2349360"/>
            <a:ext cx="403848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ля того чтобы лучше рассмотреть цветовую поверхность,нужно взяться за верхнюю и нижнюю планку таблички. Затем учитель берёт другую табличку и кладёт её рядом с ней.Последняя пара табличек кладётся под первыми двумя парами.Пары упорядоченных по цвету табличек ясно отделяются друг от друга планками. Ребёнок повторяет упражнение по выбору пар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Контроль над ошибками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: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Контроль ребёнок может провести при помощи зрительного сравнения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Дальнейшие упражнения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-Раскладывают по табличке жёлтого, красного и голубого цвета, а остальные таблички ребёнок кладёт в разные места комнаты.Теперь учитель указывает ребёнку на одну из табличек на его рабочем месте и просит принести из комнаты табличку такого же цвет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Упражнение на запоминание.Так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поступают со всеми табличками,лежащими на рабочем месте ребёнк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3T12:42:50Z</dcterms:created>
  <dc:creator>Наталья</dc:creator>
  <dc:description/>
  <dc:language>en-US</dc:language>
  <cp:lastModifiedBy>Наталья</cp:lastModifiedBy>
  <dcterms:modified xsi:type="dcterms:W3CDTF">2013-04-03T13:35:09Z</dcterms:modified>
  <cp:revision>2</cp:revision>
  <dc:subject/>
  <dc:title>Материалы Монтессори</dc:title>
</cp:coreProperties>
</file>