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E72-8547-4A03-A469-3119E9E9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3A5-025E-46B3-941B-0E437B0C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9A0-7A63-4DAA-B228-0943F40E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B38-D6B6-4F4B-A4FD-92FC92F0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F4D61-BA7E-4D67-91DD-80CE8619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E0518-8D2A-4A7D-8A06-841480D3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4C70F-698E-4041-9433-45C92B6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8FE6F-C24F-4B42-B9A4-75AD61A7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826D4-FAD8-4218-82F8-D895EF1E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9E6FC-1E89-4646-ABED-1BADC703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8A470-DB18-47ED-A4E3-4DA729F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37F-6413-42C7-9248-19C93916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F8DA6-AD96-48BA-B5CA-6925E5B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15676-7D41-4ED9-9958-DB8DF6F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9BC1E-6BEA-4FFF-85F9-21541E7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E826B-9ED4-4790-918A-D26356D3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F6591-597E-41E4-83E4-6FB44F78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83A-DA71-43F8-8D63-7F27952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E24-9DD7-4652-A18E-7BBEFCB2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226-ADFE-47E4-964F-CFABC86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D99-542E-41A8-8387-D61E8558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DDC-CC07-48B7-8C94-BAAE261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439-BE5E-4F1B-A189-8659727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906-3147-4E55-A628-1B07BD4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AAF7-BA3A-4E75-9F9E-37EA5A598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642E-71AC-4377-A0BB-B126E175B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атериалы Монтессо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ла Захарова Н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удентка 5 курса з/о логопед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Устный урок: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Он посвящён названием цветов жёлтый,красный, голубой(трёхступенчатый урок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ебёнок,выбирает один,какой-нибудь цвет и ищет в комнате предметы того же ц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Материал для различения структуры поверхностей и материалов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3.Клавишная доска (шероховатый- гладк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ска(24 см. Х 12 см.), которая разделена на2 квадрата. Один квадрат гладко отлакирован,другой обтянут шершавой бумагой.Доска(24см. Х 12см.), которая разделена на9 равных полос.Они поперечно отлакированы или обтянуты шершавой бумаг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ямая цел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азвитие осязания. Узнать различные качества поверхнос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зраст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коло трёх ле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работать с материалом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берёт первую доску. Он показывает,как пальцами одной руки с расслабленным запястьем медленно и легко сверху вниз проводят сначала по одной, потом по другой поверхности.Делает это несколько ра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ёнок повторяет упражнение.Затем учитель берёт вторую доску, снова легко касается поверхности,но теперь уже только указательным и средним пальцами,так как промежуток очень узок.Начинает с одного края доски и переходит затем от одного к другому промежутку.Чувствительность концов пальцев можно повысить с помощью мытья рук в тёплой воде. Касание должно быть таким лёгким,словно пальцы парят над поверх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троль над ошибка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ные качества шершавой и гладкой поверхн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льнейшие упражнен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коснуться сначала ко всем шершавым, затем ко всем гладким поверхнос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Устный уро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Шершавый– гладкий. Учитель закрывает глаза, касается пальцами шершавой поверхности и говорит:«Шершавая».Лучшая концентрация при касании.Затем он касается гладкой поверхности и говорит: «Гладкая».Он делает это несколько раз и побуждает повторить ребёнка (1-я ступень). «Покажи мне шершавую поверхность,покажи мне гладкую!» Ребёнок отвечает: «шершавая».Какая на ощупь другая поверхность?»-«Гладкая» (3-я ступен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читель предлагает ребёнку: «Найди в комнате что-нибудь шершавое!»;«Найди что-нибудь гладкое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Материал для различения вкусовых качеств.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4.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кусовые бан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атериал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 баночек,8 пипеток, маленькая ложечка. Готовят4 раствора: сладкий(раствор сахара),солёный (раствор соли), кислый(раствор уксуса или лимона),горький раство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Дифференциация восприятия с помощью вкусовых ощущений, различение вкусовых качест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зраст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коло четырёх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ак работать с материал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рисутствии ребёнка учитель готовит 4 раствора:сладкий, солёный,кислый и горький. Каждые2 банки он заполняет одинаковым раствором.Берёт одну банку с раствором и чётко показывает,как с помощью пипетки нужно взять из банки несколько капель и накапать их на ложку. Важно чётко показать, как обращаться с пипеткой, так как это действие непривычно. Ребёнок пробует.Точно так же учитель поступает с другими банками. Ребёнок узнаёт,что, содержимое,которое одинаково по вкусу, ставятся рядом друг с друг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19432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Устный урок: Назвать вкус жидкостей: сладкий - солёный- кислый - горький. Название связывается со вкусом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Определить знакомые вкусовые качества пищевых продук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ить различный вкус сортов хлеба,сор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Tahoma"/>
              </a:rPr>
              <a:t>Если научной педагогике суждено родиться из изучения личности, то это изучение должно заключаться в наблюдении свободных детей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           </a:t>
            </a: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Мария Монтессор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ария Монтессо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920" y="1905120"/>
            <a:ext cx="412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Материалы для развития чув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материалы развивают различные сферы чувств, такие,как осязание,вкус, обоняние. На этих материалах ребёнок учится слушать тишину и звуки, различать вес, цвет и форму предме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1.Розовая баш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озовая башня состоит из 10 кубиков(тяжёлое дерево,розовый цвет)разных размеров.Длина ребра наименьшего кубика 1 см., длина ребра наибольшего кубика 10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ямая цель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ормирование понятий «большой»- «маленький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свенная цель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тие моторики, координации движений, умения упорядочивать предме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зраст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коло трёх л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работать с материалом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для работы -ковёр, на котором лежат в беспорядке кубики. Ковёр должен отличаться по цвету материала.Учитель берёт одной рукой самый большой куб и ставит его перед ребёнком,берёт следующий по величине куб и ставит точно сверху на первы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24600" y="1905120"/>
            <a:ext cx="308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ладшие де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берут большой куб обеими руками.Обхватывая и сжимая кубики в руках, дети учатся различать размеры. При этом надо обратить внимание на равные промежутки между боковыми гранями меньшего и большего кубов и на целенаправленность действий при построении башни. Так, по порядку уменьшения размеров, кубики ставятся друг на друга, и получается башня. Мы можем руками провести по боковым граням башни снизу вверх и сверху вниз.После этого ребёнку становится понятной закономерность изменения величин. Башню разбирают кубик за кубиком.Ребёнок может повторить упражнение.Этим завершается весь ход упражнения.Оно закончено,когда материал возвращён на своё мест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нтроль над ошибками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Если заданный порядок построения башни не соблюдён,то ошибка определяется зрительно или с помощью ру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ьнейшие упражнени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Вариации основного упражнения в вертикальном и горизонтальном направления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убики нужно так поставить друг на друга или положить друг за другом,чтобы угол и две стороны каждого кубика совпали. Самый маленький кубик ставится, на образовавшемся,свободное место. Самый маленький кубик можно считать воплощённой мерой изменения величин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убики так раскладывают один за другим,чтобы последующий меньший куб приставлялся к середине грани предыдущего поочерёдно то слева, то справа от её средней линии.При этом будет понятна статическая закономерность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убики ставятся друг за другом по диагона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Изменение за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Ряд кубиков прерывают,вынимая из него один кубик, и ребёнку становится очевидной дисгармо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Башня строится с закрытыми глазами.за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ного порядка 10 -1 с учётом гармонии,в вертикальном и горизонтальном направлениях;10-5-9-4-8-3-7-2-6-1 или 10-1-9-2-8-3-7-4-6-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ерез подобную закономерность ребёнок может найти много вариаций работы с материал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ловесный уро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ольшой- маленьк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ольшой- больше - самый больш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аленький- меньше - самый малень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самый большой самый маленьк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ольше,чем - меньше,чем (трёхступенчатый урок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менение: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едложить найти кубы равного разм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еренос понятия «большой- маленький»на предме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редложить найти градации величин других предм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Материал для различения цвета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Цветные таблич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щик 1содержит по2 таблички жёлтого,красного и голубого цвета.Короткие стороны табличек снабжены план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ямая цел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азличение основных цве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свенная цель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тие тонкой мотор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зраст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коло трёх л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работать с материал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вынимает из ящика таблички и перемещает их. Он выбирает две таблички одного цвета и кладёт их одну рядом с другой. При работе с этим материалом требуется хорошее освещение.Как обращаться с табличками,ясно по их внешнему ви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того чтобы лучше рассмотреть цветовую поверхность,нужно взяться за верхнюю и нижнюю планку таблички. Затем учитель берёт другую табличку и кладёт её рядом с ней.Последняя пара табличек кладётся под первыми двумя парами.Пары упорядоченных по цвету табличек ясно отделяются друг от друга планками. Ребёнок повторяет упражнение по выбору п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троль над ошибкам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онтроль ребёнок может провести при помощи зрительного сравн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альнейшие упражне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Раскладывают по табличке жёлтого, красного и голубого цвета, а остальные таблички ребёнок кладёт в разные места комнаты.Теперь учитель указывает ребёнку на одну из табличек на его рабочем месте и просит принести из комнаты табличку такого же цв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пражнение на запоминание.Та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ступают со всеми табличками,лежащими на рабочем месте ребё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2:42:50Z</dcterms:created>
  <dc:creator>Наталья</dc:creator>
  <dc:description/>
  <dc:language>en-US</dc:language>
  <cp:lastModifiedBy>Наталья</cp:lastModifiedBy>
  <dcterms:modified xsi:type="dcterms:W3CDTF">2013-04-03T13:35:09Z</dcterms:modified>
  <cp:revision>2</cp:revision>
  <dc:subject/>
  <dc:title>Материалы Монтессори</dc:title>
</cp:coreProperties>
</file>