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6675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51B-6A57-43AE-8411-D2817A69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CE7-BF70-4C00-9673-0F46027F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E27-2393-460B-9D7A-48EFB4EF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46F-BFA9-456F-90F8-EAB1D1D9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2A97-376E-4416-B7B2-3007DB38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B525-34CD-4073-BA93-DBF333E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B44-16F6-443C-94A7-4473D01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B981-04D8-4BBF-A728-6E5D1C0C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6133-6AA5-43E0-A395-438D1E03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C17B-CCC8-4997-87F0-DD0D8F62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B78D-E2C3-4F45-89DF-FBDA641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4E2-65C8-4D3D-A270-5F98EC34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5707-C10C-4D54-A356-6D960B4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2B54-DDC8-4C10-B347-0177335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5EFD-1AFE-466B-8D19-9E0A3FA7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5319-5641-4859-8F57-232B6AC1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413A-FA05-440E-BD86-C0E6459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3158-9F04-4C5C-AA37-A78C5EBF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9A8C-7F61-43AB-A0E5-1C78D0B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AE0C-01CA-49B3-A74F-FFCEC42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5BFE-EC69-4F08-B1C8-D729954C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8EB5-ABDE-4BE1-8553-1435D15C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8E5-9C74-40C8-A6C4-C5FDF499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7643-4B58-40E3-A4C0-F1742E6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8A8B-D73A-405B-946E-033F5EB9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F482-A94B-43D8-9525-C20813D8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1C24-E2F2-4BB6-94B4-CBB62F82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32DC-3C5B-44E0-993B-41AF5703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2B77-A55E-4A2E-9F08-F8DF6C22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6088-5041-4120-9741-BE2D1A93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1AF8-4DCD-4EE1-8C31-5D321E98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7BB2-6F7B-4184-913F-D7ECA78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4FCC9-BFD5-44C9-BE83-08587709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E4E-5241-4B87-8CC2-370497D6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4F68-A4E9-4FE8-BDB9-9D8BD21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6363-A713-41C8-96B5-310FD95F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CAAF-B63A-4311-915F-6F1340D5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50639-65EA-42EF-8F60-9C5B19D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9999-8903-412E-80D0-B0519F1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C6268-3BCC-4096-B085-8869141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A4AAA-31D5-4FA5-B1DB-18EAF971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DA85-7E08-4161-97C1-AE5A409C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AC76-F464-4F17-B78F-CBC60256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FB4D-4E47-4933-A1F1-3B843B18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52B-B9B7-4E39-B475-BA902F8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CE9B3-BF90-43F4-B393-F0338014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D687-7039-4D51-8838-9E69F8F6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F290-ED08-419E-A53D-8B45D8C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EECB-FEB3-4802-AD69-23D4A15D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3AF1-8F17-40EA-AB14-A4C4DC12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F09F-99DE-45EB-8EB2-08C1126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AFF9-4D3B-46A7-9E9A-DD6BFD6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359EF-9419-4BFD-9142-08B81288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A1DCE-8FD6-48EC-A7A4-E1EECFF7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37E5-0A13-4ABA-9088-FF9FD0E5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932-080E-4A75-9470-2B205DA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7E5BA-1F95-49D0-9655-67FFEE47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513-FAC4-4461-B281-E0B92C7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47C-A3B3-412F-9F6E-C3B27F8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493-58EB-4372-B924-4AA8007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5E89D7-0BA6-4999-867E-776F9C386386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618466-DF3C-4BBE-B55F-34E3DBED787E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888302-DD1A-4AE7-A874-856EC9FAB0F4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FE12F8-E17B-4788-92DA-4586FE93DA67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8F004E-94D4-4A8E-B175-CFA8669FF865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692360" y="981000"/>
            <a:ext cx="59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253d75"/>
                </a:solidFill>
                <a:latin typeface="Arial"/>
                <a:ea typeface="Arial"/>
              </a:rPr>
              <a:t>Образование в США</a:t>
            </a:r>
            <a:r>
              <a:rPr b="1" lang="en-GB" sz="2000" spc="-1" strike="noStrike">
                <a:solidFill>
                  <a:srgbClr val="253d7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Рисунок 4" descr="i (5).jpg"/>
          <p:cNvPicPr/>
          <p:nvPr/>
        </p:nvPicPr>
        <p:blipFill>
          <a:blip r:embed="rId1"/>
          <a:stretch/>
        </p:blipFill>
        <p:spPr>
          <a:xfrm>
            <a:off x="324000" y="1916280"/>
            <a:ext cx="849600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20.jpg"/>
          <p:cNvPicPr/>
          <p:nvPr/>
        </p:nvPicPr>
        <p:blipFill>
          <a:blip r:embed="rId1"/>
          <a:stretch/>
        </p:blipFill>
        <p:spPr>
          <a:xfrm>
            <a:off x="127080" y="333360"/>
            <a:ext cx="88898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lesson.jpg"/>
          <p:cNvPicPr/>
          <p:nvPr/>
        </p:nvPicPr>
        <p:blipFill>
          <a:blip r:embed="rId1"/>
          <a:stretch/>
        </p:blipFill>
        <p:spPr>
          <a:xfrm>
            <a:off x="324000" y="189000"/>
            <a:ext cx="85928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539640" y="47628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-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лет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млад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сpед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шк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7-9 класс) - пpомежуточное звено между начальной и сpедней школой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Рисунок 2" descr="26099199.jpg"/>
          <p:cNvPicPr/>
          <p:nvPr/>
        </p:nvPicPr>
        <p:blipFill>
          <a:blip r:embed="rId1"/>
          <a:stretch/>
        </p:blipFill>
        <p:spPr>
          <a:xfrm>
            <a:off x="1258920" y="1844640"/>
            <a:ext cx="6726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5280" y="268560"/>
            <a:ext cx="8285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год пpодолжаетс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70-186 дн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дети обучаютс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 дне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неде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день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часо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с 8.30 до 15.30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год делится н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семестp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Рисунок 3" descr="066.jpg"/>
          <p:cNvPicPr/>
          <p:nvPr/>
        </p:nvPicPr>
        <p:blipFill>
          <a:blip r:embed="rId1"/>
          <a:stretch/>
        </p:blipFill>
        <p:spPr>
          <a:xfrm>
            <a:off x="1654200" y="1989000"/>
            <a:ext cx="578340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1214804730_f.jpg"/>
          <p:cNvPicPr/>
          <p:nvPr/>
        </p:nvPicPr>
        <p:blipFill>
          <a:blip r:embed="rId1"/>
          <a:stretch/>
        </p:blipFill>
        <p:spPr>
          <a:xfrm>
            <a:off x="179280" y="2492280"/>
            <a:ext cx="5756400" cy="41054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6084720" y="2349360"/>
            <a:ext cx="264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ура с гигиен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музыка и изобразительное искусств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 (для мальчиков) и домоводство (д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девочек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684360" y="620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 класс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появляется систем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ыбоp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пp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468360" y="1197000"/>
            <a:ext cx="82072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бязатель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английский язы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обществоведение, естествознани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080303120346-large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95280" y="476280"/>
            <a:ext cx="8353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Стаpшая сpедняя школ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10-12 класс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назыв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сеохватывающ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ает всех подpостков, желающих пpодолжать заня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Рисунок 2" descr="leysin-7.jpg"/>
          <p:cNvPicPr/>
          <p:nvPr/>
        </p:nvPicPr>
        <p:blipFill>
          <a:blip r:embed="rId1"/>
          <a:stretch/>
        </p:blipFill>
        <p:spPr>
          <a:xfrm>
            <a:off x="1332000" y="1628640"/>
            <a:ext cx="6406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us_schule20100224195148.jpg"/>
          <p:cNvPicPr/>
          <p:nvPr/>
        </p:nvPicPr>
        <p:blipFill>
          <a:blip r:embed="rId1"/>
          <a:stretch/>
        </p:blipFill>
        <p:spPr>
          <a:xfrm>
            <a:off x="900000" y="2133720"/>
            <a:ext cx="7417080" cy="44496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2"/>
          <p:cNvSpPr/>
          <p:nvPr/>
        </p:nvSpPr>
        <p:spPr>
          <a:xfrm>
            <a:off x="395280" y="476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старших средних шк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программы обязательных знаний обычно включают изучение математики (2 года), английского языка (4 года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естественных (2 года) и социальных наук (3 года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797463_original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78880" cy="45860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324000" y="345960"/>
            <a:ext cx="8540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шие средние школы бывают разных типов: "академические", "профессиональные "и "многопрофильные"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338040" y="734760"/>
            <a:ext cx="8615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СИСТЕМА ОЦЕНОК ЗН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1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раз в году сдаются стандартизированные тесты типа тестов умственных способностей и образовательного развития (Айова), "Тест Хенмон–Нельсон" по проверке умственных способностей и т.п., принятые во всей стране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раз в неделю или чаще, а иногда 2-3 раза в семестр (по решению учителя) сдаются зачеты и тесты внутриклассного контр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04920" y="4862880"/>
            <a:ext cx="852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ая система образования США отличается от западноевропей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нет иеpаpхической системы с pазными типами шко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24000" y="549360"/>
            <a:ext cx="854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В СШ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ует единая государственная система образован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штат вправе определять структуру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9263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95280" y="668160"/>
            <a:ext cx="842472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А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5% учащихся – постоянно высокий уровень готовности, глубоких знаний и оригинальность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отличн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В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% учащихся – уровень, откровенно более высокий, чем средний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С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35 % учащихся – средний уровень выполнения заданий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Д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15 % учащихся – минимальный уровень знаний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ниже среднег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F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10% учащихся – неудовлетворительные результаты или полное незнание учебного материала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539640" y="626400"/>
            <a:ext cx="7883640" cy="130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– зачет (100%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– удовлетворительно (70%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– незачет (ниже 7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Рисунок 2" descr="shkolniki.jpg"/>
          <p:cNvPicPr/>
          <p:nvPr/>
        </p:nvPicPr>
        <p:blipFill>
          <a:blip r:embed="rId1"/>
          <a:stretch/>
        </p:blipFill>
        <p:spPr>
          <a:xfrm>
            <a:off x="622440" y="2205000"/>
            <a:ext cx="7885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95280" y="107604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получения диплома об окончании средней школы выпускникам достаточно в течение последних четырех лет обучения получить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заче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по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6 академическим курса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курс состоит из одного урока ежедневно в течение 18 или 36 недел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Традиционно учащиеся записываются на изучение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6 курсов в течение полугодия и набирают 20 и более курс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в 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2-х класс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95280" y="937800"/>
            <a:ext cx="8451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и школ имеют возможность выбрать между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осударственны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астны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колледжем  (университетом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могут пойти в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ологические институ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которые предлагают четыре года изучения естественных и технических наук, либо  в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ические институ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где готовят  инжен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Также есть возможность закончить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вухгодичный коллед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 затем продолжить обучение в университет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роме того, существуют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фессиональные школы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где студенты изучают основы бизне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83528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Arial"/>
                <a:ea typeface="Arial"/>
              </a:rPr>
              <a:t>Высшее образован</a:t>
            </a:r>
            <a:r>
              <a:rPr b="1" lang="en-GB" sz="3200" spc="-1" strike="noStrike">
                <a:solidFill>
                  <a:srgbClr val="253d75"/>
                </a:solidFill>
                <a:latin typeface="Arial"/>
                <a:ea typeface="Arial"/>
              </a:rPr>
              <a:t>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41988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Типы ВУЗов в США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государственные колледжи и университ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астные университеты (Лига Плющ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лигиозные колледжи и университ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igiously affiliat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УЗы, в которые обучаются представители этнических меньшинст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ority Serving Institu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Рисунок 3" descr="i (2).jpg"/>
          <p:cNvPicPr/>
          <p:nvPr/>
        </p:nvPicPr>
        <p:blipFill>
          <a:blip r:embed="rId1"/>
          <a:stretch/>
        </p:blipFill>
        <p:spPr>
          <a:xfrm>
            <a:off x="5724360" y="4508640"/>
            <a:ext cx="31086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Дисциплины, которые изучают студенты: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0" name="Rectangle 40"/>
          <p:cNvSpPr/>
          <p:nvPr/>
        </p:nvSpPr>
        <p:spPr>
          <a:xfrm>
            <a:off x="3240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  <a:ea typeface="Arial"/>
              </a:rPr>
              <a:t>22 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  <a:ea typeface="Arial"/>
              </a:rPr>
              <a:t>%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бизне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9%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 социолог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7%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 педагоги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6%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психолог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кусство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диц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5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С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женерное де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4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рограммирование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нглийский язы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и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Рисунок 4" descr="praktika_pr2b_group_branding.jpg"/>
          <p:cNvPicPr/>
          <p:nvPr/>
        </p:nvPicPr>
        <p:blipFill>
          <a:blip r:embed="rId1"/>
          <a:stretch/>
        </p:blipFill>
        <p:spPr>
          <a:xfrm>
            <a:off x="4103640" y="3429000"/>
            <a:ext cx="4748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Финансовая помощь студентам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335736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й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Работа + Уче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временно и учишься, и работаеш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e Office Training Core (ROTC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обмен на плату за обучение студент должен служить в армии на летних каникул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ты и стипендии - в основном по программам федерального правительства и правительства ш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3" descr="i (4)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320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Система «кредитов» в американских вузах </a:t>
            </a:r>
            <a:br>
              <a:rPr sz="3600"/>
            </a:b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253d75"/>
                </a:solidFill>
                <a:latin typeface="Arial"/>
                <a:ea typeface="Arial"/>
              </a:rPr>
              <a:t>The system of credits)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di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часов в неделю, которые должен посетить студе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каждой дисциплине необходимо набрать определенное количество «кредитов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калавр – 120 кредитных ча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ую неделю студент обязан посетить 30 академических часов занят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академических часов в д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395280" y="41760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тудент, успешно завершивший программу четырехлетнего обучения,  получает степень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БАКАЛАВ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алее студент может получить степень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МАГИСТР</a:t>
            </a:r>
            <a:r>
              <a:rPr b="0" lang="en-GB" sz="2800" spc="-1" strike="noStrike">
                <a:solidFill>
                  <a:srgbClr val="0047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47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за 1 или 2 года (сдаются экзамены  и защищается  квалификационная работа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Рисунок 3" descr="ucheba-za-rubezhom.jpg"/>
          <p:cNvPicPr/>
          <p:nvPr/>
        </p:nvPicPr>
        <p:blipFill>
          <a:blip r:embed="rId1"/>
          <a:stretch/>
        </p:blipFill>
        <p:spPr>
          <a:xfrm>
            <a:off x="2411280" y="3141720"/>
            <a:ext cx="457848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395280" y="491040"/>
            <a:ext cx="82850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Лучши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У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ами общенационального значения являют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Гарвардский, Принстонский, Йельский, Мичиганский, Стэнфордский, Колумбийский, Чикагский, Калифорнийский, Иллинойский университе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Рисунок 6" descr="hastyveritas.jpg"/>
          <p:cNvPicPr/>
          <p:nvPr/>
        </p:nvPicPr>
        <p:blipFill>
          <a:blip r:embed="rId1"/>
          <a:stretch/>
        </p:blipFill>
        <p:spPr>
          <a:xfrm>
            <a:off x="243000" y="3500280"/>
            <a:ext cx="3044880" cy="29768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7" descr="shield.jpg"/>
          <p:cNvPicPr/>
          <p:nvPr/>
        </p:nvPicPr>
        <p:blipFill>
          <a:blip r:embed="rId2"/>
          <a:stretch/>
        </p:blipFill>
        <p:spPr>
          <a:xfrm>
            <a:off x="3203640" y="3483000"/>
            <a:ext cx="2847960" cy="29955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" descr="iels.jpg"/>
          <p:cNvPicPr/>
          <p:nvPr/>
        </p:nvPicPr>
        <p:blipFill>
          <a:blip r:embed="rId3"/>
          <a:stretch/>
        </p:blipFill>
        <p:spPr>
          <a:xfrm>
            <a:off x="6084720" y="3641760"/>
            <a:ext cx="273528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43080" y="260280"/>
            <a:ext cx="84769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250920" y="495360"/>
            <a:ext cx="859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bereg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studyusa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interchangeinstitute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684360" y="3429000"/>
            <a:ext cx="77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53d75"/>
                </a:solidFill>
                <a:latin typeface="Arial"/>
                <a:ea typeface="Arial"/>
              </a:rPr>
              <a:t>Леденева Евгения Александровна</a:t>
            </a: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ГБОУ школы №527 Санкт-Петербург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слушатель курсов СПбАПП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«Педагогическая инноватика: интеграция отечественного и зарубежного опыт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50920" y="692280"/>
            <a:ext cx="856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pоме </a:t>
            </a: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госудаpственны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школ, система обучения включает в себя сеть </a:t>
            </a: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частны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заведений в которых обучается око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4 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все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Рисунок 4" descr="article-1126814-00A388C1000004B0-275_468x359.jpg"/>
          <p:cNvPicPr/>
          <p:nvPr/>
        </p:nvPicPr>
        <p:blipFill>
          <a:blip r:embed="rId1"/>
          <a:stretch/>
        </p:blipFill>
        <p:spPr>
          <a:xfrm>
            <a:off x="324000" y="3213000"/>
            <a:ext cx="4375080" cy="33577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4716360" y="3141720"/>
            <a:ext cx="3996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СШ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000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привилегированных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частных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школ, которые содержатся за счет взносов от частных лиц и взимания платы за обу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24000" y="1222560"/>
            <a:ext cx="8538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ое воспитание в США осуществляется 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яслях, детсадах, малышовых и подготовительных дошкольных центра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– общественных и частных заведениях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зада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лич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83528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53d75"/>
                </a:solidFill>
                <a:latin typeface="Arial"/>
                <a:ea typeface="Arial"/>
              </a:rPr>
              <a:t>Дошкольное воспит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Рисунок 4" descr="i3bUaVHi87ms.jpg"/>
          <p:cNvPicPr/>
          <p:nvPr/>
        </p:nvPicPr>
        <p:blipFill>
          <a:blip r:embed="rId1"/>
          <a:stretch/>
        </p:blipFill>
        <p:spPr>
          <a:xfrm>
            <a:off x="2556000" y="2997360"/>
            <a:ext cx="4125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5280" y="302760"/>
            <a:ext cx="8285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99 %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детей, окончивших детсадовские группы, поступают в школу (с 6 до 13 ле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94 %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из них продолжают обучение до 17 л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9 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возрасте от 18 до 24 лет становятся студентами колледжей и университе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Рисунок 4" descr="1306344718_life_school_usa.jpg"/>
          <p:cNvPicPr/>
          <p:nvPr/>
        </p:nvPicPr>
        <p:blipFill>
          <a:blip r:embed="rId1"/>
          <a:stretch/>
        </p:blipFill>
        <p:spPr>
          <a:xfrm>
            <a:off x="2268360" y="1338120"/>
            <a:ext cx="4824720" cy="35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95440" y="390600"/>
            <a:ext cx="783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ети поступают в школу в возрас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ле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и в течение последующ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лет учатся 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элементаpной школ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Рисунок 3" descr="Brookdale_Elementary_School,_USA_(3).JPG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250920" y="4160160"/>
            <a:ext cx="86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чтение, литеpатуpа, письмо, оpфогpафия, pодной язык (устная pечь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музыка, изобpазительное искусств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аpифметик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истоpия, геогpафия, естествознани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гигиена, физическое воспитание и pучной тpу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835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Arial"/>
                <a:ea typeface="Arial"/>
              </a:rPr>
              <a:t>Элементарная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Рисунок 7" descr="31.jpg"/>
          <p:cNvPicPr/>
          <p:nvPr/>
        </p:nvPicPr>
        <p:blipFill>
          <a:blip r:embed="rId1"/>
          <a:stretch/>
        </p:blipFill>
        <p:spPr>
          <a:xfrm>
            <a:off x="2403360" y="907920"/>
            <a:ext cx="461664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10.jpg"/>
          <p:cNvPicPr/>
          <p:nvPr/>
        </p:nvPicPr>
        <p:blipFill>
          <a:blip r:embed="rId1"/>
          <a:stretch/>
        </p:blipFill>
        <p:spPr>
          <a:xfrm>
            <a:off x="106200" y="260280"/>
            <a:ext cx="8858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2</dc:creator>
  <dc:description/>
  <dc:language>en-US</dc:language>
  <cp:lastModifiedBy>Евгения</cp:lastModifiedBy>
  <dcterms:modified xsi:type="dcterms:W3CDTF">2013-04-06T07:27:14Z</dcterms:modified>
  <cp:revision>32</cp:revision>
  <dc:subject/>
  <dc:title>Презентация PowerPoint</dc:title>
</cp:coreProperties>
</file>