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121-B2B7-44D8-B0AE-FBC33875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172-8191-4512-B146-AD046C6E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03E-7802-4907-9211-243708E0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381-4775-4F61-9779-1515B31D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838-968A-4506-84C1-CC42A84C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939-FD11-4F92-A0DC-5AACC9EC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CAD1-FF9C-4B71-942F-36666316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B1BE-C88C-41E8-B854-E66EE52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FF40-946B-46DD-AC2E-BF28FDC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AC8-0750-4FE4-B4B0-42E6C66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A8C2-1114-496C-86EA-E35C543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300A-5EAB-41B2-B1FB-426B083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AB32-289F-4E12-B57A-45FFCE3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156C-F264-420C-8C5B-B826DC66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D53A-2C5E-4DE2-9171-F047B2B4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B12-9C3E-46D5-BDEA-7D09EAB8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6CC7-5C0C-4EDF-ADE7-0409AA3F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BEA-42A0-4916-8E4F-C61868EB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863-8FB4-4967-9087-4F2E08F7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E14-70FA-46A2-B82A-1A358957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C69D-AF01-4BF3-BD7C-A78ED07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2F5-D1EA-44F8-9033-C4CC51A3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F391-A065-4193-B1C9-767F7FAB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9B1-A756-4004-9350-68731A5C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2CA-4B7B-4D57-964C-1144F4E0C40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EEBD-84BE-4214-A6E6-1C1AE03E9ED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Тема урока: «Уравнение».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2852640"/>
            <a:ext cx="694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ематику уже затем учить следуе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то она ум в порядок приводит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. Ломон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Историческая справка.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знакомы с уравнениями с первого класса. А знаете ли вы, что записывать и решать уравнения начали арабы в первом тысячелетии нашей эры? До тех пор решение задач было чисто арифметическим и состояло из многих действий. В те времена ещё не было общепринятых теперь обозначений переменных буквами, а действий знаками. Уравнения записывались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Уравнением называется равенство, содержащее букву, значение которой надо найти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Значение буквы, при котором из уравнения получается верное числовое равенство называют корнем уравнения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Решить уравнение – значит найти все его корни (или убедиться, что это уравнение не имеет ни одного корня)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74072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мма 3986 и 5718 равна 9704.Пользуясь этим, найти без вычислений значение выражения или корень уравне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9704-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9704-57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+5718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3986+у = 970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9704 – х = 3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9704 – а = 5718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дание 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ность 6877 и 2984 равна 3893. Пользуясь этим, найти без вычислений значение выражения или решить урав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2984 +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6877- 38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Х – 3893 = 298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6877 –у =298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дания к карточке 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Записать в виде числового выражения сумму двух выражений 47 -24 и 37 + 28 и найти значение этого вы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Решить уравнение: х + 605 = 7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Решить уравнение: 603 – р = 8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Решить уравнение: к – 169 = 32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Упростить выражение у–(39 + 31) и найти его значени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у = 9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Решить уравнение: (24 –х) + 37 = 4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Решить задачу с помощью урав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Я задумал число. Если из 72 вычесть задуманное число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получится 45. Какое число я задумал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На отрезке АВ отмечена точка С. Отрезок АС равен 15 см, а отрезок СВ длиннее АС на х см. Найти длину отрезка АВ. Упростить получившееся выражение и найти его значение при х = 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У покупателя было 500 руб. В одном магазине он истратил Х руб., а в другом 120 руб. Сколько денег осталось у покупателя? У простить выражение и найти его значение при Х=17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5105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рточка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692280"/>
          <a:ext cx="8556480" cy="5933880"/>
        </p:xfrm>
        <a:graphic>
          <a:graphicData uri="http://schemas.openxmlformats.org/drawingml/2006/table">
            <a:tbl>
              <a:tblPr/>
              <a:tblGrid>
                <a:gridCol w="1600200"/>
                <a:gridCol w="1143000"/>
                <a:gridCol w="1066680"/>
                <a:gridCol w="1219320"/>
                <a:gridCol w="1219320"/>
                <a:gridCol w="1218960"/>
                <a:gridCol w="10890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 к карточке.  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езультате работы по карточке появляется слово «кроссворд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ссворд – игра –задача, в которой фигура из рядов пустых клеток заполняется перекрещивающимися словами со значениями, заданными по условиям иг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19280" y="5589720"/>
            <a:ext cx="230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6400800"/>
            <a:ext cx="22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6:08:48Z</dcterms:created>
  <dc:creator>Учитель</dc:creator>
  <dc:description/>
  <dc:language>en-US</dc:language>
  <cp:lastModifiedBy>Катя</cp:lastModifiedBy>
  <dcterms:modified xsi:type="dcterms:W3CDTF">2006-11-27T18:31:48Z</dcterms:modified>
  <cp:revision>15</cp:revision>
  <dc:subject/>
  <dc:title>Использование современных информационных технологий в подготовке учебных материалов</dc:title>
</cp:coreProperties>
</file>