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310-8255-4068-8776-A353B771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A3E-FBA3-4B00-8ACE-48EB3BF4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1FE-F401-4138-B54E-6E46446A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999-5E00-4C50-93FD-C6CC62C8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939E-0EF0-435A-A027-8C4A19BB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CCE8-8B1A-4026-AF37-43AA1B2C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CF1F-6A6C-4436-B79B-A40B8C3E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D3FD-E66B-423D-A5E6-C2A7434C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6CF3-0F9C-4758-A301-3188D280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69B1-379C-4342-9886-4DE2A3AE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2183-7E57-4217-8472-FE064D0A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1EA-CFAD-411C-88FE-8872519B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9B59-4432-41CC-8904-66C6F23B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327E-5F53-4B2D-A674-C1E6FCA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3CF1-2837-4C7F-ADB1-B40A81EF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C7B2-F317-411B-A920-CF2128E9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4A79-A68A-4C23-93B1-879757E4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369-6287-488E-A7E2-3880CCA9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5ED-D420-4933-BDAE-D318AAFC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8B9-C473-457E-A1D9-E49CF1AD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188-E7FA-4607-AE8C-EE78E66D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75E-CF38-4CA0-A3E1-29848894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0F0-E049-405C-A4B7-51A47EBA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D1B-A3A4-47F6-A2BC-C3882F27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0FEC-C1C5-49A1-A1E2-C6DCAFF072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0D38-340C-4A85-9841-7C4F05A6B6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Тема урока: «Уравнение».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2852640"/>
            <a:ext cx="69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атематику уже затем учить следу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то она ум в порядок приводит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. Ломон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Историческая справка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знакомы с уравнениями с первого класса. А знаете ли вы, что записывать и решать уравнения начали арабы в первом тысячелетии нашей эры? До тех пор решение задач было чисто арифметическим и состояло из многих действий. В те времена ещё не было общепринятых теперь обозначений переменных буквами, а действий знаками. Уравнения записывались слов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Уравнением называется равенство, содержащее букву, значение которой надо найти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Значение буквы, при котором из уравнения получается верное числовое равенство называют корнем уравнения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Решить уравнение – значит найти все его корни (или убедиться, что это уравнение не имеет ни одного корня)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74072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ние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мма 3986 и 5718 равна 9704.Пользуясь этим, найти без вычислений значение выражения или корень уравн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9704-3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9704-57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Х +5718= 97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3986+у = 97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9704 – х = 3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9704 – а = 571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ние 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ность 6877 и 2984 равна 3893. Пользуясь этим, найти без вычислений значение выражения или решить уравн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2984 + 38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6877- 38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Х – 3893 = 29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6877 –у =298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дания к карточке 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Записать в виде числового выражения сумму двух выражений 47 -24 и 37 + 28 и найти значение этого выра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Решить уравнение: х + 605 = 7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Решить уравнение: 603 – р = 8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Решить уравнение: к – 169 = 3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Упростить выражение у–(39 + 31) и найти его значени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у = 9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Решить уравнение: (24 –х) + 37 = 4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Решить задачу с помощью урав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Я задумал число. Если из 72 вычесть задуманное числ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получится 45. Какое число я задумал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На отрезке АВ отмечена точка С. Отрезок АС равен 15 см, а отрезок СВ длиннее АС на х см. Найти длину отрезка АВ. Упростить получившееся выражение и найти его значение при х = 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У покупателя было 500 руб. В одном магазине он истратил Х руб., а в другом 120 руб. Сколько денег осталось у покупателя? У простить выражение и найти его значение при Х=17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5105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рточка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692280"/>
          <a:ext cx="8556480" cy="593388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  <a:gridCol w="1066680"/>
                <a:gridCol w="1219320"/>
                <a:gridCol w="1219320"/>
                <a:gridCol w="1218960"/>
                <a:gridCol w="1089000"/>
              </a:tblGrid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мер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 к карточке.  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зультате работы по карточке появляется слово «кроссвор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ссворд – игра –задача, в которой фигура из рядов пустых клеток заполняется перекрещивающимися словами со значениями, заданными по условиям иг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558972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6400800"/>
            <a:ext cx="22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6:08:48Z</dcterms:created>
  <dc:creator>Учитель</dc:creator>
  <dc:description/>
  <dc:language>en-US</dc:language>
  <cp:lastModifiedBy>Катя</cp:lastModifiedBy>
  <dcterms:modified xsi:type="dcterms:W3CDTF">2006-11-27T18:31:48Z</dcterms:modified>
  <cp:revision>15</cp:revision>
  <dc:subject/>
  <dc:title>Использование современных информационных технологий в подготовке учебных материалов</dc:title>
</cp:coreProperties>
</file>