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B8274-ED84-4E94-A680-D1A494050E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30E04-FB1F-4533-8E30-8F6238088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179D7-6C20-422F-88E8-0FDF3BA2AB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2AB6-F321-476A-9150-D68B45DBB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37085-70B7-4D26-8F4F-7CF955C63A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394F6-523B-4850-8797-BFB1174F7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AEBAB-D481-4B18-99A3-926CEDB8C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5FAF8-DD81-4EC1-B4F5-68AB9F8838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DA4D-C8CF-47A4-B22A-1FE8F61F0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4B3F6-2E0B-4C54-BFC5-3E2F2F1CF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2A9-D0FA-414C-83A3-6625BB0D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F7C-5D67-4DD1-A049-31A2E412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691-9FD4-498D-9BD8-DD903005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DAB-993D-4083-8A08-1CBE422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6BFC-8ADA-4D2D-AA25-31E95D79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D9A9-3F39-4112-A90A-62AB3148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87DD-1825-4781-8343-D59D58F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6F97-10B9-4444-B9E7-8546CAD8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555C-4547-47DB-849A-005E45C1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A79-7F11-4935-9773-870F0B93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4E5-EF2D-436F-AC69-8E143FA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649-462D-468A-96B2-9653D39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80A8-C4BC-4973-8C81-3161EF1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85D7-92E2-495A-86C2-0556E7C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01F-C113-4396-9550-BCE192E2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88BC-0DDB-44F0-A11F-18F3768A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2263-DA2F-4C02-ADF2-368A2DF7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F610-F7A7-4EFA-BC8A-C8655F5D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8BB9-790D-47E8-89C3-15C0BE4E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5508-575C-4E40-BB30-71CF3531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C853-3860-4B8F-A369-0B6C76C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5772-BED8-417C-A558-E3A67283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04E-D666-4642-A325-FBD61CEC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6DE9-5533-4D3A-9CB4-D5C7FF95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BCB8-751E-4359-A982-156A8D7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E259-652F-449A-BE90-FF9E0B4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92BC-8830-4DFD-8101-9454902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2B21-1F96-46E7-ABFB-5198C0BB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481A-5EE2-47D9-86AF-5F9BE0DC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9CCF-69C2-4C59-8728-4CE1A318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034-3B51-445C-9AA6-475997E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09C-2282-4346-86E8-2A0931E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3F6-0FF3-4DD7-81A1-B82A5B0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452-CEBD-4B20-B317-6BD62D0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947-C563-4AE3-8500-1F20E5A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698-54E1-4B51-A85E-E282291B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81E36-6EA2-41D0-ADE1-0856C9C07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0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7DF37-110E-4199-9551-574A820AC4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4F11-65C0-43A0-B7DD-3A6F4C840A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5840" y="0"/>
            <a:ext cx="1008072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БОУ гимназия № 148 имени Сервант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урсовая работа на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«Неоготика в творчестве Антонио Гауд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остюк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ученица 10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емченко Ир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учитель испан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8360" y="1618920"/>
            <a:ext cx="6912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неоготики на Гауди глобально. Он говорит и на языке абстрактной логики готической конструкции, и на языке проснувшейся в готическую эпоху стихии материальной витальности, и на языке готической натуралистичности и наивного народного примитива. Все это мы встретим в полном объеме в Саграда Фамилия. Что касается конструкций, то здесь значимым является мнение Корбюзье, который считал Гауди человеком “исключительного технического таланта”. На основе неоготичечкой и готической конструкции Гауди изобрел свою фирменную “параболическую” арку, чьи феноменальные конструктивные свойства математически были просчитаны и смоделированы значительно позднее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06520" y="1979640"/>
            <a:ext cx="4064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06520" y="4246560"/>
            <a:ext cx="4064040" cy="211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60360" y="82440"/>
            <a:ext cx="9936000" cy="74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исок использованной литера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 Роу Д.  Гауди. Архитектор и художник, Белый Город, Москва — 20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. Дьяков Л.А,  Антонио Га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 Райнер Цербст, Антонио Гауди: Жизнь в архитек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. Лучшее из Барселоны (альбом),  A. Campana; Barcelona (издание на русском языке)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. Гауди. Русское издание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ditori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cud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arcelo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6. Бассегода Нонель X., Пер. с исп. М. Гарсиа Ордонье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Антонио Гауди,М.: , 198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7. Надеждин Н.Я. Антонио Гауди: «Воздушные замки Каталонии»: Биографические рассказы. — 2-е изд.  М.: Майор, Осипенко, 201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se-strani-mira.ru›architecture…antonio-gaud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u.wikipedia.org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о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mallbay.ru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рхитектура и скульптура го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u.wikipedia.org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еого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ttps://ru.wikipedia.org›wiki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того…Барсело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hagau.ru›2012/06/26/barselona-marshrut-2-de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rk.gothic.ru›gaudi/Gaudi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503280" y="554040"/>
            <a:ext cx="8856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4720" y="41292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Цель работ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- знакомство с творчеством Антонио Гауди и проникновение в суть его архитектурных строений неоготического сти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23800" y="291960"/>
            <a:ext cx="907092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анализировать доступную научно-популярную литературу, содержащую сведения о Антонио Гауди и его творч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знакомить с его творчест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найти неоготические элементы в его постройк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1 Биография и творчество Антонио Гауди 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( Antoni Plàcid Guillem Gaudí i Corn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97000" y="1979640"/>
            <a:ext cx="3230640" cy="438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3520" y="1979640"/>
            <a:ext cx="4040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«Джентльмены, перед нами либо гений, либо сумасшедший»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дседатель комиссии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2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ика и неого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60520" y="1979640"/>
            <a:ext cx="2703600" cy="438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211720" y="4460760"/>
            <a:ext cx="3140280" cy="209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5111640" y="1868400"/>
            <a:ext cx="278928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2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ика и неого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912000" y="1606680"/>
            <a:ext cx="2592360" cy="429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808360" y="2376360"/>
            <a:ext cx="4040280" cy="303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503280" y="1882800"/>
            <a:ext cx="220176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3 Неоготика в творчестве Гауд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1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l Palacio de Astorg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9720" y="1619280"/>
            <a:ext cx="4040280" cy="3060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C:\Users\Ирина\Desktop\12554_orig.jpg"/>
          <p:cNvPicPr/>
          <p:nvPr/>
        </p:nvPicPr>
        <p:blipFill>
          <a:blip r:embed="rId2"/>
          <a:stretch/>
        </p:blipFill>
        <p:spPr>
          <a:xfrm>
            <a:off x="5400720" y="161928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19"/>
          <p:cNvPicPr/>
          <p:nvPr/>
        </p:nvPicPr>
        <p:blipFill>
          <a:blip r:embed="rId3"/>
          <a:stretch/>
        </p:blipFill>
        <p:spPr>
          <a:xfrm>
            <a:off x="5616720" y="4653000"/>
            <a:ext cx="3978000" cy="22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13069A~1 (1)"/>
          <p:cNvPicPr/>
          <p:nvPr/>
        </p:nvPicPr>
        <p:blipFill>
          <a:blip r:embed="rId4"/>
          <a:stretch/>
        </p:blipFill>
        <p:spPr>
          <a:xfrm>
            <a:off x="1440000" y="5003640"/>
            <a:ext cx="3563640" cy="22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готика в творчестве Гауди 3.2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a de los Bot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62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1" name="Объект 6" descr=""/>
          <p:cNvPicPr/>
          <p:nvPr/>
        </p:nvPicPr>
        <p:blipFill>
          <a:blip r:embed="rId1"/>
          <a:stretch/>
        </p:blipFill>
        <p:spPr>
          <a:xfrm>
            <a:off x="4968720" y="1979640"/>
            <a:ext cx="2760840" cy="211464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7" descr=""/>
          <p:cNvPicPr/>
          <p:nvPr/>
        </p:nvPicPr>
        <p:blipFill>
          <a:blip r:embed="rId2"/>
          <a:stretch/>
        </p:blipFill>
        <p:spPr>
          <a:xfrm>
            <a:off x="4680000" y="4246560"/>
            <a:ext cx="3744720" cy="211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719280" y="2124000"/>
            <a:ext cx="396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5640" y="61092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готика в творчестве Гауд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agrada Famil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62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6" name="Объект 6" descr=""/>
          <p:cNvPicPr/>
          <p:nvPr/>
        </p:nvPicPr>
        <p:blipFill>
          <a:blip r:embed="rId1"/>
          <a:stretch/>
        </p:blipFill>
        <p:spPr>
          <a:xfrm>
            <a:off x="5452920" y="1979640"/>
            <a:ext cx="3171960" cy="2114640"/>
          </a:xfrm>
          <a:prstGeom prst="rect">
            <a:avLst/>
          </a:prstGeom>
          <a:ln w="0">
            <a:noFill/>
          </a:ln>
        </p:spPr>
      </p:pic>
      <p:pic>
        <p:nvPicPr>
          <p:cNvPr id="157" name="Объект 7" descr=""/>
          <p:cNvPicPr/>
          <p:nvPr/>
        </p:nvPicPr>
        <p:blipFill>
          <a:blip r:embed="rId2"/>
          <a:stretch/>
        </p:blipFill>
        <p:spPr>
          <a:xfrm>
            <a:off x="5702400" y="4246560"/>
            <a:ext cx="2673360" cy="211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792000" y="2050920"/>
            <a:ext cx="446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4:58:12Z</dcterms:created>
  <dc:creator/>
  <dc:description/>
  <dc:language>en-US</dc:language>
  <cp:lastModifiedBy>Ирина</cp:lastModifiedBy>
  <dcterms:modified xsi:type="dcterms:W3CDTF">2013-04-04T17:13:15Z</dcterms:modified>
  <cp:revision>6</cp:revision>
  <dc:subject/>
  <dc:title>Презентация PowerPoint</dc:title>
</cp:coreProperties>
</file>