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25AE0-41F4-435A-9F31-F815183271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D245E-7B93-4226-A3E9-C14A058834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B4192-AB4B-4809-AB8F-6AA2C10320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FB275-C55D-4C6E-928C-50B4B843B9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B04AF-EA6E-476D-A797-1C4F4BCD75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6E572-57F4-44D6-8EF9-52656EFF21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6ED0A-28BB-499B-A2DF-BC6E9C73FB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47FE9-BCA7-4BC4-8837-B1DEC0C447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9180B-F0A0-4406-8B23-59DF382298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37113-C61B-469D-8878-770B8AA7B2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766-C772-425D-A49F-F20054DF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7D8-43FF-4902-A72E-A2AF4915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0CE-9236-41E8-8B53-5003F736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1EB-0591-4AED-B466-62B6B4D2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8115-2C90-4C44-84DC-D2EB99DF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9637-A5FA-450F-95C3-F7029083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3F8E-DC78-4B73-9D3C-9FF087B4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217F-5D2D-401B-91D1-8965B18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D0C1-2D77-438E-ACDB-B79FF796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B4F1-E5BD-483D-92B7-F2B9D54E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070-A096-45F2-A70B-D8942DA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8EC-4B84-437C-9EE1-A9374045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9EF0-FFF8-4F21-9EFA-3B4A4A12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9595-FAFE-4E06-92AA-B434DDE5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0CB1-47F2-4411-B7A5-E7FB3382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56A7-9B9E-48AE-9375-DDAE3222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62C0-78D0-409B-B746-6E634DE2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DE66E-4A7A-4C4A-8F7E-9319EBFA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CD912-996F-4C28-9F41-97551F09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9FC00-9DB5-43C7-8FB8-EC3FC888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CD0A9-4162-4F34-BAD0-9615282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F93C-AAD5-4B84-850F-50155706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EC6-5E74-44DA-BE79-006DCE34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5272-06BA-4A6C-AACF-2DA3E805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1700-719A-4318-883D-4E116E1E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2EDF-7896-4067-AE8C-A1947349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26CE0-DFBA-400C-8EAF-9741276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69A5-AAA8-4933-B9C5-78805CBC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EBEC-38F3-4594-8AE6-5E2DF33F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064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0000" y="19792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1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064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0000" y="4268880"/>
            <a:ext cx="26654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FC2E-1C8C-4022-B836-BC3E4053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6DA-3549-4815-91A5-53313999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E01-96FF-4730-8CFD-C5C3E930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8FC-8B00-4DFE-B357-4408C2B4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6AC-1A6B-4434-A649-D72C27DD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42688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9B8-ABDA-479E-9863-2F8BF3E3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280"/>
            <a:ext cx="4039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4268880"/>
            <a:ext cx="8278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83B-FEE7-4B84-8445-AD50615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A29F1-6326-4DBF-A5E3-961C8C79C7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0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A9BDF-0C5E-4C3E-B7FB-562EB4F450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91640" y="1979280"/>
            <a:ext cx="8278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89212-2B77-49F6-B522-83DE976491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15840" y="0"/>
            <a:ext cx="10080720" cy="80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ГБОУ гимназия № 148 имени Сервант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урсовая работа на 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«Неоготика в творчестве Антонио Гауд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Костюк 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ученица 10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Руководи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Демченко Ирин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учитель испан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8360" y="1618920"/>
            <a:ext cx="69120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ияние неоготики на Гауди глобально. Он говорит и на языке абстрактной логики готической конструкции, и на языке проснувшейся в готическую эпоху стихии материальной витальности, и на языке готической натуралистичности и наивного народного примитива. Все это мы встретим в полном объеме в Саграда Фамилия. Что касается конструкций, то здесь значимым является мнение Корбюзье, который считал Гауди человеком “исключительного технического таланта”. На основе неоготичечкой и готической конструкции Гауди изобрел свою фирменную “параболическую” арку, чьи феноменальные конструктивные свойства математически были просчитаны и смоделированы значительно позднее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006520" y="1979640"/>
            <a:ext cx="406404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006520" y="4246560"/>
            <a:ext cx="4064040" cy="211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360360" y="82440"/>
            <a:ext cx="9936000" cy="74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исок использованной литера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 Роу Д.  Гауди. Архитектор и художник, Белый Город, Москва — 20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. Дьяков Л.А,  Антонио Га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. Райнер Цербст, Антонио Гауди: Жизнь в архитек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4. Лучшее из Барселоны (альбом),  A. Campana; Barcelona (издание на русском языке)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. Гауди. Русское издание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ditori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scud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r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arcelon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6. Бассегода Нонель X., Пер. с исп. М. Гарсиа Ордонье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Антонио Гауди,М.: , 198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7. Надеждин Н.Я. Антонио Гауди: «Воздушные замки Каталонии»: Биографические рассказы. — 2-е изд.  М.: Майор, Осипенко, 201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нтернет-ист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se-strani-mira.ru›architecture…antonio-gaudi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u.wikipedia.org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о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mallbay.ru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рхитектура и скульптура го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u.wikipedia.org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Неого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ttps://ru.wikipedia.org›wiki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того…Барсело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hagau.ru›2012/06/26/barselona-marshrut-2-de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rk.gothic.ru›gaudi/Gaudi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503280" y="554040"/>
            <a:ext cx="885672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504720" y="41292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Цель работ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- знакомство с творчеством Антонио Гауди и проникновение в суть его архитектурных строений неоготического сти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523800" y="291960"/>
            <a:ext cx="907092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анализировать доступную научно-популярную литературу, содержащую сведения о Антонио Гауди и его творч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знакомить с его творчест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найти неоготические элементы в его постройк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а 1 Биография и творчество Антонио Гауди </a:t>
            </a:r>
            <a:br>
              <a:rPr sz="3200"/>
            </a:b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( Antoni Plàcid Guillem Gaudí i Corn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97000" y="1979640"/>
            <a:ext cx="3230640" cy="4384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3520" y="1979640"/>
            <a:ext cx="404028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«Джентльмены, перед нами либо гений, либо сумасшедший»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едседатель комиссии</a:t>
            </a:r>
            <a:endParaRPr b="0" lang="en-US" sz="26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а 2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тика и неого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460520" y="1979640"/>
            <a:ext cx="2703600" cy="4384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211720" y="4460760"/>
            <a:ext cx="3140280" cy="2090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5111640" y="1868400"/>
            <a:ext cx="2789280" cy="20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а 2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тика и неоготик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912000" y="1606680"/>
            <a:ext cx="2592360" cy="4297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2808360" y="2376360"/>
            <a:ext cx="4040280" cy="303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503280" y="1882800"/>
            <a:ext cx="220176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ава 3 Неоготика в творчестве Гауд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1  </a:t>
            </a: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El Palacio de Astorg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39720" y="1619280"/>
            <a:ext cx="4040280" cy="3060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" descr="C:\Users\Ирина\Desktop\12554_orig.jpg"/>
          <p:cNvPicPr/>
          <p:nvPr/>
        </p:nvPicPr>
        <p:blipFill>
          <a:blip r:embed="rId2"/>
          <a:stretch/>
        </p:blipFill>
        <p:spPr>
          <a:xfrm>
            <a:off x="5400720" y="1619280"/>
            <a:ext cx="3456000" cy="295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19"/>
          <p:cNvPicPr/>
          <p:nvPr/>
        </p:nvPicPr>
        <p:blipFill>
          <a:blip r:embed="rId3"/>
          <a:stretch/>
        </p:blipFill>
        <p:spPr>
          <a:xfrm>
            <a:off x="5616720" y="4653000"/>
            <a:ext cx="3978000" cy="22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13069A~1 (1)"/>
          <p:cNvPicPr/>
          <p:nvPr/>
        </p:nvPicPr>
        <p:blipFill>
          <a:blip r:embed="rId4"/>
          <a:stretch/>
        </p:blipFill>
        <p:spPr>
          <a:xfrm>
            <a:off x="1440000" y="5003640"/>
            <a:ext cx="3563640" cy="22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оготика в творчестве Гауди 3.2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sa de los Botin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62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1" name="Объект 6" descr=""/>
          <p:cNvPicPr/>
          <p:nvPr/>
        </p:nvPicPr>
        <p:blipFill>
          <a:blip r:embed="rId1"/>
          <a:stretch/>
        </p:blipFill>
        <p:spPr>
          <a:xfrm>
            <a:off x="4968720" y="1979640"/>
            <a:ext cx="2760840" cy="2114640"/>
          </a:xfrm>
          <a:prstGeom prst="rect">
            <a:avLst/>
          </a:prstGeom>
          <a:ln w="0">
            <a:noFill/>
          </a:ln>
        </p:spPr>
      </p:pic>
      <p:pic>
        <p:nvPicPr>
          <p:cNvPr id="152" name="Объект 7" descr=""/>
          <p:cNvPicPr/>
          <p:nvPr/>
        </p:nvPicPr>
        <p:blipFill>
          <a:blip r:embed="rId2"/>
          <a:stretch/>
        </p:blipFill>
        <p:spPr>
          <a:xfrm>
            <a:off x="4680000" y="4246560"/>
            <a:ext cx="3744720" cy="2116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719280" y="2124000"/>
            <a:ext cx="3960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5640" y="61092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еоготика в творчестве Гауд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agrada Famili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91640" y="1979280"/>
            <a:ext cx="406260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6" name="Объект 6" descr=""/>
          <p:cNvPicPr/>
          <p:nvPr/>
        </p:nvPicPr>
        <p:blipFill>
          <a:blip r:embed="rId1"/>
          <a:stretch/>
        </p:blipFill>
        <p:spPr>
          <a:xfrm>
            <a:off x="5452920" y="1979640"/>
            <a:ext cx="3171960" cy="2114640"/>
          </a:xfrm>
          <a:prstGeom prst="rect">
            <a:avLst/>
          </a:prstGeom>
          <a:ln w="0">
            <a:noFill/>
          </a:ln>
        </p:spPr>
      </p:pic>
      <p:pic>
        <p:nvPicPr>
          <p:cNvPr id="157" name="Объект 7" descr=""/>
          <p:cNvPicPr/>
          <p:nvPr/>
        </p:nvPicPr>
        <p:blipFill>
          <a:blip r:embed="rId2"/>
          <a:stretch/>
        </p:blipFill>
        <p:spPr>
          <a:xfrm>
            <a:off x="5702400" y="4246560"/>
            <a:ext cx="2673360" cy="2116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3"/>
          <a:stretch/>
        </p:blipFill>
        <p:spPr>
          <a:xfrm>
            <a:off x="792000" y="2050920"/>
            <a:ext cx="4464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4:58:12Z</dcterms:created>
  <dc:creator/>
  <dc:description/>
  <dc:language>en-US</dc:language>
  <cp:lastModifiedBy>Ирина</cp:lastModifiedBy>
  <dcterms:modified xsi:type="dcterms:W3CDTF">2013-04-04T17:13:15Z</dcterms:modified>
  <cp:revision>6</cp:revision>
  <dc:subject/>
  <dc:title>Презентация PowerPoint</dc:title>
</cp:coreProperties>
</file>