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459F-C5F7-4A59-AB61-24CB9626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9FD7-8012-4BA5-8FEB-62A88F78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070B-8901-43FB-AB2B-4C8C1E6D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1923-769D-4778-8402-5F4D6923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400F-D75B-40CC-BB7F-AED90DF8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D8B-0F7F-4562-8E31-5B7A5FEF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4AB6-E921-4AFD-9925-21C03F4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8CFE-F84B-4F59-B656-24DD5EC1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760-4CCC-4ECD-8BF1-4DF3973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1ED8-C50E-4DA2-91A0-E2B8861D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33CB-D868-43C7-964F-65B1518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D85CB-9EDE-4300-BC44-93E74E9C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ABA-817D-4418-AEA9-E5D8A787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8325-2174-4C45-8B52-9545FC4E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14D6-0D68-4D41-A85C-B291ABB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DB55-C8A4-41C5-9071-366F5FB4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4D90-3044-46A9-8B01-AD2450CF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A380-E078-42A8-9BA1-F1566EA0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9D278-A2E5-4AB5-A971-E9F00250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2512-E7D9-45DB-8859-8090E03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4E4A-5324-46F0-BE42-0894F4DD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C98A-C0D7-433A-BE6F-C47FE60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5B36-AB5C-45AF-A897-418DC71B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BF9E-6CEB-424B-BB68-7E2A7ECC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65F85-569E-49B7-83E2-EE3351F4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19DB-1E1D-442F-96AC-2DA8A10A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92DA1-7E37-4890-8448-ED6CAC5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081F0-4685-43F3-A85E-E8486E4E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50C7-8603-4E9C-866E-A3E2C2C4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3F07-1652-4D66-AB73-5F8FC743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970CB-8A42-40BC-A352-E16B159F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D136-705A-4C2B-907D-DAA00E45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3569-F0A5-478B-A972-BEC251C7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2826-C396-45F6-8160-9EDE1FCA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C8735-BB30-4C39-9F8E-5820830F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BC505-BE5F-4727-AD23-3D4A94C5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7B22A-76EE-4185-B902-A776F0AC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9E59-A967-4672-A9A1-20454AA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34563-05A6-4720-96D8-B400E478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C51C-95D9-4CEA-8B4A-259A7A6B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BC608-4D9B-491A-8082-2309EC98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2D58-B0B6-4DE6-A97B-CA8F9428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A0F0D-FE98-409C-BDC7-7BE0B2B8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58BD-7338-4E0E-B33E-438D1EEF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4E9B-F319-442C-AF08-1D991F4A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DBEE-4B06-4389-A35A-3BCFD1D9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636A-A874-4700-B66E-2F245EBB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61E63-D665-4230-A8E4-988DF8D9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132C-0A93-41C8-A0CA-0E9F0D8206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D35-5421-4EFA-9E30-D2960C54719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EA46-F48B-407A-A6FA-CE0916A3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9492-2EA3-49F3-99BB-DD281B537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МОУ «Средняя общеобразовательная школа №12»</a:t>
            </a:r>
            <a:r>
              <a:rPr b="1" lang="en-US" sz="1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186920" y="1988640"/>
            <a:ext cx="67820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ahoma"/>
              </a:rPr>
              <a:t>Инновационная деятельность в школ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66cc"/>
                </a:solidFill>
                <a:latin typeface="Tahoma"/>
              </a:rPr>
              <a:t>Технология укрупнения дидактических едини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00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Жизнь требует «исподвольного» овладения знаниями, а учёба – самый серьёзный  и кропотливый труд ребёнка, а должна быть радостным тру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. А. Сухомли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071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ДЕ – актуальна и перспективна потому, что обладает силой дальнодействия, закладывая в ученика черты деятельного интеллекта, способствует становлению активной лич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Основные способы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УДЕ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07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местное и одновременное изучение взаимосвязанных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деформированных упраж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прямой задачи и преобразование её в обрат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рупнение исходного упражнения посредством самостоятельного составления н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04760"/>
            <a:ext cx="8521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3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4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□ □ 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начит знак «-»,   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    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3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4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5445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076720" y="54450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3.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73342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им обрат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7-50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+50-7=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87280" y="981000"/>
                <a:ext cx="27370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К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иг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  <m:r>
                      <m:t xml:space="preserve"> </m:t>
                    </m:r>
                    <m:r>
                      <m:t xml:space="preserve">?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258920" y="2924280"/>
                <a:ext cx="213516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?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К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и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г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Задания разной степени трудности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алгорит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сопутствующим указ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ыбором правильного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рименением класс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спомогательными вопрос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ктивная умственная деятельность – одно из основных условий, которое обеспечивает технология У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4:56:27Z</dcterms:created>
  <dc:creator>Стрельцов Артур</dc:creator>
  <dc:description/>
  <dc:language>en-US</dc:language>
  <cp:lastModifiedBy>Стрельцов Артур</cp:lastModifiedBy>
  <dcterms:modified xsi:type="dcterms:W3CDTF">2007-02-02T16:46:41Z</dcterms:modified>
  <cp:revision>11</cp:revision>
  <dc:subject/>
  <dc:title>МОУ «Средняя общеобразовательная школа №12» </dc:title>
</cp:coreProperties>
</file>