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A12EA-F514-4308-98C8-9ED77608C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07C65-DDDE-4657-88B2-556964D0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D3E41-33F5-4670-A168-96BC8E048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0445D-1D60-427B-B856-2D9F1534D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53FD-1F91-4D97-9123-41CDD028E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909E-6319-4CC4-9805-AA93B471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E4BD-FCCE-4889-9160-D4CAA0F3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E03E-2932-4F3E-868A-582A249D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2C75-4050-4DDA-A71B-22177801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6059-4452-4B3C-8565-55C36904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2120-0BA1-4468-869A-5A550C2B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6C67C-73FF-4621-AC7C-256667CD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33A8-E4E9-4202-A931-13C565AD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F0F7-65B2-450D-AD81-2454111E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323C-A37D-4B7A-86DF-973791F6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13D8-0D05-4845-9821-C296CCEF3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9442-C1B2-4CBE-B820-7B780A56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F817B-495F-4392-A4C9-3F7666746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319C0-4570-4EB0-955E-7D3E1003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B97DD-30EC-411F-9943-1EE1EB13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C147F-41EA-4DE1-8995-FC5F3B32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043D2-6D79-4496-82FB-F8554AC7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7B03E-0ADD-479F-A58F-C134EC9E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5A5A7-D166-454D-83B1-93BCB30E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7DEE4-CDC7-42DF-850D-7F7012F0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02B13-BCEB-441E-98C6-EC66329E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EC5A1-1EC6-40B5-97D9-ABA9C86B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EB2E9-5FD1-42B6-80B8-BB7F78C4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B4A81-93BD-4C88-AC9F-3C0C8CF1B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95DE0-9060-43E5-89AE-158528115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113F0-01C0-42F7-ABFC-1C1FBDE02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FDABE-5FE0-4410-A71A-5669C72A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EC258-FB2B-4E44-83AC-09A22159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AC440-46B4-4D5C-98C2-A5A91549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0AFD8-6C78-4DB8-BF7D-531E4DA1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EC360-C0CF-485F-B08D-20D53D78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FA00E-26A1-4722-BA07-44167A39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65273-D1D5-40A8-A806-8BF94806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73038-A4CA-4353-B7AE-AEBEC0F1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5AD64-C8F1-4D4F-A7DF-9D845658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BE32C-DA6D-4CB8-8B62-63FEF593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0DE99-2A4E-4DB8-A37E-06C5AC20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800AD-9143-4445-8101-BEA7BFD75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6AC6C-7008-4BFE-864B-DD245979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C5942-3F41-4363-985A-D7AFCA1C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7333E-45C9-4CC9-822D-92FC77BD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B13CB-0AD2-4033-BA65-B3219503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6BA9D-4FC7-4EFF-A900-4203E8F3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E102-9F8A-4032-BBC6-4775203A001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5CA1-DB19-4ADF-BE7A-B3C4F061E90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2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7E2F-B7DC-4844-AE83-D1D2D163D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7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66F9-7E01-4622-B986-232056ED7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МОУ «Средняя общеобразовательная школа №12»</a:t>
            </a:r>
            <a:r>
              <a:rPr b="1" lang="en-US" sz="1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186920" y="1988640"/>
            <a:ext cx="678204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33"/>
                </a:solidFill>
                <a:latin typeface="Tahoma"/>
              </a:rPr>
              <a:t>Инновационная деятельность в школ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Технология укрупнения дидактических едини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007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Жизнь требует «исподвольного» овладения знаниями, а учёба – самый серьёзный  и кропотливый труд ребёнка, а должна быть радостным труд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В. А. Сухомлин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0071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УДЕ – актуальна и перспективна потому, что обладает силой дальнодействия, закладывая в ученика черты деятельного интеллекта, способствует становлению активной лич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Основные способы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УДЕ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071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вместное и одновременное изучение взаимосвязанных действ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нение деформированных упраж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ение прямой задачи и преобразование её в обрат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крупнение исходного упражнения посредством самостоятельного составления новых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.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04760"/>
            <a:ext cx="8521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3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=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4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□ □ 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значит знак «-»,     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     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216400" y="1904760"/>
            <a:ext cx="3927600" cy="15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-3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-4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572000" y="544500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5076720" y="544500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3.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733428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авим обратные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7-50=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0+50-7=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187280" y="981000"/>
                <a:ext cx="273708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К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5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иг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</m:eqArr>
                    <m:r>
                      <m:t xml:space="preserve"> </m:t>
                    </m:r>
                    <m:r>
                      <m:t xml:space="preserve">?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258920" y="2924280"/>
                <a:ext cx="2135160" cy="17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К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?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 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иг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К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иг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 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иг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Задания разной степени трудности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алгорит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сопутствующим указ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выбором правильного 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применением классифик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вспомогательными вопрос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539280" y="765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ктивная умственная деятельность – одно из основных условий, которое обеспечивает технология У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4:56:27Z</dcterms:created>
  <dc:creator>Стрельцов Артур</dc:creator>
  <dc:description/>
  <dc:language>en-US</dc:language>
  <cp:lastModifiedBy>Стрельцов Артур</cp:lastModifiedBy>
  <dcterms:modified xsi:type="dcterms:W3CDTF">2007-02-02T16:46:41Z</dcterms:modified>
  <cp:revision>11</cp:revision>
  <dc:subject/>
  <dc:title>МОУ «Средняя общеобразовательная школа №12» </dc:title>
</cp:coreProperties>
</file>