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88B-E98E-4E7B-9ACE-F810E082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D0C-A6E2-46C4-8D79-0B61DE1F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8AA-A242-49B7-ABCC-97B2156C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63F-79F0-41E5-8430-DDB75233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1181-C6B9-4A80-AB52-9A7CE948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CFE7-AD65-46E5-A964-F1411134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C4CA-9FB4-4515-9D5D-274DC12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C763-5934-4A38-BEF7-52C0D811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FC5A-B546-476B-BF2F-62D6D889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2175-A2D9-424B-BA0D-3388DE1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ECED-DED0-4722-9C70-6E750602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27B-B300-4CDB-A702-FAF090B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4E2-4D7D-45A2-956D-072A9C9E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C36B-84F8-4972-AB48-F006B11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D1A4-EE16-4904-AF89-AFB4FF43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EDC-CB6D-4A60-8F28-F1FF980F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F27C-EF69-4B48-9FA0-EFE94229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6ED-6EE1-4F75-AD51-6970D5BE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F44-4538-458F-BA52-F858790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85C-2F75-4B2E-9B40-8077BFD9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5B3-B7AF-4853-B6EB-38C84F9B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668-6F27-4E87-A2E2-62CF9AA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87F-8A2B-4F2D-9FED-4BDDB205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8B5-D528-4884-A83F-1AB7D65A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78F3-DB83-4A7C-9D16-4648A3E6F3E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0332-6ECF-4B41-A050-32A51586C22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34100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df49"/>
                </a:solidFill>
                <a:latin typeface="Arial"/>
              </a:rPr>
              <a:t>Презентация  книги «Артпедагогика</a:t>
            </a:r>
            <a:r>
              <a:rPr b="0" lang="ru-RU" sz="2400" spc="-1" strike="noStrike">
                <a:solidFill>
                  <a:srgbClr val="bfdf49"/>
                </a:solidFill>
                <a:latin typeface="Arial"/>
              </a:rPr>
              <a:t> и арттерапия в специальном образовании»</a:t>
            </a:r>
            <a:br>
              <a:rPr sz="2400"/>
            </a:br>
            <a:r>
              <a:rPr b="0" lang="ru-RU" sz="2400" spc="-1" strike="noStrike">
                <a:solidFill>
                  <a:srgbClr val="bfdf49"/>
                </a:solidFill>
                <a:latin typeface="Arial"/>
              </a:rPr>
              <a:t>(Учеб. для студ. сред. и высш. пед. учеб. заведений / Е. А. Медведева, И. Ю. Левченко, Л. Н. Комиссарова, Т. А. Добровольская)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езентацию сделала Захарова Н.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туд. 5 курса З/о логопеди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оверила проф. Баряева Л.Б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73200" y="1598760"/>
            <a:ext cx="296568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рименение методов арт-терапии и артпедагогики в специальном образовании рассматривается в работе Е. А. Медведевой, И. Ю. Левченко, Л. Н. Комиссаровой и Т. А. Добровольской . </a:t>
            </a:r>
            <a:r>
              <a:rPr b="0" lang="ru-RU" sz="2400" spc="-1" strike="noStrike">
                <a:solidFill>
                  <a:srgbClr val="dff395"/>
                </a:solidFill>
                <a:latin typeface="Arial"/>
              </a:rPr>
              <a:t>Она представляет собой первую в нашей стране попытку обобщения опыта применения искусства в качестве средства комплексного воспитательного, развивающего и коррекционного воздействия на детей с нарушениями в развитии (дети с проблемами слуха, зрения, речи, задержкой психического развития, нарушениями поведения, умственной отсталостью, нарушением опорно-двигательного аппарата). В книге дается краткий исторический обзор использования средств искусства в лечебных и коррекционных целях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3616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книге дается краткий исторический обзор использования средств искусства в лечебных и коррекционных целях освещается понятийный аппарат артпедагогики и арт-терапии. Показывается различие в содержании, задачах, функциях арт-терапевтических и артпедагогических воздействий применительно к работе с детьми с нарушениями в развитии..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309920" y="1598760"/>
            <a:ext cx="306072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ри этом авторы рассматривают </a:t>
            </a:r>
            <a:r>
              <a:rPr b="0" lang="ru-RU" sz="1800" spc="-1" strike="noStrike">
                <a:solidFill>
                  <a:srgbClr val="dff395"/>
                </a:solidFill>
                <a:latin typeface="Arial"/>
              </a:rPr>
              <a:t>арт-терапию как совокупность методик, построенных на применении разных видов искусства и позволяющих путем стимулирования художественно-творческих проявлений осуществлять психокоррекцию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Соответственно такому пониманию арт-терапии они включают в нее такие частные ее формы, как изотерапию, библиотерапию, кинезиотерапию, музыкотерапию, психодраму и некоторые другие. 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36176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книге отражается опыт применения артпедагогики в специальном образовании. </a:t>
            </a:r>
            <a:r>
              <a:rPr b="0" lang="ru-RU" sz="2000" spc="-1" strike="noStrike">
                <a:solidFill>
                  <a:srgbClr val="dff395"/>
                </a:solidFill>
                <a:latin typeface="Arial"/>
              </a:rPr>
              <a:t>В четвертом  разделе книги, представляющем для нас особый интерес, анализируются основы арт-терапии, как совокупности психокоррекционных воздействий в специальных образовательных учреждениях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2376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вторы придерживаются широкого толкования арт-терапии, поэтому  вопросы, связанные с применением изобразительных приемов и средств с целью достижения коррекционных и развивающих эффектов, занимают в книге относительно небольшое место. Даются лишь краткие рекомендации относительно использования некоторых техник изотерапевтического характера со ссылками на работы А. И. Копытина  и О. А. Карабановой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f395"/>
                </a:solidFill>
                <a:latin typeface="Arial"/>
              </a:rPr>
              <a:t>Основная заслуга авторов данной публикации, по-моему  мнению, заключается, прежде всего, в их попытке обобщить опыт применения артпедагогики и арт-терапии в специальном образовании и определить отношения между этими двумя направлениями в работе с детьми с нарушениями в развитии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395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4:49:45Z</dcterms:created>
  <dc:creator>Наталья</dc:creator>
  <dc:description/>
  <dc:language>en-US</dc:language>
  <cp:lastModifiedBy>Наталья</cp:lastModifiedBy>
  <dcterms:modified xsi:type="dcterms:W3CDTF">2013-04-01T05:43:47Z</dcterms:modified>
  <cp:revision>2</cp:revision>
  <dc:subject/>
  <dc:title>Артпедагогика и арттерапия в специальном образовании: Учеб. для студ. сред. и высш. пед. учеб. заведений / Е. А. Медведева, И. Ю. Левченко, Л. Н. Комиссарова, Т. А. Добровольская.</dc:title>
</cp:coreProperties>
</file>