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DE3-16B5-49F7-A472-093F5C0C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F26-C9E1-408A-8F62-6E8B589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712-2903-4384-AD69-82DFA95A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B06-1F6F-4782-8E83-1A1F91A7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E52-986E-45B6-A156-32203093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E084-5814-41F0-A202-BA97FAB3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2979-123D-469B-9A70-9B05BDC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39E-CB7C-4BFB-A22B-936DC71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379-5F28-47AD-9D8D-2076CCB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46B5-FBBE-410A-B28D-8298D61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BD3F-EDD9-47CC-AF21-82B0E81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E9D-9231-4352-8299-867220B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DA0-D5E1-424A-AD64-14FED6FB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1338-DB87-4470-9FED-C3D5FFD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477-34F5-4E3B-AE32-9C9745BD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A651-1C2C-47A2-8D97-8706161A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38C-3AAA-4E05-B4E6-9B40034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AEE-8900-4DF8-A99E-55ACE892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C4E-6649-4717-9809-AD41D0C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10C-6499-4F08-B1CA-4DA1A94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6BC-C507-43D7-93DC-89C1A58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3B6-C57D-4C98-827B-8077904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1A5-2551-4FFA-8582-641D297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DB9-29DC-4D68-83E2-B6484C0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57F-6DEB-46E2-8882-74BA07AA021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883A-92BE-468C-B812-88B9E735859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df49"/>
                </a:solidFill>
                <a:latin typeface="Arial"/>
              </a:rPr>
              <a:t>Презентация  книги «Артпедагогика</a:t>
            </a:r>
            <a:r>
              <a:rPr b="0" lang="ru-RU" sz="2400" spc="-1" strike="noStrike">
                <a:solidFill>
                  <a:srgbClr val="bfdf49"/>
                </a:solidFill>
                <a:latin typeface="Arial"/>
              </a:rPr>
              <a:t> и арттерапия в специальном образовании»</a:t>
            </a:r>
            <a:br>
              <a:rPr sz="2400"/>
            </a:br>
            <a:r>
              <a:rPr b="0" lang="ru-RU" sz="2400" spc="-1" strike="noStrike">
                <a:solidFill>
                  <a:srgbClr val="bfdf49"/>
                </a:solidFill>
                <a:latin typeface="Arial"/>
              </a:rPr>
              <a:t>(Учеб. для студ. сред. и высш. пед. учеб. заведений / Е. А. Медведева, И. Ю. Левченко, Л. Н. Комиссарова, Т. А. Добровольская)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зентацию сделала Захарова Н.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уд. 5 курса З/о логопеди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рила проф. Баряева Л.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73200" y="1598760"/>
            <a:ext cx="29656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менение методов арт-терапии и артпедагогики в специальном образовании рассматривается в работе Е. А. Медведевой, И. Ю. Левченко, Л. Н. Комиссаровой и Т. А. Добровольской . </a:t>
            </a:r>
            <a:r>
              <a:rPr b="0" lang="ru-RU" sz="2400" spc="-1" strike="noStrike">
                <a:solidFill>
                  <a:srgbClr val="dff395"/>
                </a:solidFill>
                <a:latin typeface="Arial"/>
              </a:rPr>
              <a:t>Она представляет собой первую в нашей стране попытку обобщения опыта применения искусства в качестве средства комплексного воспитательного, развивающего и коррекционного воздействия на детей с нарушениями в развитии (дети с проблемами слуха, зрения, речи, задержкой психического развития, нарушениями поведения, умственной отсталостью, нарушением опорно-двигательного аппарата). В книге дается краткий исторический обзор использования средств искусства в лечебных и коррекционных целя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книге дается краткий исторический обзор использования средств искусства в лечебных и коррекционных целях освещается понятийный аппарат артпедагогики и арт-терапии. Показывается различие в содержании, задачах, функциях арт-терапевтических и артпедагогических воздействий применительно к работе с детьми с нарушениями в развитии..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309920" y="1598760"/>
            <a:ext cx="3060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 этом авторы рассматривают </a:t>
            </a:r>
            <a:r>
              <a:rPr b="0" lang="ru-RU" sz="1800" spc="-1" strike="noStrike">
                <a:solidFill>
                  <a:srgbClr val="dff395"/>
                </a:solidFill>
                <a:latin typeface="Arial"/>
              </a:rPr>
              <a:t>арт-терапию как совокупность методик, построенных на применении разных видов искусства и позволяющих путем стимулирования художественно-творческих проявлений осуществлять психокоррекцию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Соответственно такому пониманию арт-терапии они включают в нее такие частные ее формы, как изотерапию, библиотерапию, кинезиотерапию, музыкотерапию, психодраму и некоторые другие.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36176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книге отражается опыт применения артпедагогики в специальном образовании. </a:t>
            </a:r>
            <a:r>
              <a:rPr b="0" lang="ru-RU" sz="2000" spc="-1" strike="noStrike">
                <a:solidFill>
                  <a:srgbClr val="dff395"/>
                </a:solidFill>
                <a:latin typeface="Arial"/>
              </a:rPr>
              <a:t>В четвертом  разделе книги, представляющем для нас особый интерес, анализируются основы арт-терапии, как совокупности психокоррекционных воздействий в специальных образовательных учреждениях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2376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вторы придерживаются широкого толкования арт-терапии, поэтому  вопросы, связанные с применением изобразительных приемов и средств с целью достижения коррекционных и развивающих эффектов, занимают в книге относительно небольшое место. Даются лишь краткие рекомендации относительно использования некоторых техник изотерапевтического характера со ссылками на работы А. И. Копытина  и О. А. Карабаново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f395"/>
                </a:solidFill>
                <a:latin typeface="Arial"/>
              </a:rPr>
              <a:t>Основная заслуга авторов данной публикации, по-моему  мнению, заключается, прежде всего, в их попытке обобщить опыт применения артпедагогики и арт-терапии в специальном образовании и определить отношения между этими двумя направлениями в работе с детьми с нарушениями в развит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395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4:49:45Z</dcterms:created>
  <dc:creator>Наталья</dc:creator>
  <dc:description/>
  <dc:language>en-US</dc:language>
  <cp:lastModifiedBy>Наталья</cp:lastModifiedBy>
  <dcterms:modified xsi:type="dcterms:W3CDTF">2013-04-01T05:43:47Z</dcterms:modified>
  <cp:revision>2</cp:revision>
  <dc:subject/>
  <dc:title>Артпедагогика и арттерапия в специальном образовании: Учеб. для студ. сред. и высш. пед. учеб. заведений / Е. А. Медведева, И. Ю. Левченко, Л. Н. Комиссарова, Т. А. Добровольская.</dc:title>
</cp:coreProperties>
</file>