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854-C4B5-4479-8A00-D31B2B80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966-E30E-4F2A-96CC-07701759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95E-062E-4E96-92DB-A3E7D103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3C8-4A1E-4844-925D-54D28EC4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55B-7EE9-412B-83C8-B764A115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F36-D4AD-48C7-B0C0-FCA95CEB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395E-FF90-4C05-86A8-25A22C38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620-0947-403C-A4FE-4C30E3F7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06E-7682-4E16-9AC7-99230715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7A7-54F6-49E9-A5B5-D75771E3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646-D88C-42C1-AE90-732F7B1B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2CB-B37A-4503-987E-DF331BE3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71F9-264B-44EA-A890-5AD7BBBEE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е фла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осударственный флаг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867280" y="1219320"/>
            <a:ext cx="28195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ый – мир, чистота сов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ний – небо, верность, прав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ный – огонь, отва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5410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осударственные герб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2143080" cy="243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553080" y="1447920"/>
            <a:ext cx="1720800" cy="2124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2361960" cy="2214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276720" y="129528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352680" y="3809880"/>
            <a:ext cx="2170080" cy="274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172200" y="3733920"/>
            <a:ext cx="2346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осударственный герб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фоне красного щита – золотой двуглавый ор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она, скипетр и держава – символы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груди орла – изображение Георгия Победонос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нституция Российской Федерации – основной закон Госуда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038480" cy="57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0" y="-2286000"/>
            <a:ext cx="1828800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усские послов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 у человека 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Родины сво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реги землю родим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т земли кра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мать любиму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м Русь-матушка н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 у него и 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 сил, ни жизни не жа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ой теа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62012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ториче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238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ем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0972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б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асилия  Блажен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4800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pc</cp:lastModifiedBy>
  <dcterms:modified xsi:type="dcterms:W3CDTF">2013-04-06T12:29:0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