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D2B-6B85-4785-8829-AA75CF1F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98C-FE40-437E-843A-3E108225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65C-970D-4739-9DF0-4EDE722B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486-5AE6-464F-902A-7336FA20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3EB-94B3-4647-8893-D2EDDCC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33C-B5D8-469D-B12A-7B90E5E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757-CB0E-4C63-8998-DC9749E7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F5A-A7D0-43FE-85D3-CB63704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D1C-E0B7-4186-A3B0-EFE32562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86A-32AA-4BF8-833E-5E841D7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73F-5C93-4BA6-BA00-1DC9DF9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FB8-B89F-458C-AAA4-6BCA9664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D62-6C1B-4D93-B8E0-50AB1257F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е фл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сударственный флаг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67280" y="1219320"/>
            <a:ext cx="2819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й – мир, чистота с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ий – небо, верность, прав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ый – огонь, отв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5410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сударственные гер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143080" cy="24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720800" cy="2124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2361960" cy="221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76720" y="1295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352680" y="3809880"/>
            <a:ext cx="217008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172200" y="3733920"/>
            <a:ext cx="2346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фоне красного щита – золотой двуглавый 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она, скипетр и держава – символы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груди орла – изображение Георгия Победонос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ституция Российской Федерации – основной закон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3848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0" y="-2286000"/>
            <a:ext cx="1828800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ские 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у человек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Родины сво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еги землю родим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 земли кра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мать любим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Русь-матушка н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у него и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сил, ни жизни не ж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теа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97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силия  Блаже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800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pc</cp:lastModifiedBy>
  <dcterms:modified xsi:type="dcterms:W3CDTF">2013-04-06T12:29:0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