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F298-72F5-412F-A6D7-80BBD101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6EE-53DD-48B2-9127-9CBFA515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FB8-A158-4A0A-B18A-8BA1609B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EF1-E8F8-4AEF-9DC7-CEE1AC7E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707-4D77-4D86-B477-9490D14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DA6-979D-4162-92FD-2055CFAD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31F-0E3C-4D0C-80D2-5D6DCFAE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FF8-B865-44EF-A001-990EAE08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1EA-B342-4A53-A796-009299B0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9FD-EF14-442C-9BBF-006C5980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6F3-A9E1-4263-9F3C-930EEDD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60D-5473-481D-9C98-31A74E7A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A0C6-571E-4527-9A1D-33AF0054A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12840" y="-236520"/>
            <a:ext cx="9771120" cy="73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00560" y="1755720"/>
            <a:ext cx="23428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280" y="1709640"/>
            <a:ext cx="76532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87640" y="1282680"/>
            <a:ext cx="49687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riander</cp:lastModifiedBy>
  <dcterms:modified xsi:type="dcterms:W3CDTF">2001-01-06T10:27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