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2C8-6BC3-4C1C-AEBD-36EC0425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CAF-9244-423B-A19E-8F1F15A9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0CA-8C85-4EA1-ADAB-FF2C7570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3BA-D912-43F8-81BF-AE24940C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A98-FFE4-4225-AF7B-AE4EA0D4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DB0-79C0-46CD-A419-B2E3FA18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701-A816-4DB9-99EC-B737FE37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DE3-F791-4408-8100-2D88D260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080-24A5-4DE3-A3F3-7BD69226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71F-B5F5-4908-92E2-BE328086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68A-1593-406F-8788-ABBAC822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DCD-1BFD-468B-B9B4-60A58708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1DCD-37EB-4623-82A0-90B2C3A9A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12840" y="-236520"/>
            <a:ext cx="9771120" cy="73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00560" y="1755720"/>
            <a:ext cx="234288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280" y="1709640"/>
            <a:ext cx="76532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87640" y="1282680"/>
            <a:ext cx="49687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riander</cp:lastModifiedBy>
  <dcterms:modified xsi:type="dcterms:W3CDTF">2001-01-06T10:27:5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