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7BC9-1BCF-446F-BC53-FD036625D9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6E80-83BC-4442-B8FB-4979312CB1CB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662B-47DE-4BE2-B95A-9C8DEF12B5D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ED0-6BF5-4301-9AFE-FCC8284F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FC8D-94FC-4157-86A8-BAC23D95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FBD-4E99-4B38-9243-447741CE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AA3-C618-461C-BA95-8A54FCBA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B4D1-D591-46FA-AA5C-692605E1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0E9A-2329-47CA-B874-C2732493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1404-B744-43A4-A042-09ACE723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132B-F7D6-4EAE-8E5E-AED85483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B9E4-B1F0-49F8-B575-ECA3EEA5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9084-60F6-492A-875F-35959582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DEF3-3FE9-4DB9-B433-138950B9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16D-37D8-40F0-A352-90EDDE84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7DB7-3616-4C79-8152-8B41FF57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5B70-CCA8-4947-9205-CDCCB94F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5073-D112-4F67-A9D8-08C75C1C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7A7E-E545-48F4-84A7-105366EE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C344-CED0-4AF4-A393-56DCE62D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145-850A-4EC1-BC06-C3691752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7D9-8734-42EB-800F-A2EB45C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846-D0C7-4C78-AED1-8F1716B9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56E-9FCC-47FB-BE6D-E824C0D0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08D-C8A9-49EE-AD76-41A2E04C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9F5-D830-45BE-8AE0-4A767E5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ED2-C677-4F5D-BCF4-03C03646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7D5D-C7D9-49F9-BDAB-10B678C2891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E5B4-39C1-4781-9109-DEB8808BF79F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a3d7a"/>
                </a:solidFill>
                <a:latin typeface="Times New Roman"/>
              </a:rPr>
              <a:t>Водоросли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Одноклеточные водоросл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Многоклеточные водоросл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5388120" cy="54007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611280" y="6922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6804000" y="1268280"/>
            <a:ext cx="100800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7164360" y="2276640"/>
            <a:ext cx="115272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7164360" y="2997360"/>
            <a:ext cx="107964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6875640" y="3645000"/>
            <a:ext cx="108108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7308720" y="4365720"/>
            <a:ext cx="86364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6804000" y="5373720"/>
            <a:ext cx="93672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2124000" y="3573360"/>
            <a:ext cx="100800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2268360" y="2924280"/>
            <a:ext cx="71928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556000" y="2205000"/>
            <a:ext cx="86364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611280" y="98100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3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Питание плевроккок осуществляется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А)в пресных водоемах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Б)на влажных почвах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В)атмосферными осадками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Г) в морях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395280" y="981000"/>
            <a:ext cx="820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4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Дайте определения следующим понятиям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Жгутик –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Хроматофор –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Красный глазок -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468360" y="333360"/>
            <a:ext cx="511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5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4035240" cy="5545440"/>
          </a:xfrm>
          <a:prstGeom prst="rect">
            <a:avLst/>
          </a:prstGeom>
          <a:ln w="0">
            <a:noFill/>
          </a:ln>
        </p:spPr>
      </p:pic>
      <p:sp>
        <p:nvSpPr>
          <p:cNvPr id="158" name="Правая фигурная скобка 3"/>
          <p:cNvSpPr/>
          <p:nvPr/>
        </p:nvSpPr>
        <p:spPr>
          <a:xfrm>
            <a:off x="3924360" y="1125360"/>
            <a:ext cx="2879640" cy="3816360"/>
          </a:xfrm>
          <a:custGeom>
            <a:avLst/>
            <a:gdLst>
              <a:gd name="textAreaLeft" fmla="*/ 0 w 2879640"/>
              <a:gd name="textAreaRight" fmla="*/ 1039680 w 2879640"/>
              <a:gd name="textAreaTop" fmla="*/ 74880 h 3816360"/>
              <a:gd name="textAreaBottom" fmla="*/ 374148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9"/>
                  <a:pt x="10800" y="1358"/>
                </a:cubicBezTo>
                <a:lnTo>
                  <a:pt x="10800" y="9442"/>
                </a:lnTo>
                <a:cubicBezTo>
                  <a:pt x="10800" y="10121"/>
                  <a:pt x="16200" y="10800"/>
                  <a:pt x="21600" y="10800"/>
                </a:cubicBezTo>
                <a:cubicBezTo>
                  <a:pt x="16200" y="10800"/>
                  <a:pt x="10800" y="11479"/>
                  <a:pt x="10800" y="12158"/>
                </a:cubicBezTo>
                <a:lnTo>
                  <a:pt x="10800" y="20242"/>
                </a:lnTo>
                <a:cubicBezTo>
                  <a:pt x="10800" y="2092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c453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59" name="Прямая со стрелкой 5"/>
          <p:cNvCxnSpPr/>
          <p:nvPr/>
        </p:nvCxnSpPr>
        <p:spPr>
          <a:xfrm>
            <a:off x="3348000" y="6308280"/>
            <a:ext cx="2161080" cy="108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160" name="TextBox 8"/>
          <p:cNvSpPr/>
          <p:nvPr/>
        </p:nvSpPr>
        <p:spPr>
          <a:xfrm>
            <a:off x="7020000" y="2708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651640" y="59500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755640" y="112536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6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Почему водоросли относят к низшим растениям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?(</a:t>
            </a: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развернутый ответ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2. Многоклеточные водоросл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611280" y="2349360"/>
            <a:ext cx="52560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Зеленые водоросли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Улотрикс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Спирогира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Ульва или морской сала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Нителл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Блестянка гибка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3990960" cy="5249880"/>
          </a:xfrm>
          <a:prstGeom prst="rect">
            <a:avLst/>
          </a:prstGeom>
          <a:ln w="0">
            <a:noFill/>
          </a:ln>
        </p:spPr>
      </p:pic>
      <p:cxnSp>
        <p:nvCxnSpPr>
          <p:cNvPr id="166" name="Прямая со стрелкой 3"/>
          <p:cNvCxnSpPr/>
          <p:nvPr/>
        </p:nvCxnSpPr>
        <p:spPr>
          <a:xfrm flipV="1">
            <a:off x="4284360" y="1483920"/>
            <a:ext cx="1656360" cy="144720"/>
          </a:xfrm>
          <a:prstGeom prst="straightConnector1">
            <a:avLst/>
          </a:prstGeom>
          <a:ln w="38160">
            <a:solidFill>
              <a:srgbClr val="4c453d"/>
            </a:solidFill>
            <a:miter/>
            <a:tailEnd len="med" type="arrow" w="med"/>
          </a:ln>
        </p:spPr>
      </p:cxnSp>
      <p:cxnSp>
        <p:nvCxnSpPr>
          <p:cNvPr id="167" name="Прямая со стрелкой 5"/>
          <p:cNvCxnSpPr/>
          <p:nvPr/>
        </p:nvCxnSpPr>
        <p:spPr>
          <a:xfrm>
            <a:off x="3564000" y="1916280"/>
            <a:ext cx="2232720" cy="289440"/>
          </a:xfrm>
          <a:prstGeom prst="straightConnector1">
            <a:avLst/>
          </a:prstGeom>
          <a:ln w="38160">
            <a:solidFill>
              <a:srgbClr val="4c453d"/>
            </a:solidFill>
            <a:miter/>
            <a:tailEnd len="med" type="arrow" w="med"/>
          </a:ln>
        </p:spPr>
      </p:cxnSp>
      <p:cxnSp>
        <p:nvCxnSpPr>
          <p:cNvPr id="168" name="Прямая со стрелкой 8"/>
          <p:cNvCxnSpPr/>
          <p:nvPr/>
        </p:nvCxnSpPr>
        <p:spPr>
          <a:xfrm>
            <a:off x="3563640" y="2923920"/>
            <a:ext cx="2088360" cy="144720"/>
          </a:xfrm>
          <a:prstGeom prst="straightConnector1">
            <a:avLst/>
          </a:prstGeom>
          <a:ln w="38160">
            <a:solidFill>
              <a:srgbClr val="4c453d"/>
            </a:solidFill>
            <a:miter/>
            <a:tailEnd len="med" type="arrow" w="med"/>
          </a:ln>
        </p:spPr>
      </p:cxnSp>
      <p:cxnSp>
        <p:nvCxnSpPr>
          <p:cNvPr id="169" name="Прямая со стрелкой 10"/>
          <p:cNvCxnSpPr/>
          <p:nvPr/>
        </p:nvCxnSpPr>
        <p:spPr>
          <a:xfrm flipV="1">
            <a:off x="3276720" y="5157000"/>
            <a:ext cx="2232720" cy="72360"/>
          </a:xfrm>
          <a:prstGeom prst="straightConnector1">
            <a:avLst/>
          </a:prstGeom>
          <a:ln w="38160">
            <a:solidFill>
              <a:srgbClr val="4c453d"/>
            </a:solidFill>
            <a:miter/>
            <a:tailEnd len="med" type="arrow" w="med"/>
          </a:ln>
        </p:spPr>
      </p:cxnSp>
      <p:sp>
        <p:nvSpPr>
          <p:cNvPr id="170" name="TextBox 11"/>
          <p:cNvSpPr/>
          <p:nvPr/>
        </p:nvSpPr>
        <p:spPr>
          <a:xfrm>
            <a:off x="6156360" y="1197000"/>
            <a:ext cx="2016000" cy="45972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БОЛОЧ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6012000" y="2060640"/>
            <a:ext cx="2592360" cy="45972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ЦИТОПЛАЗМ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5867280" y="2997360"/>
            <a:ext cx="2592360" cy="45972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ХРОМАТОФО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5651640" y="4869000"/>
            <a:ext cx="2736720" cy="45972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ЯДРО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3924360" y="6237360"/>
            <a:ext cx="3527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c4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ПИРОГИР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826920" y="98100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a6b05"/>
                </a:solidFill>
                <a:latin typeface="Times New Roman"/>
              </a:rPr>
              <a:t>Бурые водоросли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6b05"/>
                </a:solidFill>
                <a:latin typeface="Times New Roman"/>
              </a:rPr>
              <a:t>Ламинария или морская капуста, цистозейра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826920" y="29242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Многоклеточные с желтовато – бурой окраской слоевищ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лоевища могут быть: нитевидными, шаровидными, пластинчатыми, кустообразными. К грунту прикрепляются при помощи ризоидов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3502080" cy="5329440"/>
          </a:xfrm>
          <a:prstGeom prst="rect">
            <a:avLst/>
          </a:prstGeom>
          <a:ln w="0">
            <a:noFill/>
          </a:ln>
        </p:spPr>
      </p:pic>
      <p:cxnSp>
        <p:nvCxnSpPr>
          <p:cNvPr id="178" name="Прямая со стрелкой 3"/>
          <p:cNvCxnSpPr/>
          <p:nvPr/>
        </p:nvCxnSpPr>
        <p:spPr>
          <a:xfrm>
            <a:off x="3780000" y="3068280"/>
            <a:ext cx="2088000" cy="1080"/>
          </a:xfrm>
          <a:prstGeom prst="straightConnector1">
            <a:avLst/>
          </a:prstGeom>
          <a:ln w="38160">
            <a:solidFill>
              <a:srgbClr val="e3af5a"/>
            </a:solidFill>
            <a:miter/>
            <a:tailEnd len="med" type="arrow" w="med"/>
          </a:ln>
        </p:spPr>
      </p:cxnSp>
      <p:cxnSp>
        <p:nvCxnSpPr>
          <p:cNvPr id="179" name="Прямая со стрелкой 5"/>
          <p:cNvCxnSpPr/>
          <p:nvPr/>
        </p:nvCxnSpPr>
        <p:spPr>
          <a:xfrm flipV="1">
            <a:off x="4211280" y="5949720"/>
            <a:ext cx="1585080" cy="72000"/>
          </a:xfrm>
          <a:prstGeom prst="straightConnector1">
            <a:avLst/>
          </a:prstGeom>
          <a:ln w="38160">
            <a:solidFill>
              <a:srgbClr val="e3af5a"/>
            </a:solidFill>
            <a:miter/>
            <a:tailEnd len="med" type="arrow" w="med"/>
          </a:ln>
        </p:spPr>
      </p:cxnSp>
      <p:sp>
        <p:nvSpPr>
          <p:cNvPr id="180" name="TextBox 7"/>
          <p:cNvSpPr/>
          <p:nvPr/>
        </p:nvSpPr>
        <p:spPr>
          <a:xfrm>
            <a:off x="6084720" y="2708280"/>
            <a:ext cx="2448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ЛОЕВИЩ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5940360" y="5661000"/>
            <a:ext cx="28083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РИЗОИД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468360" y="6093000"/>
            <a:ext cx="2808360" cy="459720"/>
          </a:xfrm>
          <a:prstGeom prst="rect">
            <a:avLst/>
          </a:prstGeom>
          <a:noFill/>
          <a:ln w="9360">
            <a:solidFill>
              <a:srgbClr val="4c4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5904"/>
                </a:solidFill>
                <a:latin typeface="Times New Roman"/>
              </a:rPr>
              <a:t>ЛАМИНАРИ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611280" y="981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расные водоросли или багрянки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Филлофора,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орфира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Родимения,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фельция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250920" y="38116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 основном многоклеточные, в клетках содержаться зеленый, красный и синий пигменты. Слоевище: нитевидные, цилиндрические, пластинчатые и караллоподобные. Растут на значительных глубинах 100 – 200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одоросли – низшие растения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826920" y="1963800"/>
            <a:ext cx="410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e37"/>
                </a:solidFill>
                <a:latin typeface="Times New Roman"/>
              </a:rPr>
              <a:t>Водоросли самые древние растения на Земле. Это низшие растения т.к. не имеют корней, стеблей, листьев. Размножаются деление клеток или спорами. Они встречаются повсюду: в морях и океанах, в пресных водоёмах, на влажной почве и на коре деревьев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Picture 6" descr="C:\Documents and Settings\LG\Рабочий стол\биология\Водоросли зелёные, красные и бурые.files\2.jpg"/>
          <p:cNvPicPr/>
          <p:nvPr/>
        </p:nvPicPr>
        <p:blipFill>
          <a:blip r:embed="rId1"/>
          <a:stretch/>
        </p:blipFill>
        <p:spPr>
          <a:xfrm>
            <a:off x="5508720" y="2133720"/>
            <a:ext cx="2954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332000" y="928800"/>
            <a:ext cx="3384360" cy="5340240"/>
          </a:xfrm>
          <a:prstGeom prst="rect">
            <a:avLst/>
          </a:prstGeom>
          <a:ln w="0">
            <a:noFill/>
          </a:ln>
        </p:spPr>
      </p:pic>
      <p:cxnSp>
        <p:nvCxnSpPr>
          <p:cNvPr id="186" name="Прямая со стрелкой 3"/>
          <p:cNvCxnSpPr/>
          <p:nvPr/>
        </p:nvCxnSpPr>
        <p:spPr>
          <a:xfrm flipV="1">
            <a:off x="3419280" y="2204280"/>
            <a:ext cx="2665800" cy="7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7" name="Прямая со стрелкой 6"/>
          <p:cNvCxnSpPr/>
          <p:nvPr/>
        </p:nvCxnSpPr>
        <p:spPr>
          <a:xfrm flipV="1">
            <a:off x="3419280" y="5949720"/>
            <a:ext cx="1945080" cy="72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8" name="TextBox 7"/>
          <p:cNvSpPr/>
          <p:nvPr/>
        </p:nvSpPr>
        <p:spPr>
          <a:xfrm>
            <a:off x="6372360" y="1844640"/>
            <a:ext cx="2376360" cy="459720"/>
          </a:xfrm>
          <a:prstGeom prst="rect">
            <a:avLst/>
          </a:prstGeom>
          <a:solidFill>
            <a:srgbClr val="f29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ЛОЕВИЩ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5580000" y="5732640"/>
            <a:ext cx="2879640" cy="459720"/>
          </a:xfrm>
          <a:prstGeom prst="rect">
            <a:avLst/>
          </a:prstGeom>
          <a:solidFill>
            <a:srgbClr val="f29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РИЗОИД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539640" y="6165720"/>
            <a:ext cx="2519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РФИР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3. Значение водорослей в природе и жизни челове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684360" y="1587600"/>
            <a:ext cx="727236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Роль водорослей в природе</a:t>
            </a:r>
            <a:r>
              <a:rPr b="0" lang="ru-RU" sz="36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450720"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В процессе фотосинтеза выделяют кислород, необходимый им для дыхани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50720"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Пища для многих морских животных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50720"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Приют для рыб и многих других животных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50720"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Обогащение воды кислородом в процессе фотосинтез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50720"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Некоторые виды участвуют в почвообразовании, когда попадают на бесплодные субстраты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755640" y="692280"/>
            <a:ext cx="77770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Роль водорослей в жизни и деятельности человека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Являются продуктами питания для человек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Используются в качестве добавки к корму для скот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Изготовление удобрений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Использование в химической промышленности (йод, спирт, уксусная кислота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Биологическая очистка сточных вод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Получение лекарственных препаратов и биологически активных добавок к пище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Прямоугольник 1" descr=""/>
          <p:cNvPicPr/>
          <p:nvPr/>
        </p:nvPicPr>
        <p:blipFill>
          <a:blip r:embed="rId1"/>
          <a:stretch/>
        </p:blipFill>
        <p:spPr>
          <a:xfrm>
            <a:off x="165240" y="1695600"/>
            <a:ext cx="8734320" cy="39798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539640" y="9079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0404"/>
                </a:solidFill>
                <a:latin typeface="Times New Roman"/>
              </a:rPr>
              <a:t>Вред наносимый водорослями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4035600" cy="5545440"/>
          </a:xfrm>
          <a:prstGeom prst="rect">
            <a:avLst/>
          </a:prstGeom>
          <a:ln w="0">
            <a:noFill/>
          </a:ln>
        </p:spPr>
      </p:pic>
      <p:sp>
        <p:nvSpPr>
          <p:cNvPr id="104" name="Правая фигурная скобка 2"/>
          <p:cNvSpPr/>
          <p:nvPr/>
        </p:nvSpPr>
        <p:spPr>
          <a:xfrm>
            <a:off x="3348000" y="1052640"/>
            <a:ext cx="3816360" cy="3456000"/>
          </a:xfrm>
          <a:custGeom>
            <a:avLst/>
            <a:gdLst>
              <a:gd name="textAreaLeft" fmla="*/ 0 w 3816360"/>
              <a:gd name="textAreaRight" fmla="*/ 1378080 w 381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e6fa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7020000" y="220500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лоевище ил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таллом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06" name="Прямая со стрелкой 5"/>
          <p:cNvCxnSpPr/>
          <p:nvPr/>
        </p:nvCxnSpPr>
        <p:spPr>
          <a:xfrm flipH="1">
            <a:off x="2986920" y="5805360"/>
            <a:ext cx="2809080" cy="145440"/>
          </a:xfrm>
          <a:prstGeom prst="straightConnector1">
            <a:avLst/>
          </a:prstGeom>
          <a:ln w="38160">
            <a:solidFill>
              <a:srgbClr val="2e6faf"/>
            </a:solidFill>
            <a:miter/>
            <a:tailEnd len="med" type="arrow" w="med"/>
          </a:ln>
        </p:spPr>
      </p:cxnSp>
      <p:sp>
        <p:nvSpPr>
          <p:cNvPr id="107" name="TextBox 6"/>
          <p:cNvSpPr/>
          <p:nvPr/>
        </p:nvSpPr>
        <p:spPr>
          <a:xfrm>
            <a:off x="5940360" y="551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1623"/>
                </a:solidFill>
                <a:latin typeface="Times New Roman"/>
              </a:rPr>
              <a:t>Ризоид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2981160" y="914400"/>
            <a:ext cx="3614760" cy="853920"/>
          </a:xfrm>
          <a:prstGeom prst="rect">
            <a:avLst/>
          </a:prstGeom>
          <a:ln w="0">
            <a:noFill/>
          </a:ln>
        </p:spPr>
      </p:pic>
      <p:cxnSp>
        <p:nvCxnSpPr>
          <p:cNvPr id="109" name="Прямая со стрелкой 3"/>
          <p:cNvCxnSpPr/>
          <p:nvPr/>
        </p:nvCxnSpPr>
        <p:spPr>
          <a:xfrm flipH="1">
            <a:off x="2699640" y="1844640"/>
            <a:ext cx="1080360" cy="93744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cxnSp>
        <p:nvCxnSpPr>
          <p:cNvPr id="110" name="Прямая со стрелкой 5"/>
          <p:cNvCxnSpPr/>
          <p:nvPr/>
        </p:nvCxnSpPr>
        <p:spPr>
          <a:xfrm>
            <a:off x="5292720" y="1844280"/>
            <a:ext cx="1224720" cy="108036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111" name="Овал 6"/>
          <p:cNvSpPr/>
          <p:nvPr/>
        </p:nvSpPr>
        <p:spPr>
          <a:xfrm>
            <a:off x="1187280" y="2708280"/>
            <a:ext cx="2808360" cy="22334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дноклеточны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Овал 7"/>
          <p:cNvSpPr/>
          <p:nvPr/>
        </p:nvSpPr>
        <p:spPr>
          <a:xfrm>
            <a:off x="5867280" y="3068640"/>
            <a:ext cx="2737080" cy="2232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ногоклеточны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Содержимое 5" descr="биология3.jpeg"/>
          <p:cNvPicPr/>
          <p:nvPr/>
        </p:nvPicPr>
        <p:blipFill>
          <a:blip r:embed="rId2"/>
          <a:stretch/>
        </p:blipFill>
        <p:spPr>
          <a:xfrm>
            <a:off x="1258920" y="4149720"/>
            <a:ext cx="2338200" cy="24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6084720" y="4076640"/>
            <a:ext cx="22323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1. Одноклеточные водоросли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611280" y="227664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о время цветения воды встречается одноклеточная водоросль –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хламидомонад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дноклеточная водоросль грушевидной формы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ередвигается при помощи жгутиков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А) Строение хламидомонад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8" name="Рисунок 2" descr="[[[[[[[[.bmp"/>
          <p:cNvPicPr/>
          <p:nvPr/>
        </p:nvPicPr>
        <p:blipFill>
          <a:blip r:embed="rId1"/>
          <a:stretch/>
        </p:blipFill>
        <p:spPr>
          <a:xfrm>
            <a:off x="-74520" y="1674720"/>
            <a:ext cx="9218520" cy="518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64000" y="2060640"/>
            <a:ext cx="36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1. Глазок – светочувствительное тельц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2. Жгутик орган передвиж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3. Хроматофор- чашеобразная пластида в котором находится хлорофилл (придает окраску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Б) Строение хлорелл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Овал 2"/>
          <p:cNvSpPr/>
          <p:nvPr/>
        </p:nvSpPr>
        <p:spPr>
          <a:xfrm>
            <a:off x="1187280" y="2565360"/>
            <a:ext cx="3456000" cy="33116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443e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Овал 3"/>
          <p:cNvSpPr/>
          <p:nvPr/>
        </p:nvSpPr>
        <p:spPr>
          <a:xfrm>
            <a:off x="1403280" y="2781360"/>
            <a:ext cx="2881440" cy="28796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Хорда 4"/>
          <p:cNvSpPr/>
          <p:nvPr/>
        </p:nvSpPr>
        <p:spPr>
          <a:xfrm>
            <a:off x="1763640" y="3141720"/>
            <a:ext cx="1800360" cy="244800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358200 h 2448000"/>
              <a:gd name="textAreaBottom" fmla="*/ 2089800 h 2448000"/>
            </a:gdLst>
            <a:ahLst/>
            <a:rect l="textAreaLeft" t="textAreaTop" r="textAreaRight" b="textAreaBottom"/>
            <a:pathLst>
              <a:path w="1800225" h="2447925">
                <a:moveTo>
                  <a:pt x="1625249" y="1949100"/>
                </a:moveTo>
                <a:lnTo>
                  <a:pt x="1625249" y="1949100"/>
                </a:lnTo>
                <a:arcTo wR="900113" hR="1223963" stAng="2700002" swAng="13500000"/>
                <a:close/>
              </a:path>
            </a:pathLst>
          </a:custGeom>
          <a:solidFill>
            <a:srgbClr val="00b05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Хорда 5"/>
          <p:cNvSpPr/>
          <p:nvPr/>
        </p:nvSpPr>
        <p:spPr>
          <a:xfrm rot="9833400">
            <a:off x="2908080" y="2927520"/>
            <a:ext cx="1271520" cy="1947600"/>
          </a:xfrm>
          <a:custGeom>
            <a:avLst/>
            <a:gdLst>
              <a:gd name="textAreaLeft" fmla="*/ 186120 w 1271520"/>
              <a:gd name="textAreaRight" fmla="*/ 1085400 w 1271520"/>
              <a:gd name="textAreaTop" fmla="*/ 285120 h 1947600"/>
              <a:gd name="textAreaBottom" fmla="*/ 1662480 h 1947600"/>
            </a:gdLst>
            <a:ahLst/>
            <a:rect l="textAreaLeft" t="textAreaTop" r="textAreaRight" b="textAreaBottom"/>
            <a:pathLst>
              <a:path w="1271588" h="1947863">
                <a:moveTo>
                  <a:pt x="1168186" y="1506324"/>
                </a:moveTo>
                <a:lnTo>
                  <a:pt x="1168186" y="1506324"/>
                </a:lnTo>
                <a:arcTo wR="635794" hR="973932" stAng="2700003" swAng="13500000"/>
                <a:close/>
              </a:path>
            </a:pathLst>
          </a:custGeom>
          <a:solidFill>
            <a:srgbClr val="00b05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Овал 6"/>
          <p:cNvSpPr/>
          <p:nvPr/>
        </p:nvSpPr>
        <p:spPr>
          <a:xfrm>
            <a:off x="1908000" y="4365720"/>
            <a:ext cx="36036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e3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26" name="Прямая со стрелкой 12"/>
          <p:cNvCxnSpPr/>
          <p:nvPr/>
        </p:nvCxnSpPr>
        <p:spPr>
          <a:xfrm>
            <a:off x="3995640" y="3860280"/>
            <a:ext cx="1945440" cy="108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cxnSp>
        <p:nvCxnSpPr>
          <p:cNvPr id="127" name="Прямая со стрелкой 14"/>
          <p:cNvCxnSpPr/>
          <p:nvPr/>
        </p:nvCxnSpPr>
        <p:spPr>
          <a:xfrm>
            <a:off x="2124000" y="4581000"/>
            <a:ext cx="3385440" cy="14364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128" name="TextBox 15"/>
          <p:cNvSpPr/>
          <p:nvPr/>
        </p:nvSpPr>
        <p:spPr>
          <a:xfrm>
            <a:off x="5724360" y="206064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Клеточная оболоч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5796000" y="285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Цитоплазма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6084720" y="3716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Хроматофо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5580000" y="443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Ядро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Прямоугольник 19"/>
          <p:cNvSpPr/>
          <p:nvPr/>
        </p:nvSpPr>
        <p:spPr>
          <a:xfrm>
            <a:off x="4284720" y="5473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битает в пресных водоемах и на влажных почвах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33" name="Прямая со стрелкой 19"/>
          <p:cNvCxnSpPr>
            <a:endCxn id="129" idx="1"/>
          </p:cNvCxnSpPr>
          <p:nvPr/>
        </p:nvCxnSpPr>
        <p:spPr>
          <a:xfrm>
            <a:off x="2987280" y="2923920"/>
            <a:ext cx="2809080" cy="16092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cxnSp>
        <p:nvCxnSpPr>
          <p:cNvPr id="134" name="Прямая со стрелкой 21"/>
          <p:cNvCxnSpPr/>
          <p:nvPr/>
        </p:nvCxnSpPr>
        <p:spPr>
          <a:xfrm flipV="1">
            <a:off x="3347640" y="2420640"/>
            <a:ext cx="2377080" cy="21672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) Строение плеврокко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Овал 2"/>
          <p:cNvSpPr/>
          <p:nvPr/>
        </p:nvSpPr>
        <p:spPr>
          <a:xfrm>
            <a:off x="611280" y="2924280"/>
            <a:ext cx="2665440" cy="2376360"/>
          </a:xfrm>
          <a:prstGeom prst="ellipse">
            <a:avLst/>
          </a:prstGeom>
          <a:solidFill>
            <a:srgbClr val="ffc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Овал 3"/>
          <p:cNvSpPr/>
          <p:nvPr/>
        </p:nvSpPr>
        <p:spPr>
          <a:xfrm>
            <a:off x="755640" y="3213000"/>
            <a:ext cx="2303640" cy="20163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6-конечная звезда 4"/>
          <p:cNvSpPr/>
          <p:nvPr/>
        </p:nvSpPr>
        <p:spPr>
          <a:xfrm>
            <a:off x="1187280" y="3933720"/>
            <a:ext cx="1368720" cy="1224000"/>
          </a:xfrm>
          <a:custGeom>
            <a:avLst/>
            <a:gdLst>
              <a:gd name="textAreaLeft" fmla="*/ 227880 w 1368720"/>
              <a:gd name="textAreaRight" fmla="*/ 1140840 w 136872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1368425" h="1223963">
                <a:moveTo>
                  <a:pt x="0" y="305991"/>
                </a:moveTo>
                <a:lnTo>
                  <a:pt x="456138" y="305986"/>
                </a:lnTo>
                <a:lnTo>
                  <a:pt x="684213" y="0"/>
                </a:lnTo>
                <a:lnTo>
                  <a:pt x="912287" y="305986"/>
                </a:lnTo>
                <a:lnTo>
                  <a:pt x="1368425" y="305991"/>
                </a:lnTo>
                <a:lnTo>
                  <a:pt x="1140362" y="611982"/>
                </a:lnTo>
                <a:lnTo>
                  <a:pt x="1368425" y="917972"/>
                </a:lnTo>
                <a:lnTo>
                  <a:pt x="912287" y="917977"/>
                </a:lnTo>
                <a:lnTo>
                  <a:pt x="684213" y="1223963"/>
                </a:lnTo>
                <a:lnTo>
                  <a:pt x="456138" y="917977"/>
                </a:lnTo>
                <a:lnTo>
                  <a:pt x="0" y="917972"/>
                </a:lnTo>
                <a:lnTo>
                  <a:pt x="228063" y="611982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Овал 5"/>
          <p:cNvSpPr/>
          <p:nvPr/>
        </p:nvSpPr>
        <p:spPr>
          <a:xfrm>
            <a:off x="1692360" y="4437000"/>
            <a:ext cx="287280" cy="2872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4284720" y="249228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Зеленые водоросли обитают на нижней части деревьев. Источник влаги для них атмосферные осадки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1623"/>
                </a:solidFill>
                <a:latin typeface="Times New Roman"/>
              </a:rPr>
              <a:t>Проверочная работа по теме одноклеточные водоросли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50920" y="1700280"/>
            <a:ext cx="864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1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В каких структурах клеток водорослей расположен хлорофилл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а)в цитоплазме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б)в ядре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в)в хлоропластах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г) хроматофоре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08:53:04Z</dcterms:created>
  <dc:creator>DOMPK</dc:creator>
  <dc:description/>
  <dc:language>en-US</dc:language>
  <cp:lastModifiedBy>DOMPK</cp:lastModifiedBy>
  <dcterms:modified xsi:type="dcterms:W3CDTF">2012-10-18T09:35:04Z</dcterms:modified>
  <cp:revision>25</cp:revision>
  <dc:subject/>
  <dc:title>Водоросли</dc:title>
</cp:coreProperties>
</file>