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A5A-9951-404D-BCDF-7963966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94E-DF42-4F3D-97C0-375A1647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27B-3951-4A88-8DF4-7D17BDDF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DA3-49BA-472E-A16E-A411DF67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8D9-7860-4AEB-827B-6015A3AE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F519-3331-4F51-B634-985C38D8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2870-644C-4922-AFAD-D9D83CA4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C52-48F2-4AA3-BAAB-E4B1079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7DB-2E81-42FC-A458-837FF34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BDB-9136-497E-983F-48566329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5EA3-B516-4E94-A537-53A3D8E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260-B94A-4D19-81E4-C193D8BF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99C-B02B-43F3-B673-B480FFC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FAB-B549-42CB-A2D6-F9DEC97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DBBF-061F-465A-AF0D-E0FFBB9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149-F775-4C93-8265-B88EC5B4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F27A-6492-45E4-8AB4-F2B47AE0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7409C-9214-4D29-8C68-51D7ABCA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4318D-BDA6-4242-9FF4-185FE70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2C788-CD1E-4860-8829-06C7696E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5856B-A392-4653-B21A-56592CC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D89CA-5E19-4154-A023-F63ED4B6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2A1-E3C1-4DB2-9DC9-5D03828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F2178-8314-4D31-85EF-C401FA05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315BB-29A6-411B-88E2-5821973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37B43-A5A5-4340-A83A-DBC7B5C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36B8C-FD8E-4C8E-BE03-8799B9E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6AA1A-581B-4B7B-B113-20EE9957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CF691-44BC-48FF-BD3A-2275736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DEDD2-713E-465E-88FC-CD4537ED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B16FA-35A4-46E8-B816-6A7804A8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57E36-1198-4DA5-906F-2BE5889E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D9093-0D03-4EF6-9083-85D0EBA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B9B-5F75-4CB8-A455-8AFBD64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EE8FB-6DD9-4F2C-9E5E-F0ABCB4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7F25F-DF73-4B8A-83C3-88EF36CD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2F2E1-6716-434F-AA74-1B15C92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3D260-DC13-4290-8289-5AAEDF2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9500E-D19A-4D15-ABFC-2229D374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D0CB1-CD99-4089-8547-A10238FF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DFA2C-A678-49CF-8483-A223C23A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B3219-E7C2-4D98-991D-74AC385B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CD82F-9604-4689-B7D1-8DE7056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E7263F-00E6-4280-A4D0-3EDEDF49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F86-F0DF-4557-A486-E73DEFA2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630B7-05D0-4012-9354-14556A7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86C7E-B79D-4738-A0F9-CD218C47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E8A5C-49CF-4672-9D5D-D7344E6C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C106F3-CB70-4AEA-A84D-73E2B1D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67C31-7BC4-4578-8D4B-F659C86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DCD91-CF89-44FA-8427-43B9D06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4B4C9-7581-4062-ADA3-3AAEE1F5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0F26C-362F-4A91-B52E-9061387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8699C-A288-477C-ABD9-0521662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6C92A-1DF1-46F7-B78D-8709EFC1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DB3-812C-4084-9575-6CBF9F9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B9413-73D9-4BA8-8FE1-E49FF1EB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E5ED-429B-4965-8567-BF9C933B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C1A6-1F1A-4395-854C-1529F6D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4A1E-67A4-445D-B0A2-432FC78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84DB-8926-4B36-8835-37D8734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6B8D-2701-4392-9730-B7F34F9D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0039F-CBF8-45B8-BD90-EAB68B78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A3A1B-BAFB-4463-87B0-9F8988EF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3AC4-6736-481E-AA21-9100047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262F-8AA6-4A7A-BAA6-1F289E8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09D-135D-4C8B-AFF5-A9FEAD2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CF08-B2C5-41A6-80E6-E3D64306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A623-19D0-4667-9CA2-CC880721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64DA-5C73-48B8-B235-2104AA6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666B4-FCE2-432D-8FAA-B7A7A257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5D94E6-58EE-4105-A318-51BDD95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5538C-AD76-4F60-AEC6-C61F8F5C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D59AD-95CA-4566-8BA1-2E75BF7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B5F93-9006-4749-B972-C4C5F02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1D502-45D2-4312-9DC8-6010E8E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3CEEA-D715-41B3-8EC6-35E93A3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DAC-5D52-4758-B29B-B3B04B6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224EC-CD8D-4CA3-9673-77F7361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C5CD4-CD2B-4FE0-B9C4-A414294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77325-A76A-49CE-A055-14F6C034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FFCBE-55B2-4F98-B163-BD6253D3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D8692-5CB6-4D17-88A7-8303B243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FD1F8-E629-4EF9-944F-B7B0D834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1742-9078-4745-B825-B1767AFA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9DCD8-9B8A-4A72-99A0-3A195347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C352-110E-46A3-B78A-8CBE8EB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CC53-2CED-4A1A-90BF-5F55E985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21D-4A6B-4888-BDAB-624A5BA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76A5B-75FA-4953-899C-4A707CC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AEB7-EEDB-4DCE-A815-7BFF478C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4EF76-6C8A-41F6-B019-BD96E500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34D40-CD05-40D6-ACAB-E91F4AAF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F2C0-1955-43C5-84EB-3041B64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C744A-C5E0-4737-ABBD-2311002C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2585-DE2A-4202-9D7A-EFAD662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B90-2BA5-4D32-B1A8-F20FEB175F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3DC-22DC-4CEA-BEC0-7E2FC5CEE2A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038-1A2E-4FD6-9636-91CCF2E9E6E1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ECD-A63A-4389-9CEF-2283892810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3405-1EF6-44D1-941E-889B1A92B9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317-DC2C-4C2E-8B77-6C70DADA9C9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A3EB-22DD-44D0-8B58-FCF0896A82F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0C67-E935-4269-B35D-E09E088F83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895320" y="1487520"/>
            <a:ext cx="5913360" cy="1328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фон страница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5" descr=""/>
          <p:cNvPicPr/>
          <p:nvPr/>
        </p:nvPicPr>
        <p:blipFill>
          <a:blip r:embed="rId3"/>
          <a:stretch/>
        </p:blipFill>
        <p:spPr>
          <a:xfrm>
            <a:off x="1663560" y="2114640"/>
            <a:ext cx="5774040" cy="1562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4"/>
          <p:cNvPicPr/>
          <p:nvPr/>
        </p:nvPicPr>
        <p:blipFill>
          <a:blip r:embed="rId4"/>
          <a:stretch/>
        </p:blipFill>
        <p:spPr>
          <a:xfrm>
            <a:off x="0" y="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форма таллома"/>
          <p:cNvPicPr/>
          <p:nvPr/>
        </p:nvPicPr>
        <p:blipFill>
          <a:blip r:embed="rId5"/>
          <a:stretch/>
        </p:blipFill>
        <p:spPr>
          <a:xfrm>
            <a:off x="3419640" y="0"/>
            <a:ext cx="2304720" cy="2611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7"/>
          <p:cNvPicPr/>
          <p:nvPr/>
        </p:nvPicPr>
        <p:blipFill>
          <a:blip r:embed="rId6"/>
          <a:stretch/>
        </p:blipFill>
        <p:spPr>
          <a:xfrm>
            <a:off x="3429000" y="388620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Фото автора, можно приблизить"/>
          <p:cNvPicPr/>
          <p:nvPr/>
        </p:nvPicPr>
        <p:blipFill>
          <a:blip r:embed="rId7"/>
          <a:stretch/>
        </p:blipFill>
        <p:spPr>
          <a:xfrm>
            <a:off x="0" y="4618080"/>
            <a:ext cx="259092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7" descr="6"/>
          <p:cNvPicPr/>
          <p:nvPr/>
        </p:nvPicPr>
        <p:blipFill>
          <a:blip r:embed="rId8"/>
          <a:stretch/>
        </p:blipFill>
        <p:spPr>
          <a:xfrm>
            <a:off x="6937200" y="0"/>
            <a:ext cx="220680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Фото автора, щелчок приближает объект"/>
          <p:cNvPicPr/>
          <p:nvPr/>
        </p:nvPicPr>
        <p:blipFill>
          <a:blip r:embed="rId9"/>
          <a:srcRect l="0" t="0" r="19048" b="0"/>
          <a:stretch/>
        </p:blipFill>
        <p:spPr>
          <a:xfrm>
            <a:off x="6553080" y="4627440"/>
            <a:ext cx="2590920" cy="22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468360" y="1890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лассификация лишайников по строению слоевища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_s1031"/>
          <p:cNvSpPr/>
          <p:nvPr/>
        </p:nvSpPr>
        <p:spPr>
          <a:xfrm>
            <a:off x="2916360" y="1341360"/>
            <a:ext cx="3201840" cy="12002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cc"/>
                </a:solidFill>
                <a:latin typeface="Arial"/>
              </a:rPr>
              <a:t>Лишайники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"/>
          <p:cNvSpPr/>
          <p:nvPr/>
        </p:nvSpPr>
        <p:spPr>
          <a:xfrm flipH="1">
            <a:off x="1763640" y="256536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450072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6084720" y="2492280"/>
            <a:ext cx="15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24000" y="278136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кипн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цид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7" descr="Caloplaca_cerina"/>
          <p:cNvPicPr/>
          <p:nvPr/>
        </p:nvPicPr>
        <p:blipFill>
          <a:blip r:embed="rId1"/>
          <a:stretch/>
        </p:blipFill>
        <p:spPr>
          <a:xfrm>
            <a:off x="250920" y="4724280"/>
            <a:ext cx="2592360" cy="19242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2987640" y="3284640"/>
            <a:ext cx="289548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истоват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мел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сантор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3" descr="Omphalina_hudsoniana1"/>
          <p:cNvPicPr/>
          <p:nvPr/>
        </p:nvPicPr>
        <p:blipFill>
          <a:blip r:embed="rId2"/>
          <a:stretch/>
        </p:blipFill>
        <p:spPr>
          <a:xfrm>
            <a:off x="3203640" y="4724280"/>
            <a:ext cx="2638440" cy="1959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9"/>
          <p:cNvSpPr/>
          <p:nvPr/>
        </p:nvSpPr>
        <p:spPr>
          <a:xfrm>
            <a:off x="6804000" y="5157720"/>
            <a:ext cx="2057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6588000" y="3500280"/>
            <a:ext cx="2556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устист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родач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адония (Ягель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4" descr="Cladonia pyxidata_"/>
          <p:cNvPicPr/>
          <p:nvPr/>
        </p:nvPicPr>
        <p:blipFill>
          <a:blip r:embed="rId3"/>
          <a:stretch/>
        </p:blipFill>
        <p:spPr>
          <a:xfrm>
            <a:off x="6372360" y="4643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900000" y="692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оение и питание лишайников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755640" y="141300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о лишайника – слоевище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оит из гриба и водоросли, живущих в симбиозе. Гриб от лишайника жить не может т.к. нити гриба поглощают воду. Таким образом процесс питания осуществляется всей поверхностью тела за счет осад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1184760" y="260280"/>
            <a:ext cx="63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Monotype Corsiva"/>
              </a:rPr>
              <a:t>Питание лишайников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2"/>
          <p:cNvSpPr/>
          <p:nvPr/>
        </p:nvSpPr>
        <p:spPr>
          <a:xfrm>
            <a:off x="971640" y="278136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Водоросль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3"/>
          <p:cNvSpPr/>
          <p:nvPr/>
        </p:nvSpPr>
        <p:spPr>
          <a:xfrm>
            <a:off x="6012000" y="2852640"/>
            <a:ext cx="2089080" cy="1008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Гриб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5"/>
          <p:cNvSpPr/>
          <p:nvPr/>
        </p:nvSpPr>
        <p:spPr>
          <a:xfrm>
            <a:off x="3348000" y="3357720"/>
            <a:ext cx="2664000" cy="0"/>
          </a:xfrm>
          <a:prstGeom prst="line">
            <a:avLst/>
          </a:prstGeom>
          <a:ln w="475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32"/>
          <p:cNvSpPr/>
          <p:nvPr/>
        </p:nvSpPr>
        <p:spPr>
          <a:xfrm flipH="1" flipV="1" rot="7972200">
            <a:off x="3001320" y="950760"/>
            <a:ext cx="3165480" cy="3385800"/>
          </a:xfrm>
          <a:custGeom>
            <a:avLst/>
            <a:gdLst>
              <a:gd name="textAreaLeft" fmla="*/ -360 w 3165480"/>
              <a:gd name="textAreaRight" fmla="*/ 3165480 w 3165480"/>
              <a:gd name="textAreaTop" fmla="*/ -360 h 3385800"/>
              <a:gd name="textAreaBottom" fmla="*/ 3385800 h 3385800"/>
            </a:gdLst>
            <a:ahLst/>
            <a:rect l="textAreaLeft" t="textAreaTop" r="textAreaRight" b="textAreaBottom"/>
            <a:pathLst>
              <a:path fill="none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</a:path>
              <a:path stroke="0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  <a:lnTo>
                  <a:pt x="10178" y="21600"/>
                </a:lnTo>
                <a:close/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33"/>
          <p:cNvSpPr/>
          <p:nvPr/>
        </p:nvSpPr>
        <p:spPr>
          <a:xfrm flipH="1" flipV="1" rot="18823800">
            <a:off x="2898000" y="2441520"/>
            <a:ext cx="3382920" cy="3291840"/>
          </a:xfrm>
          <a:custGeom>
            <a:avLst/>
            <a:gdLst>
              <a:gd name="textAreaLeft" fmla="*/ -360 w 3382920"/>
              <a:gd name="textAreaRight" fmla="*/ 3382920 w 3382920"/>
              <a:gd name="textAreaTop" fmla="*/ 360 h 3291840"/>
              <a:gd name="textAreaBottom" fmla="*/ 3292560 h 3291840"/>
            </a:gdLst>
            <a:ahLst/>
            <a:rect l="textAreaLeft" t="textAreaTop" r="textAreaRight" b="textAreaBottom"/>
            <a:pathLst>
              <a:path fill="none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</a:path>
              <a:path stroke="0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  <a:lnTo>
                  <a:pt x="10178" y="21600"/>
                </a:lnTo>
                <a:close/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Прямоугольник 12" descr=""/>
          <p:cNvPicPr/>
          <p:nvPr/>
        </p:nvPicPr>
        <p:blipFill>
          <a:blip r:embed="rId1"/>
          <a:stretch/>
        </p:blipFill>
        <p:spPr>
          <a:xfrm>
            <a:off x="2840040" y="2066760"/>
            <a:ext cx="3414600" cy="102420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13" descr=""/>
          <p:cNvPicPr/>
          <p:nvPr/>
        </p:nvPicPr>
        <p:blipFill>
          <a:blip r:embed="rId2"/>
          <a:stretch/>
        </p:blipFill>
        <p:spPr>
          <a:xfrm>
            <a:off x="2840040" y="3724200"/>
            <a:ext cx="3610080" cy="145728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15"/>
          <p:cNvCxnSpPr/>
          <p:nvPr/>
        </p:nvCxnSpPr>
        <p:spPr>
          <a:xfrm>
            <a:off x="6372000" y="2133720"/>
            <a:ext cx="361080" cy="791280"/>
          </a:xfrm>
          <a:prstGeom prst="straightConnector1">
            <a:avLst/>
          </a:prstGeom>
          <a:ln w="475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84" name="Прямая со стрелкой 21"/>
          <p:cNvCxnSpPr>
            <a:endCxn id="380" idx="1"/>
          </p:cNvCxnSpPr>
          <p:nvPr/>
        </p:nvCxnSpPr>
        <p:spPr>
          <a:xfrm flipH="1" flipV="1">
            <a:off x="2447280" y="3946320"/>
            <a:ext cx="253080" cy="491040"/>
          </a:xfrm>
          <a:prstGeom prst="straightConnector1">
            <a:avLst/>
          </a:prstGeom>
          <a:ln w="4752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1937520" y="26028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троение лишайника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строение"/>
          <p:cNvPicPr/>
          <p:nvPr/>
        </p:nvPicPr>
        <p:blipFill>
          <a:blip r:embed="rId1"/>
          <a:stretch/>
        </p:blipFill>
        <p:spPr>
          <a:xfrm>
            <a:off x="0" y="1027080"/>
            <a:ext cx="91393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1219320" y="533520"/>
            <a:ext cx="6705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5f55"/>
                </a:solidFill>
                <a:latin typeface="Monotype Corsiva"/>
              </a:rPr>
              <a:t>Способы размножения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819520" y="1981080"/>
            <a:ext cx="34290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2819520" y="198108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248520" y="198108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1752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сполы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5181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ов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5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1752480" y="3886200"/>
            <a:ext cx="33530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1752480" y="388620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5105520" y="388620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8380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гетатив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сочками слоевищ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7242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ы клет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0000"/>
                </a:solidFill>
                <a:latin typeface="Monotype Corsiva"/>
              </a:rPr>
              <a:t>Значение лишайников</a:t>
            </a:r>
            <a:endParaRPr b="0" i="1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олени в тундре"/>
          <p:cNvPicPr/>
          <p:nvPr/>
        </p:nvPicPr>
        <p:blipFill>
          <a:blip r:embed="rId1"/>
          <a:stretch/>
        </p:blipFill>
        <p:spPr>
          <a:xfrm>
            <a:off x="380880" y="1066680"/>
            <a:ext cx="3505320" cy="26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2" name="TextBox 3"/>
          <p:cNvSpPr/>
          <p:nvPr/>
        </p:nvSpPr>
        <p:spPr>
          <a:xfrm>
            <a:off x="324000" y="378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севере основной корм для олен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68" descr="pust4"/>
          <p:cNvPicPr/>
          <p:nvPr/>
        </p:nvPicPr>
        <p:blipFill>
          <a:blip r:embed="rId2"/>
          <a:stretch/>
        </p:blipFill>
        <p:spPr>
          <a:xfrm>
            <a:off x="4643280" y="1052640"/>
            <a:ext cx="2305080" cy="27590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4643280" y="3860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ушают горные поро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7020000" y="134136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ирая образуют плодородную почв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684360" y="52293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796000" y="5445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ют в парфюмери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2195640" y="189000"/>
            <a:ext cx="4392360" cy="93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.</a:t>
            </a:r>
            <a:endParaRPr b="0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250920" y="1125360"/>
            <a:ext cx="82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берите правильные утверждения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– представители царства растени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– это единый организм, состоящий из гриба и водоросли, живущих в симбиоз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впитывают воду из почвы с помощью корне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можно встретить в лесу, горах, на луга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сли синтезируют органическое вещество, грибы всасывают воду и минеральные веществ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онии представители накипных лишайнико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быстро растут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е использует лишайники в своей жизн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Результаты</a:t>
            </a:r>
            <a:r>
              <a:rPr b="0" lang="en-US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9 – 10 правильных ответов –  молодец! Вы хорошо поработал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8 – 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авильных отв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хорошо, но надо быть внимательне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Меньше 8  правильных ответов – плохо, придется еще раз вернуться к этой тем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247320" cy="519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Physcia dubia_"/>
          <p:cNvPicPr/>
          <p:nvPr/>
        </p:nvPicPr>
        <p:blipFill>
          <a:blip r:embed="rId2"/>
          <a:stretch/>
        </p:blipFill>
        <p:spPr>
          <a:xfrm>
            <a:off x="179280" y="692280"/>
            <a:ext cx="2948040" cy="24271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4"/>
          <p:cNvSpPr/>
          <p:nvPr/>
        </p:nvSpPr>
        <p:spPr>
          <a:xfrm>
            <a:off x="1082520" y="304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сц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ladonia coccifera_"/>
          <p:cNvPicPr/>
          <p:nvPr/>
        </p:nvPicPr>
        <p:blipFill>
          <a:blip r:embed="rId3"/>
          <a:stretch/>
        </p:blipFill>
        <p:spPr>
          <a:xfrm>
            <a:off x="6012000" y="476280"/>
            <a:ext cx="2736720" cy="2925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3"/>
          <p:cNvSpPr/>
          <p:nvPr/>
        </p:nvSpPr>
        <p:spPr>
          <a:xfrm>
            <a:off x="6100560" y="3357720"/>
            <a:ext cx="26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дон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риконосна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8" descr="Graphis scripta"/>
          <p:cNvPicPr/>
          <p:nvPr/>
        </p:nvPicPr>
        <p:blipFill>
          <a:blip r:embed="rId4"/>
          <a:stretch/>
        </p:blipFill>
        <p:spPr>
          <a:xfrm>
            <a:off x="755640" y="3573360"/>
            <a:ext cx="3184560" cy="28656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1"/>
          <p:cNvSpPr/>
          <p:nvPr/>
        </p:nvSpPr>
        <p:spPr>
          <a:xfrm>
            <a:off x="468360" y="6381720"/>
            <a:ext cx="3672000" cy="216000"/>
          </a:xfrm>
          <a:prstGeom prst="rect">
            <a:avLst/>
          </a:prstGeom>
          <a:solidFill>
            <a:srgbClr val="ebddc3"/>
          </a:solidFill>
          <a:ln w="9360">
            <a:solidFill>
              <a:srgbClr val="ebd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афис письменна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5" descr="Porpidia flavicunda"/>
          <p:cNvPicPr/>
          <p:nvPr/>
        </p:nvPicPr>
        <p:blipFill>
          <a:blip r:embed="rId5"/>
          <a:stretch/>
        </p:blipFill>
        <p:spPr>
          <a:xfrm>
            <a:off x="4500720" y="4221000"/>
            <a:ext cx="2987640" cy="24274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5"/>
          <p:cNvSpPr/>
          <p:nvPr/>
        </p:nvSpPr>
        <p:spPr>
          <a:xfrm>
            <a:off x="7451640" y="5589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пид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8:36:51Z</dcterms:created>
  <dc:creator>DOMPK</dc:creator>
  <dc:description/>
  <dc:language>en-US</dc:language>
  <cp:lastModifiedBy>DOMPK</cp:lastModifiedBy>
  <dcterms:modified xsi:type="dcterms:W3CDTF">2012-10-22T09:28:07Z</dcterms:modified>
  <cp:revision>12</cp:revision>
  <dc:subject/>
  <dc:title>Слайд 1</dc:title>
</cp:coreProperties>
</file>