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EB8-C9DB-4225-9194-5AD17D13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1AF-3688-4506-ABE6-1D8405A2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0C6-3580-4CF0-B4F7-E0B2A979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B21-D2BE-4E39-BCBE-E237F8A5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FA15-BA84-4A46-8837-1BFF7D98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B039-608D-4F1D-9A84-CB874F83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C9BF-3496-4E60-9CE9-F1936B04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2D68-F1B3-4148-AA22-108F03B4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F30A-B345-4EA2-B491-47F7BB04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6C18-0CA7-4FA1-906D-01D9D1B9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3B14-4D6A-476A-8739-B652145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962-6B4B-4ADB-9179-E21DB1C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2AA9-8ECC-4E19-9BFE-CC5BDE50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B0EC-55D7-4856-BAEC-2C9DAB85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7635-2B44-499C-959B-92C37AB9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AD19-FE9F-4565-B306-4FE14573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65CB-55CC-459F-9030-7B80D6EE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89E55-5E54-4521-A3DD-37AC35E4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3F370-7EB1-43C3-8EB6-3F847D6F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CCCA6-895B-47B5-B1A7-8E57FF9E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C9950-B06E-41E4-B5CD-A05517B1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1296B-97C0-47E5-8D39-AF543CCE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890-D10D-42E1-B7DD-639491D2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B008B-F1BD-453E-9805-55D280E7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30BAF-3FFC-4107-A9FA-22C97A0F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FD956-CF8F-444E-8F8B-768CA25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231BB-C064-41E6-8135-E77ACA1F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50AA3-60FF-464C-AD09-8F545FF9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3696C-DEC6-4FE1-AAF0-FDA235EF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A0020-F47F-460B-8FBE-9C1DCECB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87D0D-76F3-4233-8268-B4152EC4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E357F-1CA4-419E-AAC7-C63C8EAB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68FF7-1F92-4605-91B4-931B3072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07C-5EC4-4F67-A98E-F2C9BF0D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5498CD-C937-4E9D-B9FB-272464E9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1B8FD-D672-47AA-9742-0F02BE22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3DE9F-6F05-4939-88A8-259F373F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A949C-4673-450E-AAB5-B018C995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217EE-2E5A-4BAC-95A9-CDF376F3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E36A6-8414-445D-B447-263D516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0357C9-F591-4C6D-A5F5-204E33CC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2C90F-03FB-4B6F-BA09-4E599F58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16F57-A7E2-47A2-9749-17A539B6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A844C-0806-4ABD-A708-5D3430F1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339-505F-4643-8C13-C80909A0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9064C-BCC9-4828-8183-76A54AC9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4DDC6-E9F4-4B84-B145-1726ECE5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087C4-61EB-4389-A45B-E771800C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ACB99-7EF9-42D5-93D1-028211D4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6441A-3B77-4C89-8A71-933B3A23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06D56-58FC-4A60-B870-0131D761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AF88A-9C05-4093-BB63-6A961C2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783D7-E1F6-496F-9720-41496CC5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847F7-0EF1-4E70-AA73-D769F853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9570A-36F4-4A32-A0CB-E2285D7C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C95-096A-44B5-970D-D1034538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3AFB1-A0F9-43EC-809B-1647200F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B8747-46E3-4BAE-8AA6-C4FF814A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A8525-4581-4C9A-B054-71327081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ABFF7-EE4F-4D14-9EAC-13D292E7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B31F3-BC8E-433D-AB93-EC4ABF8A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E1BD-8D89-4D9F-8E25-F8D45D3B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6A68-B6A6-4B21-BA85-090E60ED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4065A-ED85-4437-98D4-2F0D6EF0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A64D4-2F9A-4000-A153-DE8ECDD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09A4-EF39-4986-B2DB-9F29A48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812-DEC9-4AF7-9B78-2B69579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1E45D-ADCA-4A4A-9772-648EA08C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87939-D9D8-4927-9E13-E5BACA82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18378-51CB-4F3A-BED6-E5135FC5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15CB47-D5CC-4276-BA45-7A12B97E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0175A-EC5A-4EFB-9F5D-EAAD9515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F5063-2EC4-4778-8386-1FA76FA0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D33C1-E4B7-44EF-8CD8-24097878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4C1BF-F8B5-49E0-BBF8-64929990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7EB8C-CB3B-4533-9589-B67489AB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F12D4-F6C9-43E9-A90A-09796783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6B3-9399-4803-9CF3-41CA338B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20C19-A36B-4005-A758-BD0A71ED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A9C17-EDCF-4FF8-B657-C354408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81752-0169-4EB3-BDA3-649A4705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FC132-47AF-4A5D-9397-9A2C8130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88DB7-4A7F-4CDC-8D43-624C75CE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71B32-D3F8-425B-B420-F23841CF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A22E6-39AF-4EF6-8EF6-C69074E0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225FE-C187-4598-B421-6248D293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7F759-F2EA-4120-BBDF-858E91B1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34E5E-1A57-4678-868E-83019707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243-197F-4AC8-BB61-CAD3A08B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81C9F-4FC6-4047-AD49-DBC6C714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4A82-A11D-4CF4-BB59-986257AF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C5E2D-105E-4ACB-8B3F-B40DC634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DB99-3ED4-4AB5-9D38-779D964E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E9698-E355-46D7-B3A5-AAE2F522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CF148-95A1-4E1F-8A64-A16E51BB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5EBD9-5D53-4754-AE48-063FF424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94D5-841D-4BA5-825C-B55A441E36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45E2-A8BF-488B-A5E5-C948A3414DD3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9E34-0A46-4163-BD48-17595021B9F3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DF22-F6A1-4BD1-B4D2-1FD745FEAE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F101-B9CB-4DC4-9A53-C8C538462D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D984-D60C-4DB1-84ED-CFCC78E84453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61E4-330E-442D-ABE6-32B34623C10B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38CC-328F-4553-8765-E7BA21DBA5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895320" y="1487520"/>
            <a:ext cx="5913360" cy="1328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фон страница 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5" descr=""/>
          <p:cNvPicPr/>
          <p:nvPr/>
        </p:nvPicPr>
        <p:blipFill>
          <a:blip r:embed="rId3"/>
          <a:stretch/>
        </p:blipFill>
        <p:spPr>
          <a:xfrm>
            <a:off x="1663560" y="2114640"/>
            <a:ext cx="5774040" cy="1562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4"/>
          <p:cNvPicPr/>
          <p:nvPr/>
        </p:nvPicPr>
        <p:blipFill>
          <a:blip r:embed="rId4"/>
          <a:stretch/>
        </p:blipFill>
        <p:spPr>
          <a:xfrm>
            <a:off x="0" y="0"/>
            <a:ext cx="2170080" cy="2971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форма таллома"/>
          <p:cNvPicPr/>
          <p:nvPr/>
        </p:nvPicPr>
        <p:blipFill>
          <a:blip r:embed="rId5"/>
          <a:stretch/>
        </p:blipFill>
        <p:spPr>
          <a:xfrm>
            <a:off x="3419640" y="0"/>
            <a:ext cx="2304720" cy="2611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7"/>
          <p:cNvPicPr/>
          <p:nvPr/>
        </p:nvPicPr>
        <p:blipFill>
          <a:blip r:embed="rId6"/>
          <a:stretch/>
        </p:blipFill>
        <p:spPr>
          <a:xfrm>
            <a:off x="3429000" y="3886200"/>
            <a:ext cx="2170080" cy="2971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Фото автора, можно приблизить"/>
          <p:cNvPicPr/>
          <p:nvPr/>
        </p:nvPicPr>
        <p:blipFill>
          <a:blip r:embed="rId7"/>
          <a:stretch/>
        </p:blipFill>
        <p:spPr>
          <a:xfrm>
            <a:off x="0" y="4618080"/>
            <a:ext cx="259092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7" descr="6"/>
          <p:cNvPicPr/>
          <p:nvPr/>
        </p:nvPicPr>
        <p:blipFill>
          <a:blip r:embed="rId8"/>
          <a:stretch/>
        </p:blipFill>
        <p:spPr>
          <a:xfrm>
            <a:off x="6937200" y="0"/>
            <a:ext cx="220680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Фото автора, щелчок приближает объект"/>
          <p:cNvPicPr/>
          <p:nvPr/>
        </p:nvPicPr>
        <p:blipFill>
          <a:blip r:embed="rId9"/>
          <a:srcRect l="0" t="0" r="19048" b="0"/>
          <a:stretch/>
        </p:blipFill>
        <p:spPr>
          <a:xfrm>
            <a:off x="6553080" y="4627440"/>
            <a:ext cx="2590920" cy="22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468360" y="1890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лассификация лишайников по строению слоевища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_s1031"/>
          <p:cNvSpPr/>
          <p:nvPr/>
        </p:nvSpPr>
        <p:spPr>
          <a:xfrm>
            <a:off x="2916360" y="1341360"/>
            <a:ext cx="3201840" cy="12002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cc"/>
                </a:solidFill>
                <a:latin typeface="Arial"/>
              </a:rPr>
              <a:t>Лишайники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"/>
          <p:cNvSpPr/>
          <p:nvPr/>
        </p:nvSpPr>
        <p:spPr>
          <a:xfrm flipH="1">
            <a:off x="1763640" y="2565360"/>
            <a:ext cx="1224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7"/>
          <p:cNvSpPr/>
          <p:nvPr/>
        </p:nvSpPr>
        <p:spPr>
          <a:xfrm>
            <a:off x="4500720" y="2565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6084720" y="2492280"/>
            <a:ext cx="151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24000" y="2781360"/>
            <a:ext cx="2286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Накипны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ацид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7" descr="Caloplaca_cerina"/>
          <p:cNvPicPr/>
          <p:nvPr/>
        </p:nvPicPr>
        <p:blipFill>
          <a:blip r:embed="rId1"/>
          <a:stretch/>
        </p:blipFill>
        <p:spPr>
          <a:xfrm>
            <a:off x="250920" y="4724280"/>
            <a:ext cx="2592360" cy="19242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6"/>
          <p:cNvSpPr/>
          <p:nvPr/>
        </p:nvSpPr>
        <p:spPr>
          <a:xfrm>
            <a:off x="2987640" y="3284640"/>
            <a:ext cx="289548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Листоваты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мел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сантор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3" descr="Omphalina_hudsoniana1"/>
          <p:cNvPicPr/>
          <p:nvPr/>
        </p:nvPicPr>
        <p:blipFill>
          <a:blip r:embed="rId2"/>
          <a:stretch/>
        </p:blipFill>
        <p:spPr>
          <a:xfrm>
            <a:off x="3203640" y="4724280"/>
            <a:ext cx="2638440" cy="1959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29"/>
          <p:cNvSpPr/>
          <p:nvPr/>
        </p:nvSpPr>
        <p:spPr>
          <a:xfrm>
            <a:off x="6804000" y="5157720"/>
            <a:ext cx="2057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6588000" y="3500280"/>
            <a:ext cx="2556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Кустистые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родач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адония (Ягель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4" descr="Cladonia pyxidata_"/>
          <p:cNvPicPr/>
          <p:nvPr/>
        </p:nvPicPr>
        <p:blipFill>
          <a:blip r:embed="rId3"/>
          <a:stretch/>
        </p:blipFill>
        <p:spPr>
          <a:xfrm>
            <a:off x="6372360" y="464328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900000" y="69228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оение и питание лишайников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4"/>
          <p:cNvSpPr/>
          <p:nvPr/>
        </p:nvSpPr>
        <p:spPr>
          <a:xfrm>
            <a:off x="755640" y="1413000"/>
            <a:ext cx="67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ло лишайника – слоевище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стоит из гриба и водоросли, живущих в симбиозе. Гриб от лишайника жить не может т.к. нити гриба поглощают воду. Таким образом процесс питания осуществляется всей поверхностью тела за счет осадков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1184760" y="260280"/>
            <a:ext cx="639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Monotype Corsiva"/>
              </a:rPr>
              <a:t>Питание лишайников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2"/>
          <p:cNvSpPr/>
          <p:nvPr/>
        </p:nvSpPr>
        <p:spPr>
          <a:xfrm>
            <a:off x="971640" y="2781360"/>
            <a:ext cx="2376360" cy="1152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Водоросль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3"/>
          <p:cNvSpPr/>
          <p:nvPr/>
        </p:nvSpPr>
        <p:spPr>
          <a:xfrm>
            <a:off x="6012000" y="2852640"/>
            <a:ext cx="2089080" cy="1008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Гриб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5"/>
          <p:cNvSpPr/>
          <p:nvPr/>
        </p:nvSpPr>
        <p:spPr>
          <a:xfrm>
            <a:off x="3348000" y="3357720"/>
            <a:ext cx="2664000" cy="0"/>
          </a:xfrm>
          <a:prstGeom prst="line">
            <a:avLst/>
          </a:prstGeom>
          <a:ln w="4752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32"/>
          <p:cNvSpPr/>
          <p:nvPr/>
        </p:nvSpPr>
        <p:spPr>
          <a:xfrm flipH="1" flipV="1" rot="7972200">
            <a:off x="3001320" y="950760"/>
            <a:ext cx="3165480" cy="3385800"/>
          </a:xfrm>
          <a:custGeom>
            <a:avLst/>
            <a:gdLst>
              <a:gd name="textAreaLeft" fmla="*/ -360 w 3165480"/>
              <a:gd name="textAreaRight" fmla="*/ 3165480 w 3165480"/>
              <a:gd name="textAreaTop" fmla="*/ -360 h 3385800"/>
              <a:gd name="textAreaBottom" fmla="*/ 3385800 h 3385800"/>
            </a:gdLst>
            <a:ahLst/>
            <a:rect l="textAreaLeft" t="textAreaTop" r="textAreaRight" b="textAreaBottom"/>
            <a:pathLst>
              <a:path fill="none" w="31778" h="32500">
                <a:moveTo>
                  <a:pt x="0" y="2548"/>
                </a:moveTo>
                <a:cubicBezTo>
                  <a:pt x="3131" y="875"/>
                  <a:pt x="6627" y="-1"/>
                  <a:pt x="10178" y="0"/>
                </a:cubicBezTo>
                <a:cubicBezTo>
                  <a:pt x="22107" y="0"/>
                  <a:pt x="31778" y="9670"/>
                  <a:pt x="31778" y="21600"/>
                </a:cubicBezTo>
                <a:cubicBezTo>
                  <a:pt x="31778" y="25430"/>
                  <a:pt x="30759" y="29192"/>
                  <a:pt x="28826" y="32500"/>
                </a:cubicBezTo>
              </a:path>
              <a:path stroke="0" w="31778" h="32500">
                <a:moveTo>
                  <a:pt x="0" y="2548"/>
                </a:moveTo>
                <a:cubicBezTo>
                  <a:pt x="3131" y="875"/>
                  <a:pt x="6627" y="-1"/>
                  <a:pt x="10178" y="0"/>
                </a:cubicBezTo>
                <a:cubicBezTo>
                  <a:pt x="22107" y="0"/>
                  <a:pt x="31778" y="9670"/>
                  <a:pt x="31778" y="21600"/>
                </a:cubicBezTo>
                <a:cubicBezTo>
                  <a:pt x="31778" y="25430"/>
                  <a:pt x="30759" y="29192"/>
                  <a:pt x="28826" y="32500"/>
                </a:cubicBezTo>
                <a:lnTo>
                  <a:pt x="10178" y="21600"/>
                </a:lnTo>
                <a:close/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33"/>
          <p:cNvSpPr/>
          <p:nvPr/>
        </p:nvSpPr>
        <p:spPr>
          <a:xfrm flipH="1" flipV="1" rot="18823800">
            <a:off x="2898000" y="2441520"/>
            <a:ext cx="3382920" cy="3291840"/>
          </a:xfrm>
          <a:custGeom>
            <a:avLst/>
            <a:gdLst>
              <a:gd name="textAreaLeft" fmla="*/ -360 w 3382920"/>
              <a:gd name="textAreaRight" fmla="*/ 3382920 w 3382920"/>
              <a:gd name="textAreaTop" fmla="*/ 360 h 3291840"/>
              <a:gd name="textAreaBottom" fmla="*/ 3292560 h 3291840"/>
            </a:gdLst>
            <a:ahLst/>
            <a:rect l="textAreaLeft" t="textAreaTop" r="textAreaRight" b="textAreaBottom"/>
            <a:pathLst>
              <a:path fill="none" w="31778" h="32500">
                <a:moveTo>
                  <a:pt x="0" y="2548"/>
                </a:moveTo>
                <a:cubicBezTo>
                  <a:pt x="3131" y="875"/>
                  <a:pt x="6627" y="-1"/>
                  <a:pt x="10178" y="0"/>
                </a:cubicBezTo>
                <a:cubicBezTo>
                  <a:pt x="22107" y="0"/>
                  <a:pt x="31778" y="9670"/>
                  <a:pt x="31778" y="21600"/>
                </a:cubicBezTo>
                <a:cubicBezTo>
                  <a:pt x="31778" y="25430"/>
                  <a:pt x="30759" y="29192"/>
                  <a:pt x="28826" y="32500"/>
                </a:cubicBezTo>
              </a:path>
              <a:path stroke="0" w="31778" h="32500">
                <a:moveTo>
                  <a:pt x="0" y="2548"/>
                </a:moveTo>
                <a:cubicBezTo>
                  <a:pt x="3131" y="875"/>
                  <a:pt x="6627" y="-1"/>
                  <a:pt x="10178" y="0"/>
                </a:cubicBezTo>
                <a:cubicBezTo>
                  <a:pt x="22107" y="0"/>
                  <a:pt x="31778" y="9670"/>
                  <a:pt x="31778" y="21600"/>
                </a:cubicBezTo>
                <a:cubicBezTo>
                  <a:pt x="31778" y="25430"/>
                  <a:pt x="30759" y="29192"/>
                  <a:pt x="28826" y="32500"/>
                </a:cubicBezTo>
                <a:lnTo>
                  <a:pt x="10178" y="21600"/>
                </a:lnTo>
                <a:close/>
              </a:path>
            </a:pathLst>
          </a:custGeom>
          <a:noFill/>
          <a:ln w="7632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Прямоугольник 12" descr=""/>
          <p:cNvPicPr/>
          <p:nvPr/>
        </p:nvPicPr>
        <p:blipFill>
          <a:blip r:embed="rId1"/>
          <a:stretch/>
        </p:blipFill>
        <p:spPr>
          <a:xfrm>
            <a:off x="2840040" y="2066760"/>
            <a:ext cx="3414600" cy="102420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13" descr=""/>
          <p:cNvPicPr/>
          <p:nvPr/>
        </p:nvPicPr>
        <p:blipFill>
          <a:blip r:embed="rId2"/>
          <a:stretch/>
        </p:blipFill>
        <p:spPr>
          <a:xfrm>
            <a:off x="2840040" y="3724200"/>
            <a:ext cx="3610080" cy="1457280"/>
          </a:xfrm>
          <a:prstGeom prst="rect">
            <a:avLst/>
          </a:prstGeom>
          <a:ln w="0">
            <a:noFill/>
          </a:ln>
        </p:spPr>
      </p:pic>
      <p:cxnSp>
        <p:nvCxnSpPr>
          <p:cNvPr id="383" name="Прямая со стрелкой 15"/>
          <p:cNvCxnSpPr/>
          <p:nvPr/>
        </p:nvCxnSpPr>
        <p:spPr>
          <a:xfrm>
            <a:off x="6372000" y="2133720"/>
            <a:ext cx="361080" cy="791280"/>
          </a:xfrm>
          <a:prstGeom prst="straightConnector1">
            <a:avLst/>
          </a:prstGeom>
          <a:ln w="4752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384" name="Прямая со стрелкой 21"/>
          <p:cNvCxnSpPr>
            <a:endCxn id="380" idx="1"/>
          </p:cNvCxnSpPr>
          <p:nvPr/>
        </p:nvCxnSpPr>
        <p:spPr>
          <a:xfrm flipH="1" flipV="1">
            <a:off x="2447280" y="3946320"/>
            <a:ext cx="253080" cy="491040"/>
          </a:xfrm>
          <a:prstGeom prst="straightConnector1">
            <a:avLst/>
          </a:prstGeom>
          <a:ln w="47520">
            <a:solidFill>
              <a:srgbClr val="ffc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1937520" y="260280"/>
            <a:ext cx="52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Строение лишайника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строение"/>
          <p:cNvPicPr/>
          <p:nvPr/>
        </p:nvPicPr>
        <p:blipFill>
          <a:blip r:embed="rId1"/>
          <a:stretch/>
        </p:blipFill>
        <p:spPr>
          <a:xfrm>
            <a:off x="0" y="1027080"/>
            <a:ext cx="91393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1219320" y="533520"/>
            <a:ext cx="6705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5f55"/>
                </a:solidFill>
                <a:latin typeface="Monotype Corsiva"/>
              </a:rPr>
              <a:t>Способы размножения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4495680" y="1447920"/>
            <a:ext cx="0" cy="5331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2819520" y="1981080"/>
            <a:ext cx="342900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3"/>
          <p:cNvSpPr/>
          <p:nvPr/>
        </p:nvSpPr>
        <p:spPr>
          <a:xfrm>
            <a:off x="2819520" y="1981080"/>
            <a:ext cx="0" cy="533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4"/>
          <p:cNvSpPr/>
          <p:nvPr/>
        </p:nvSpPr>
        <p:spPr>
          <a:xfrm>
            <a:off x="6248520" y="1981080"/>
            <a:ext cx="0" cy="533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1752480" y="251460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сполы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5181480" y="251460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ов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5"/>
          <p:cNvSpPr/>
          <p:nvPr/>
        </p:nvSpPr>
        <p:spPr>
          <a:xfrm>
            <a:off x="2819520" y="3429000"/>
            <a:ext cx="0" cy="4572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6"/>
          <p:cNvSpPr/>
          <p:nvPr/>
        </p:nvSpPr>
        <p:spPr>
          <a:xfrm>
            <a:off x="1752480" y="3886200"/>
            <a:ext cx="33530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8"/>
          <p:cNvSpPr/>
          <p:nvPr/>
        </p:nvSpPr>
        <p:spPr>
          <a:xfrm>
            <a:off x="1752480" y="3886200"/>
            <a:ext cx="0" cy="533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7"/>
          <p:cNvSpPr/>
          <p:nvPr/>
        </p:nvSpPr>
        <p:spPr>
          <a:xfrm>
            <a:off x="5105520" y="3886200"/>
            <a:ext cx="0" cy="5335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838080" y="4419720"/>
            <a:ext cx="3657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гетативно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сочками слоевищ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4724280" y="4419720"/>
            <a:ext cx="3657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ециализированны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ы клето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000000"/>
                </a:solidFill>
                <a:latin typeface="Monotype Corsiva"/>
              </a:rPr>
              <a:t>Значение лишайников</a:t>
            </a:r>
            <a:endParaRPr b="0" i="1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олени в тундре"/>
          <p:cNvPicPr/>
          <p:nvPr/>
        </p:nvPicPr>
        <p:blipFill>
          <a:blip r:embed="rId1"/>
          <a:stretch/>
        </p:blipFill>
        <p:spPr>
          <a:xfrm>
            <a:off x="380880" y="1066680"/>
            <a:ext cx="3505320" cy="26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02" name="TextBox 3"/>
          <p:cNvSpPr/>
          <p:nvPr/>
        </p:nvSpPr>
        <p:spPr>
          <a:xfrm>
            <a:off x="324000" y="378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севере основной корм для олен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68" descr="pust4"/>
          <p:cNvPicPr/>
          <p:nvPr/>
        </p:nvPicPr>
        <p:blipFill>
          <a:blip r:embed="rId2"/>
          <a:stretch/>
        </p:blipFill>
        <p:spPr>
          <a:xfrm>
            <a:off x="4643280" y="1052640"/>
            <a:ext cx="2305080" cy="27590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5"/>
          <p:cNvSpPr/>
          <p:nvPr/>
        </p:nvSpPr>
        <p:spPr>
          <a:xfrm>
            <a:off x="4643280" y="3860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рушают горные поро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7020000" y="1341360"/>
            <a:ext cx="21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мирая образуют плодородную почву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684360" y="522936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5796000" y="5445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уют в парфюмери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4"/>
          <p:cNvSpPr txBox="1"/>
          <p:nvPr/>
        </p:nvSpPr>
        <p:spPr>
          <a:xfrm>
            <a:off x="2195640" y="189000"/>
            <a:ext cx="4392360" cy="93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м итоги.</a:t>
            </a:r>
            <a:endParaRPr b="0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Прямоугольник 2"/>
          <p:cNvSpPr/>
          <p:nvPr/>
        </p:nvSpPr>
        <p:spPr>
          <a:xfrm>
            <a:off x="250920" y="1125360"/>
            <a:ext cx="820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берите правильные утверждения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– представители царства растени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– это единый организм, состоящий из гриба и водоросли, живущих в симбиозе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впитывают воду из почвы с помощью корней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можно встретить в лесу, горах, на лугах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сли синтезируют органическое вещество, грибы всасывают воду и минеральные веществ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донии представители накипных лишайников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айники быстро растут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е использует лишайники в своей жизни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Результаты</a:t>
            </a:r>
            <a:r>
              <a:rPr b="0" lang="en-US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9 – 10 правильных ответов –  молодец! Вы хорошо поработал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8 – 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равильных отв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хорошо, но надо быть внимательнее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Меньше 8  правильных ответов – плохо, придется еще раз вернуться к этой теме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-49320"/>
            <a:ext cx="9247320" cy="519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Physcia dubia_"/>
          <p:cNvPicPr/>
          <p:nvPr/>
        </p:nvPicPr>
        <p:blipFill>
          <a:blip r:embed="rId2"/>
          <a:stretch/>
        </p:blipFill>
        <p:spPr>
          <a:xfrm>
            <a:off x="179280" y="692280"/>
            <a:ext cx="2948040" cy="242712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34"/>
          <p:cNvSpPr/>
          <p:nvPr/>
        </p:nvSpPr>
        <p:spPr>
          <a:xfrm>
            <a:off x="1082520" y="304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исци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7" descr="Cladonia coccifera_"/>
          <p:cNvPicPr/>
          <p:nvPr/>
        </p:nvPicPr>
        <p:blipFill>
          <a:blip r:embed="rId3"/>
          <a:stretch/>
        </p:blipFill>
        <p:spPr>
          <a:xfrm>
            <a:off x="6012000" y="476280"/>
            <a:ext cx="2736720" cy="29257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33"/>
          <p:cNvSpPr/>
          <p:nvPr/>
        </p:nvSpPr>
        <p:spPr>
          <a:xfrm>
            <a:off x="6100560" y="3357720"/>
            <a:ext cx="268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адони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риконосна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8" descr="Graphis scripta"/>
          <p:cNvPicPr/>
          <p:nvPr/>
        </p:nvPicPr>
        <p:blipFill>
          <a:blip r:embed="rId4"/>
          <a:stretch/>
        </p:blipFill>
        <p:spPr>
          <a:xfrm>
            <a:off x="755640" y="3573360"/>
            <a:ext cx="3184560" cy="28656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21"/>
          <p:cNvSpPr/>
          <p:nvPr/>
        </p:nvSpPr>
        <p:spPr>
          <a:xfrm>
            <a:off x="468360" y="6381720"/>
            <a:ext cx="3672000" cy="216000"/>
          </a:xfrm>
          <a:prstGeom prst="rect">
            <a:avLst/>
          </a:prstGeom>
          <a:solidFill>
            <a:srgbClr val="ebddc3"/>
          </a:solidFill>
          <a:ln w="9360">
            <a:solidFill>
              <a:srgbClr val="ebd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рафис письменна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5" descr="Porpidia flavicunda"/>
          <p:cNvPicPr/>
          <p:nvPr/>
        </p:nvPicPr>
        <p:blipFill>
          <a:blip r:embed="rId5"/>
          <a:stretch/>
        </p:blipFill>
        <p:spPr>
          <a:xfrm>
            <a:off x="4500720" y="4221000"/>
            <a:ext cx="2987640" cy="24274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5"/>
          <p:cNvSpPr/>
          <p:nvPr/>
        </p:nvSpPr>
        <p:spPr>
          <a:xfrm>
            <a:off x="7451640" y="55897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пид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8:36:51Z</dcterms:created>
  <dc:creator>DOMPK</dc:creator>
  <dc:description/>
  <dc:language>en-US</dc:language>
  <cp:lastModifiedBy>DOMPK</cp:lastModifiedBy>
  <dcterms:modified xsi:type="dcterms:W3CDTF">2012-10-22T09:28:07Z</dcterms:modified>
  <cp:revision>12</cp:revision>
  <dc:subject/>
  <dc:title>Слайд 1</dc:title>
</cp:coreProperties>
</file>