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529-B200-40F3-88EC-86B31BD6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1CC-001C-4FB0-A2E8-CC9483FC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289-468C-401A-9B08-3590E408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D87-3360-4E4E-A438-FC274DD6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DB9B-FBA5-4D29-9C1F-BF1E605E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A331-CD3F-4E1D-98A0-71F7012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A3FB-B5A9-4C97-9B25-C8F0B2EF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EBFA-41D7-4878-8B30-BE2C41F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D633-038D-4BE5-915A-9972ECF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78DF-79FB-4DCC-987C-53B7517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8B0F-2AEC-485B-8862-3DF568A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7FE-DF16-43D3-A575-9277609B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AE75-3E42-42EB-BD2D-07C2B1E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31A-8101-408A-8D28-6D8531C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42E-5373-456A-A9C5-087076C1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ECB-E02E-4B04-ADB6-13CC43DE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591D-7E18-4B19-9438-3FF590EF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78B-BA30-4A64-A79A-FD5AECFA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218-456D-4024-A2C4-92CE827E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65A-3BFA-4CC3-9EE7-8F1CE922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D36-7C47-4BCF-98A0-6204F7C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D54-9F10-47BB-AA0E-CEFA0F6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139-BAEE-422E-8FA9-B771ED14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D36-D95A-490B-9BBF-FD75F76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CFB9-3B5D-471A-B485-D2D7998F79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5C28-3272-4A43-A8DB-48239C30DB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2133720"/>
            <a:ext cx="6553080" cy="34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делы: Плауновидные, Хвощевидные и Папоротниковид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948360" y="5677200"/>
            <a:ext cx="19447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ологический диктан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ука о мхах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стостебельные мхи относят к………растения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енские гаметы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печеночным мхам относят: …,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жские гаметы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оры у Кукушкиного льна располагаются в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404640"/>
            <a:ext cx="82296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фагнум в отличии от Кукушкиного льна не имеет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. Растение, на котором развиваются гаметы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. Растение на котором развиваются споры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. Представитель белых мхов -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Ответы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РИОЛОГ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СШ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ЙЦЕКЛЕ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РШАНЦИЯ, РИЧЧ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ЕРМАТОЗОИ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РОБОЧ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ИЗОИ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АМЕТОФ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ОРОФИ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ФАГН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395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Характеристика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ысших споровых раст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АУ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ПОРОТ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А ОБ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ОБЕННОСТИ 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СТАВ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685800" y="152280"/>
            <a:ext cx="68706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Отдел Плауновид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98280" y="105264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СТАВИТЕЛИ: ПЛАУН БУЛАВОВИДНЫЙ,П.БАРАНЕЦ, П.СПЛЮСНУТЫ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плаун баранец"/>
          <p:cNvPicPr/>
          <p:nvPr/>
        </p:nvPicPr>
        <p:blipFill>
          <a:blip r:embed="rId1"/>
          <a:stretch/>
        </p:blipFill>
        <p:spPr>
          <a:xfrm>
            <a:off x="0" y="1844640"/>
            <a:ext cx="3889440" cy="270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плаун булавовидн"/>
          <p:cNvPicPr/>
          <p:nvPr/>
        </p:nvPicPr>
        <p:blipFill>
          <a:blip r:embed="rId2"/>
          <a:stretch/>
        </p:blipFill>
        <p:spPr>
          <a:xfrm>
            <a:off x="5580000" y="1557360"/>
            <a:ext cx="3070440" cy="4052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плаун сплюсн"/>
          <p:cNvPicPr/>
          <p:nvPr/>
        </p:nvPicPr>
        <p:blipFill>
          <a:blip r:embed="rId3"/>
          <a:stretch/>
        </p:blipFill>
        <p:spPr>
          <a:xfrm>
            <a:off x="2268360" y="4506840"/>
            <a:ext cx="3311640" cy="23511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613800" y="404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85800" y="152280"/>
            <a:ext cx="6870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Отдел Хвощевид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79280" y="1052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СТАВИТЕЛИ : ХВОЩ ПОЛЕВОЙ, Х.ЛЕСНОЙ, Х. ЗИМУЮЩИЙ, Х.КАМЫШОВЫ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хвощ"/>
          <p:cNvPicPr/>
          <p:nvPr/>
        </p:nvPicPr>
        <p:blipFill>
          <a:blip r:embed="rId1"/>
          <a:stretch/>
        </p:blipFill>
        <p:spPr>
          <a:xfrm>
            <a:off x="0" y="1844640"/>
            <a:ext cx="4356000" cy="333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8" name="Picture 4" descr="хвощ"/>
          <p:cNvPicPr/>
          <p:nvPr/>
        </p:nvPicPr>
        <p:blipFill>
          <a:blip r:embed="rId2"/>
          <a:stretch/>
        </p:blipFill>
        <p:spPr>
          <a:xfrm>
            <a:off x="5549760" y="836640"/>
            <a:ext cx="3594240" cy="4797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3672000" cy="431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4"/>
          <a:stretch/>
        </p:blipFill>
        <p:spPr>
          <a:xfrm>
            <a:off x="685800" y="1197000"/>
            <a:ext cx="7342200" cy="5111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дел ПАПОРОТНИКОВИД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527040" y="177336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СТАВИТЕЛИ: ДИСКОНИЯ , ЩИТОВНИК, ОРЛЯ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Содержимое 4" descr="IMG_1800.JPG"/>
          <p:cNvPicPr/>
          <p:nvPr/>
        </p:nvPicPr>
        <p:blipFill>
          <a:blip r:embed="rId1"/>
          <a:stretch/>
        </p:blipFill>
        <p:spPr>
          <a:xfrm>
            <a:off x="250920" y="2319480"/>
            <a:ext cx="4932360" cy="45385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5" descr="IMG_1798.JPG"/>
          <p:cNvPicPr/>
          <p:nvPr/>
        </p:nvPicPr>
        <p:blipFill>
          <a:blip r:embed="rId2"/>
          <a:stretch/>
        </p:blipFill>
        <p:spPr>
          <a:xfrm>
            <a:off x="5345280" y="3213000"/>
            <a:ext cx="3798720" cy="3168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539640" y="47628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ЙТЕ ОПРЕДЕЛЕНИЯ СЛЕДУЮЩИМ ПОНЯТИЯ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ЙИ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РАНГИИ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РУСЫ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Содержимое 4" descr="IMG_1801.JPG"/>
          <p:cNvPicPr/>
          <p:nvPr/>
        </p:nvPicPr>
        <p:blipFill>
          <a:blip r:embed="rId1"/>
          <a:stretch/>
        </p:blipFill>
        <p:spPr>
          <a:xfrm>
            <a:off x="3122640" y="1341360"/>
            <a:ext cx="5805360" cy="4680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8:20:30Z</dcterms:created>
  <dc:creator>DOMPK</dc:creator>
  <dc:description/>
  <dc:language>en-US</dc:language>
  <cp:lastModifiedBy>DOMPK</cp:lastModifiedBy>
  <dcterms:modified xsi:type="dcterms:W3CDTF">2012-10-29T10:00:08Z</dcterms:modified>
  <cp:revision>9</cp:revision>
  <dc:subject/>
  <dc:title>Отделы: Плауновидные, Хвощевидные и Папоротниковидные</dc:title>
</cp:coreProperties>
</file>