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686-31D3-472D-9D33-E9F158C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D47-D0CF-4449-8A62-A338FFD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908-EA1A-47CF-B3FC-17DD44A0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1AE-5DB8-404D-A872-7169AADD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8B8E-5FE7-4344-ADDF-4CCDF8F3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B56-03E6-4059-A570-0A3AA1C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7FF-D583-497F-A6FA-95ADFD2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613F-C3B3-4141-8745-B2ABC8F1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001D-D252-4821-A930-65A0FD10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0FAB-E47F-437A-BC69-8033F60E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572D-A30B-48DF-9ECB-B8DFA01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E6B-06C2-436A-A78D-8055E99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2DA-37EB-41FC-A785-E1BBC43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A1AB-870C-402F-8804-26A0B2A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2DCD-2819-4AF0-9E5E-6D6BD5F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65C6-3822-4EB7-9862-C651F61C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BF8A-74A0-419B-B0A6-7D69727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957D-0D29-447D-9E15-3ACDFD4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D4B6-0469-4416-9F2A-CD7DB34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E5F0-5C58-4E83-8AAF-DE7E3A9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5BAF-5307-4274-B0DC-79FE8E0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82407-CB0E-4B33-AB36-3DAF48E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585-987F-4DB9-B99B-1AB7F0F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7CFD-E989-4E2D-98B0-DFF00E7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B00A-9E05-4544-AF52-0463263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ACCB-7A67-47D8-9ABF-EC1254FE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F71A-EA35-4C5E-A9EA-E006209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8612-3650-4481-92B3-10FEB276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EDBC-CF2F-4E87-ADF9-2DA82B68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9C43-4026-48C0-912B-4836248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478B-59F7-429A-A2FE-011DE585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A42D-446B-4436-AE66-24D1D3B2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9E12-CCF4-4E51-A0F7-C7710358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49F-67CB-4ADD-82DE-11C15C2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80DC-1D19-4492-B933-81CB3D3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E71D-32EB-40D8-9F0B-891289F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D686-B278-4907-A3D3-E6631C33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257FE-1317-4F81-8608-9301B96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E7AB-DCDA-423D-AA48-9CC09E3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7E141-2D27-4388-89B9-7F3EF4D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1902-6256-49AF-B2F0-2FE20DD0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53A6-9083-469C-B18D-CB509B4D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3359-5F0B-410A-8B0C-9F79C8A3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B37-43B7-4AA2-AB97-2831725E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8E9-92A5-4F6A-A284-085C8640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308-0A92-496F-B134-7B85B85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10C-81E3-4E27-990F-1326CAFF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9FF-1CEA-44B3-BB10-4EE1E95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8C05-5EE3-4586-85CE-871EF6D7ED51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D878-526A-4906-8E4A-4D1D6C7E3CBA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CE9-4EEA-4C0A-AB09-835AB587BA93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45B8-F670-4CB2-804A-D14000D25E13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75000" y="-755640"/>
            <a:ext cx="5657760" cy="5254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71280" y="4365720"/>
            <a:ext cx="5977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апанкова А.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У лицей №15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ANNA\Мои документы\Мои рисунки\1333929243.jpg"/>
          <p:cNvPicPr/>
          <p:nvPr/>
        </p:nvPicPr>
        <p:blipFill>
          <a:blip r:embed="rId2"/>
          <a:stretch/>
        </p:blipFill>
        <p:spPr>
          <a:xfrm>
            <a:off x="179280" y="2565360"/>
            <a:ext cx="2554560" cy="368784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2" descr=""/>
          <p:cNvPicPr/>
          <p:nvPr/>
        </p:nvPicPr>
        <p:blipFill>
          <a:blip r:embed="rId3"/>
          <a:stretch/>
        </p:blipFill>
        <p:spPr>
          <a:xfrm>
            <a:off x="11863440" y="-890640"/>
            <a:ext cx="26622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5688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лагодарю за внимание.</a:t>
            </a:r>
            <a:endParaRPr b="0" lang="en-US" sz="43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7" name="Содержимое 3" descr="p17_levenguk.jpg"/>
          <p:cNvPicPr/>
          <p:nvPr/>
        </p:nvPicPr>
        <p:blipFill>
          <a:blip r:embed="rId1"/>
          <a:stretch/>
        </p:blipFill>
        <p:spPr>
          <a:xfrm>
            <a:off x="2411280" y="2044800"/>
            <a:ext cx="3984840" cy="44337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2"/>
          <a:stretch/>
        </p:blipFill>
        <p:spPr>
          <a:xfrm>
            <a:off x="4065480" y="2773440"/>
            <a:ext cx="101304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и Ван Левенгу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ландский ученый, занимавшийся шлифованием стекол, изготовлением линз, которые увеличивали объекты в 300 раз! Его "микроскоп" позволил сделать ряд важных открытий: наблюдение за простейшими животными, описание клеток крови -эритроцитов, их движение по капиллярам, строение мышечных волокон и к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Содержимое 6" descr="1228418761_levenguk.jpg"/>
          <p:cNvPicPr/>
          <p:nvPr/>
        </p:nvPicPr>
        <p:blipFill>
          <a:blip r:embed="rId1"/>
          <a:stretch/>
        </p:blipFill>
        <p:spPr>
          <a:xfrm>
            <a:off x="4707000" y="1819440"/>
            <a:ext cx="2847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Содержимое 4" descr="uvel_pribory.jpg"/>
          <p:cNvPicPr/>
          <p:nvPr/>
        </p:nvPicPr>
        <p:blipFill>
          <a:blip r:embed="rId1"/>
          <a:stretch/>
        </p:blipFill>
        <p:spPr>
          <a:xfrm>
            <a:off x="179280" y="260280"/>
            <a:ext cx="8545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45276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учная лупа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2880000" cy="4248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лупа состоит из линзы и рукоятки. Линза - выпуклое стекло, увеличивает от 2-5 раз до 10-20 раз. При работе ее берут за рукоятку и приближают к предмету до наиболее четкого изображ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4" descr="20060124150656_big.jpg"/>
          <p:cNvPicPr/>
          <p:nvPr/>
        </p:nvPicPr>
        <p:blipFill>
          <a:blip r:embed="rId1"/>
          <a:stretch/>
        </p:blipFill>
        <p:spPr>
          <a:xfrm>
            <a:off x="6227640" y="0"/>
            <a:ext cx="2737080" cy="319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NNA\Мои документы\Мои рисунки\03_02_01_03.jpg"/>
          <p:cNvPicPr/>
          <p:nvPr/>
        </p:nvPicPr>
        <p:blipFill>
          <a:blip r:embed="rId2"/>
          <a:stretch/>
        </p:blipFill>
        <p:spPr>
          <a:xfrm>
            <a:off x="3348000" y="3213000"/>
            <a:ext cx="4876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04520"/>
            <a:ext cx="800244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тативная</a:t>
            </a:r>
            <a:r>
              <a:rPr b="0" lang="ru-RU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лупа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тативная лупа состоит из окуляра, предметного столика, штатива и зерк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величивает предметы в 10- 25 р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6" descr="72953548.png"/>
          <p:cNvPicPr/>
          <p:nvPr/>
        </p:nvPicPr>
        <p:blipFill>
          <a:blip r:embed="rId1"/>
          <a:stretch/>
        </p:blipFill>
        <p:spPr>
          <a:xfrm>
            <a:off x="457200" y="2921040"/>
            <a:ext cx="4040280" cy="30337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7" descr="120107048.jpg"/>
          <p:cNvPicPr/>
          <p:nvPr/>
        </p:nvPicPr>
        <p:blipFill>
          <a:blip r:embed="rId2"/>
          <a:stretch/>
        </p:blipFill>
        <p:spPr>
          <a:xfrm>
            <a:off x="4741920" y="2514600"/>
            <a:ext cx="3848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ветовой</a:t>
            </a: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 микроскоп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Содержимое 4" descr="400px-Biomed1.png"/>
          <p:cNvPicPr/>
          <p:nvPr/>
        </p:nvPicPr>
        <p:blipFill>
          <a:blip r:embed="rId1"/>
          <a:stretch/>
        </p:blipFill>
        <p:spPr>
          <a:xfrm>
            <a:off x="111240" y="1773360"/>
            <a:ext cx="4043160" cy="40417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5" descr="mikroskop.gif"/>
          <p:cNvPicPr/>
          <p:nvPr/>
        </p:nvPicPr>
        <p:blipFill>
          <a:blip r:embed="rId2"/>
          <a:stretch/>
        </p:blipFill>
        <p:spPr>
          <a:xfrm>
            <a:off x="4648320" y="2451240"/>
            <a:ext cx="4038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инокулярный микроскоп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220" name="Содержимое 6" descr="1333929243.jpg"/>
          <p:cNvPicPr/>
          <p:nvPr/>
        </p:nvPicPr>
        <p:blipFill>
          <a:blip r:embed="rId1"/>
          <a:stretch/>
        </p:blipFill>
        <p:spPr>
          <a:xfrm>
            <a:off x="395280" y="2305080"/>
            <a:ext cx="2982960" cy="430848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7" descr="t6-1.jpg"/>
          <p:cNvPicPr/>
          <p:nvPr/>
        </p:nvPicPr>
        <p:blipFill>
          <a:blip r:embed="rId2"/>
          <a:stretch/>
        </p:blipFill>
        <p:spPr>
          <a:xfrm>
            <a:off x="3700440" y="1844640"/>
            <a:ext cx="5192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12600" y="255600"/>
            <a:ext cx="8559720" cy="5627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779640" y="5660640"/>
            <a:ext cx="46083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695160"/>
            <a:ext cx="7864560" cy="2565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 переноске микроскопа с места на место правой рукой держать за штатив, а левой за основ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ставить микроскоп штативом к себе на расстоянии 5-10 см от края сто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льзя сдвигать микроскоп с места после настройки зерк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Нельзя трогать окуляр и линзу руками. Нужно протирать специальной салфетк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Не допускать касания объектива покровного стекла. Край объектива должен находиться от препарата на расстоянии 1-2 м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ереключать объективы до характерного щелчк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44:03Z</dcterms:created>
  <dc:creator>DOMPK</dc:creator>
  <dc:description/>
  <dc:language>en-US</dc:language>
  <cp:lastModifiedBy>DOMPK</cp:lastModifiedBy>
  <dcterms:modified xsi:type="dcterms:W3CDTF">2012-09-03T09:23:58Z</dcterms:modified>
  <cp:revision>18</cp:revision>
  <dc:subject/>
  <dc:title>Устройство  увеличительных  приборов и  правила  работы с ними</dc:title>
</cp:coreProperties>
</file>