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20.jpeg" ContentType="image/jpeg"/>
  <Override PartName="/ppt/media/image7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948-904F-4DA0-B60E-FE7D7CF8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89C9-73D0-4135-B99F-B9B783EC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85D-2F84-4772-A40E-E6BF8135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0BDF-CA71-4ED7-8F3E-11DB9B5D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BE99-596F-4448-B58F-DE96DFE5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65D1-A410-4E43-9CA7-D4761D4D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E4AF-9399-4149-B9EF-C926ED80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F880-CA09-412D-9070-D12B21B9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9955-3D62-4EC4-8B8C-D14ABA42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4CE0-B219-4BFF-9A16-6E9F08C0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82A4-DF43-4CED-954D-D28FC91F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4C7D-6B3D-48A6-97B2-1F126D9B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0D09-B749-4CD0-BB6B-43A036D8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E920-A5E6-4461-9092-B57CA94B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03A4-A995-4BA5-A415-11FCDFFE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84E1-F0B8-4832-B717-01B85669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CCFA-EAA2-4F57-AC2F-F3AD39A3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67760-5E3E-4B6C-9658-25CFA85F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A6D48-067B-424C-A1C1-984590C0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4E9C1-1762-4C45-B2F1-83DF0F38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66F39-5FA0-4F46-8636-569AF8B8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4D19F-7E59-4378-A174-BD0B3D5D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03AF-2FA1-4E28-9663-32D8977E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CAADC-557C-4339-8C2C-7386BE2B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441F8-A3DB-45F9-92E5-44DD6A2E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262DA-5ADB-47A9-8641-6FEF1F78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EAB0C-2A84-453F-856A-AB18AAC2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2619E-BF54-41C5-86C7-336EA4A5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18FEA-3C4C-4DB6-A712-AFB29ED8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E4ACC-850B-4752-A6C7-45731E2D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915D2-49E4-4979-BA63-0BEDA55C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5A304-E931-46DC-BA6B-DBBA2264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2F40C-346E-4FFE-820A-D64D829E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95E4-D586-4A64-830C-BBD5DFA8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8EA47-929E-48A5-8AEC-10A38CD9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5E364-D703-4993-9071-56D75AA9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DE1CC-BC8E-4331-BE70-D6BBD321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87DDA-0EAB-42A9-9F57-8F0B402F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3C911-CCB5-4499-ACB3-FBEC9B8E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23DB1-8B7C-48BC-886C-E3ED4221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BFFC4-2E9D-4F1B-9290-9F958253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7797E-A56F-4142-A07A-6F87F318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D1D70-BCDE-4A24-B76B-F5A3CDA1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E72A-17AA-4A1B-ADAE-29C2A574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EA0-B2D2-4E5C-B795-7346E74E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5D5-631B-4887-B92D-F742D6DD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E68-71EF-4CA3-A4A7-31CE48F0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8EA9-7433-4F17-B7A9-CA2A81BE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C8D6-E01F-4D77-AF50-2789FD6BA1AA}" type="slidenum"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8B36-26EC-4B55-89DE-31DAAF5BEC93}" type="slidenum"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F769-8F43-491D-8A18-B47A63231B18}" type="slidenum">
              <a:rPr b="0" lang="ru-RU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E07F-7B41-4846-A43C-5E85A7B6D20E}" type="slidenum">
              <a:rPr b="0" lang="ru-RU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475000" y="-755640"/>
            <a:ext cx="5657760" cy="52545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771280" y="4365720"/>
            <a:ext cx="5977080" cy="2016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Запанкова А.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ГОУ лицей №150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C:\Documents and Settings\ANNA\Мои документы\Мои рисунки\1333929243.jpg"/>
          <p:cNvPicPr/>
          <p:nvPr/>
        </p:nvPicPr>
        <p:blipFill>
          <a:blip r:embed="rId2"/>
          <a:stretch/>
        </p:blipFill>
        <p:spPr>
          <a:xfrm>
            <a:off x="179280" y="2565360"/>
            <a:ext cx="2554560" cy="3687840"/>
          </a:xfrm>
          <a:prstGeom prst="rect">
            <a:avLst/>
          </a:prstGeom>
          <a:ln w="0">
            <a:noFill/>
          </a:ln>
        </p:spPr>
      </p:pic>
      <p:pic>
        <p:nvPicPr>
          <p:cNvPr id="198" name="Object 2" descr=""/>
          <p:cNvPicPr/>
          <p:nvPr/>
        </p:nvPicPr>
        <p:blipFill>
          <a:blip r:embed="rId3"/>
          <a:stretch/>
        </p:blipFill>
        <p:spPr>
          <a:xfrm>
            <a:off x="11863440" y="-890640"/>
            <a:ext cx="26622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47280" y="549000"/>
            <a:ext cx="5688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Благодарю за внимание.</a:t>
            </a:r>
            <a:endParaRPr b="0" lang="en-US" sz="43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27" name="Содержимое 3" descr="p17_levenguk.jpg"/>
          <p:cNvPicPr/>
          <p:nvPr/>
        </p:nvPicPr>
        <p:blipFill>
          <a:blip r:embed="rId1"/>
          <a:stretch/>
        </p:blipFill>
        <p:spPr>
          <a:xfrm>
            <a:off x="2411280" y="2044800"/>
            <a:ext cx="3984840" cy="443376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4" descr=""/>
          <p:cNvPicPr/>
          <p:nvPr/>
        </p:nvPicPr>
        <p:blipFill>
          <a:blip r:embed="rId2"/>
          <a:stretch/>
        </p:blipFill>
        <p:spPr>
          <a:xfrm>
            <a:off x="4065480" y="2773440"/>
            <a:ext cx="101304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они Ван Левенгу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лландский ученый, занимавшийся шлифованием стекол, изготовлением линз, которые увеличивали объекты в 300 раз! Его "микроскоп" позволил сделать ряд важных открытий: наблюдение за простейшими животными, описание клеток крови -эритроцитов, их движение по капиллярам, строение мышечных волокон и косте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Содержимое 6" descr="1228418761_levenguk.jpg"/>
          <p:cNvPicPr/>
          <p:nvPr/>
        </p:nvPicPr>
        <p:blipFill>
          <a:blip r:embed="rId1"/>
          <a:stretch/>
        </p:blipFill>
        <p:spPr>
          <a:xfrm>
            <a:off x="4707000" y="1819440"/>
            <a:ext cx="28479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Содержимое 4" descr="uvel_pribory.jpg"/>
          <p:cNvPicPr/>
          <p:nvPr/>
        </p:nvPicPr>
        <p:blipFill>
          <a:blip r:embed="rId1"/>
          <a:stretch/>
        </p:blipFill>
        <p:spPr>
          <a:xfrm>
            <a:off x="179280" y="260280"/>
            <a:ext cx="85456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345276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учная лупа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2880000" cy="42483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ная лупа состоит из линзы и рукоятки. Линза - выпуклое стекло, увеличивает от 2-5 раз до 10-20 раз. При работе ее берут за рукоятку и приближают к предмету до наиболее четкого изображ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Содержимое 4" descr="20060124150656_big.jpg"/>
          <p:cNvPicPr/>
          <p:nvPr/>
        </p:nvPicPr>
        <p:blipFill>
          <a:blip r:embed="rId1"/>
          <a:stretch/>
        </p:blipFill>
        <p:spPr>
          <a:xfrm>
            <a:off x="6227640" y="0"/>
            <a:ext cx="2737080" cy="3198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Documents and Settings\ANNA\Мои документы\Мои рисунки\03_02_01_03.jpg"/>
          <p:cNvPicPr/>
          <p:nvPr/>
        </p:nvPicPr>
        <p:blipFill>
          <a:blip r:embed="rId2"/>
          <a:stretch/>
        </p:blipFill>
        <p:spPr>
          <a:xfrm>
            <a:off x="3348000" y="3213000"/>
            <a:ext cx="4876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000" y="704520"/>
            <a:ext cx="800244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Штативная</a:t>
            </a:r>
            <a:r>
              <a:rPr b="0" lang="ru-RU" sz="5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лупа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1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Штативная лупа состоит из окуляра, предметного столика, штатива и зерка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величивает предметы в 10- 25 раз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Содержимое 6" descr="72953548.png"/>
          <p:cNvPicPr/>
          <p:nvPr/>
        </p:nvPicPr>
        <p:blipFill>
          <a:blip r:embed="rId1"/>
          <a:stretch/>
        </p:blipFill>
        <p:spPr>
          <a:xfrm>
            <a:off x="457200" y="2921040"/>
            <a:ext cx="4040280" cy="3033720"/>
          </a:xfrm>
          <a:prstGeom prst="rect">
            <a:avLst/>
          </a:prstGeom>
          <a:ln w="0">
            <a:noFill/>
          </a:ln>
        </p:spPr>
      </p:pic>
      <p:pic>
        <p:nvPicPr>
          <p:cNvPr id="213" name="Содержимое 7" descr="120107048.jpg"/>
          <p:cNvPicPr/>
          <p:nvPr/>
        </p:nvPicPr>
        <p:blipFill>
          <a:blip r:embed="rId2"/>
          <a:stretch/>
        </p:blipFill>
        <p:spPr>
          <a:xfrm>
            <a:off x="4741920" y="2514600"/>
            <a:ext cx="38480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ветовой</a:t>
            </a:r>
            <a:r>
              <a:rPr b="0" lang="ru-RU" sz="5000" spc="-1" strike="noStrike">
                <a:solidFill>
                  <a:srgbClr val="1f497d"/>
                </a:solidFill>
                <a:latin typeface="Calibri"/>
              </a:rPr>
              <a:t> микроскоп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15" name="Содержимое 4" descr="400px-Biomed1.png"/>
          <p:cNvPicPr/>
          <p:nvPr/>
        </p:nvPicPr>
        <p:blipFill>
          <a:blip r:embed="rId1"/>
          <a:stretch/>
        </p:blipFill>
        <p:spPr>
          <a:xfrm>
            <a:off x="111240" y="1773360"/>
            <a:ext cx="4043160" cy="4041720"/>
          </a:xfrm>
          <a:prstGeom prst="rect">
            <a:avLst/>
          </a:prstGeom>
          <a:ln w="0">
            <a:noFill/>
          </a:ln>
        </p:spPr>
      </p:pic>
      <p:pic>
        <p:nvPicPr>
          <p:cNvPr id="216" name="Содержимое 5" descr="mikroskop.gif"/>
          <p:cNvPicPr/>
          <p:nvPr/>
        </p:nvPicPr>
        <p:blipFill>
          <a:blip r:embed="rId2"/>
          <a:stretch/>
        </p:blipFill>
        <p:spPr>
          <a:xfrm>
            <a:off x="4648320" y="2451240"/>
            <a:ext cx="403848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Бинокулярный микроскоп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1f497d"/>
              </a:solidFill>
              <a:latin typeface="Constantia"/>
            </a:endParaRPr>
          </a:p>
        </p:txBody>
      </p:sp>
      <p:pic>
        <p:nvPicPr>
          <p:cNvPr id="220" name="Содержимое 6" descr="1333929243.jpg"/>
          <p:cNvPicPr/>
          <p:nvPr/>
        </p:nvPicPr>
        <p:blipFill>
          <a:blip r:embed="rId1"/>
          <a:stretch/>
        </p:blipFill>
        <p:spPr>
          <a:xfrm>
            <a:off x="395280" y="2305080"/>
            <a:ext cx="2982960" cy="4308480"/>
          </a:xfrm>
          <a:prstGeom prst="rect">
            <a:avLst/>
          </a:prstGeom>
          <a:ln w="0">
            <a:noFill/>
          </a:ln>
        </p:spPr>
      </p:pic>
      <p:pic>
        <p:nvPicPr>
          <p:cNvPr id="221" name="Содержимое 7" descr="t6-1.jpg"/>
          <p:cNvPicPr/>
          <p:nvPr/>
        </p:nvPicPr>
        <p:blipFill>
          <a:blip r:embed="rId2"/>
          <a:stretch/>
        </p:blipFill>
        <p:spPr>
          <a:xfrm>
            <a:off x="3700440" y="1844640"/>
            <a:ext cx="519264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-12600" y="255600"/>
            <a:ext cx="8559720" cy="56275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779640" y="5660640"/>
            <a:ext cx="460836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530280" y="695160"/>
            <a:ext cx="7864560" cy="2565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Constantia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ри переноске микроскопа с места на место правой рукой держать за штатив, а левой за основани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оставить микроскоп штативом к себе на расстоянии 5-10 см от края стол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Нельзя сдвигать микроскоп с места после настройки зеркал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Нельзя трогать окуляр и линзу руками. Нужно протирать специальной салфетко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Не допускать касания объектива покровного стекла. Край объектива должен находиться от препарата на расстоянии 1-2 мм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Переключать объективы до характерного щелчка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13:44:03Z</dcterms:created>
  <dc:creator>DOMPK</dc:creator>
  <dc:description/>
  <dc:language>en-US</dc:language>
  <cp:lastModifiedBy>DOMPK</cp:lastModifiedBy>
  <dcterms:modified xsi:type="dcterms:W3CDTF">2012-09-03T09:23:58Z</dcterms:modified>
  <cp:revision>18</cp:revision>
  <dc:subject/>
  <dc:title>Устройство  увеличительных  приборов и  правила  работы с ними</dc:title>
</cp:coreProperties>
</file>