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E029-8B90-4349-A6EE-BD81F97F05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3D80-3495-4A33-95B9-02D577CDAD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198F-B39E-4BA5-9B2F-8FBDBF442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7208-7156-41F4-92CD-66500107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23F2-DF55-4523-9588-F698AF90A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7F95-8F0C-48A7-8052-F0D19B864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9E60-6AEF-4852-A72D-413B72B8F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6D5B-20CE-4AAC-9E84-5B3002C2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0614-D649-42C6-ACB6-554B98D3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BD09-DEA0-4930-BE62-328549D8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2E4B-7102-494B-BBB0-C3E1901D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1397-F94D-4F3D-AC36-1A6FA206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3A1E8-26ED-4C84-96E5-91553B1D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BE3D-2ADA-45B3-A039-B734ED65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C3A36-C2FA-4AB8-A787-9D4DFDF6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9894-78D5-4380-BAB9-321C0B56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FC04-ADB8-49AC-902E-189D3424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0FEA-671F-440A-93F7-D6A69D8F5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63A49-3928-4511-BE3C-4BD7FA0F3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BF3ED6-BEB4-41A9-BBC9-6778C1E92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3E546B-DA00-4F23-99E6-A541909E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DBEF2F-34B9-4639-A4E1-B010D01E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5FA980-8925-444E-A84D-977517FA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DC3506-ED6A-46D1-8CFD-5A98A9DB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A32E-B57E-4C7E-94D7-52962586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710F2B-1400-4DE4-99F8-EE40522C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8CE978-DF08-4BEB-9F29-7E53A784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32C3D8-ABF0-4B1E-B8FF-70BCCB09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570C96-A70D-4A4B-A45A-086A5B82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71D455-67A7-4FC9-9AC3-0E338FEE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3D1E32-6132-487E-A21D-5359226FC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6C31DD-D72C-4A46-A882-7D4235974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3772D-2208-4051-ACB3-3A8881D7E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41A40-FE6B-498B-977E-4A92DF32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5E673-EA9F-4853-9B72-B7069C96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5E65-EE1F-4427-A634-1F466D4A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6F73C-92E4-487F-8CF4-77C4AF45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A5EE2-ACF5-43A1-874F-E4730FAB8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069DD-F9DF-4625-9425-421F10E5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07CFF-17D0-4B42-B472-FF20834D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C4791-3851-48AA-AABE-8C92733E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17E51-6C67-4C02-B33B-6B5B1A40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CC693-B515-4F24-8278-1FA3B73B6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D042B-D4B6-4E27-84C9-969F1E990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83AAA-A384-4AD5-84FB-D0673E08D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389905-0E87-4EFE-AEE8-EA8A95A92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E4B5-2ED0-473F-93B7-4639E510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C26C73-91E0-49CA-827F-65E24B99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0C76B9-578A-4B5B-BEA7-5323A8A9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4BFAA0-75CB-4FEC-8C74-26CF3684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F8A890-1B67-4B9F-A456-0F3FFEC5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E156F3-BD25-47F4-B789-6F608008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FF4F05-8225-4D71-9FFC-CB4CF11E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C2F181-41E1-4418-A805-78CBEA81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6ED308-F1AE-4096-B1B6-F7411CD0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331E41-FE31-476F-A0C3-6FD0BAF0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22768E-C9F5-4FAF-9917-68B04EF0F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BDD0-D0E3-4C75-8B1F-887933ED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96228B-7051-4BAD-A7B1-E7D79A3D5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551AD4-27FC-4E19-8F14-E98682069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99EAB7-7124-40AE-A51E-15390AAF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817BD2-2C4C-4315-AF26-77064C8C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3D7177-96DF-4528-A25C-D2A45AD1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4C9708-BBAE-409B-B8B4-76590E28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8FF0BA-0DEB-44B9-9D39-CD68358C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B54304-49DF-482B-86D0-E6155243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5F9A0A-90DE-4B78-8DDB-AA98BD80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AE686E-D985-4256-9CB8-790D0560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668C-3647-4643-A8F5-673F2E9D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BED5DE-03F0-4F2B-B911-525D2D75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59FC56-A7F8-4275-9CA7-2F36BC626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5E74A7-F9F6-4F8D-9C31-A4A57346A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DD966B-B27D-4AC6-8594-D4DD29C73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7FF634-E878-40DF-A920-66741BC0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EFB819-0873-4830-9D1B-A545952D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262888-63B3-4A25-B1CE-AA256CF0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79D67E-3B04-4781-A939-8FA5BC44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630DD1-907C-44CF-87B6-1992FD56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08F539-F271-4CC3-846F-12A1EEC8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FA7B-519D-4243-985A-83E6BB28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4CF005-F399-4DE3-BC4C-B52B201F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78E243-C0B5-44A4-9C83-D6BE1B6E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1705A6-499F-4DE1-A4E9-FE4755C5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31BA18-1F77-4B06-BF7C-0BCB1D4DC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647997-2A71-454B-ABE5-9BAC374A8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C81B-64DF-4613-B553-4EF685A7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0B15-7E72-4D49-9B55-66934C9AFD9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56FD-B579-4D5A-9867-79CB592A58D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1CB9-3D91-43D4-B071-90B6972FDA5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ECA8-B78C-4A9B-BDE1-2840431803A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B173-5F12-4735-ADB3-4EA2B16FB97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816E-D1BA-4B1F-8A3F-0D81A445CCF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DBAB-C1B1-4498-8E6F-1CB4009AAAB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979280" y="549360"/>
            <a:ext cx="6172200" cy="225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ХАРАКТЕРИСТИКА ГРИБОВ.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8317080" y="5575320"/>
            <a:ext cx="266400" cy="24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0" name="Picture 5" descr="Сморчок"/>
          <p:cNvPicPr/>
          <p:nvPr/>
        </p:nvPicPr>
        <p:blipFill>
          <a:blip r:embed="rId1"/>
          <a:stretch/>
        </p:blipFill>
        <p:spPr>
          <a:xfrm>
            <a:off x="4716360" y="3573360"/>
            <a:ext cx="4129200" cy="27529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5" descr="Белый гриб - боровик"/>
          <p:cNvPicPr/>
          <p:nvPr/>
        </p:nvPicPr>
        <p:blipFill>
          <a:blip r:embed="rId2"/>
          <a:stretch/>
        </p:blipFill>
        <p:spPr>
          <a:xfrm>
            <a:off x="179280" y="3357720"/>
            <a:ext cx="404352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1. ПИТАНИЕ ГРИБОВ.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TextBox 2"/>
          <p:cNvSpPr/>
          <p:nvPr/>
        </p:nvSpPr>
        <p:spPr>
          <a:xfrm>
            <a:off x="468360" y="1773360"/>
            <a:ext cx="835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ибы обита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юду:                      - в поч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жилищ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пищевых продукт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теле человека и 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Левая фигурная скобка 3"/>
          <p:cNvSpPr/>
          <p:nvPr/>
        </p:nvSpPr>
        <p:spPr>
          <a:xfrm>
            <a:off x="2627280" y="2276640"/>
            <a:ext cx="1152720" cy="2160360"/>
          </a:xfrm>
          <a:custGeom>
            <a:avLst/>
            <a:gdLst>
              <a:gd name="textAreaLeft" fmla="*/ 736560 w 1152720"/>
              <a:gd name="textAreaRight" fmla="*/ 1153080 w 1152720"/>
              <a:gd name="textAreaTop" fmla="*/ 29880 h 2160360"/>
              <a:gd name="textAreaBottom" fmla="*/ 2130480 h 21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80"/>
                  <a:pt x="10800" y="960"/>
                </a:cubicBezTo>
                <a:lnTo>
                  <a:pt x="10800" y="9840"/>
                </a:lnTo>
                <a:cubicBezTo>
                  <a:pt x="10800" y="10320"/>
                  <a:pt x="5400" y="10800"/>
                  <a:pt x="0" y="10800"/>
                </a:cubicBezTo>
                <a:cubicBezTo>
                  <a:pt x="5400" y="10800"/>
                  <a:pt x="10800" y="11280"/>
                  <a:pt x="10800" y="11760"/>
                </a:cubicBezTo>
                <a:lnTo>
                  <a:pt x="10800" y="20640"/>
                </a:lnTo>
                <a:cubicBezTo>
                  <a:pt x="10800" y="2112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6"/>
          <p:cNvSpPr/>
          <p:nvPr/>
        </p:nvSpPr>
        <p:spPr>
          <a:xfrm>
            <a:off x="611280" y="278136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имеются органические ве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7"/>
          <p:cNvSpPr/>
          <p:nvPr/>
        </p:nvSpPr>
        <p:spPr>
          <a:xfrm>
            <a:off x="1403280" y="4653000"/>
            <a:ext cx="56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ипу питания выделяю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Прямая со стрелкой 11"/>
          <p:cNvCxnSpPr/>
          <p:nvPr/>
        </p:nvCxnSpPr>
        <p:spPr>
          <a:xfrm flipH="1">
            <a:off x="2339640" y="5300640"/>
            <a:ext cx="937440" cy="432720"/>
          </a:xfrm>
          <a:prstGeom prst="straightConnector1">
            <a:avLst/>
          </a:prstGeom>
          <a:ln w="1260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68" name="Прямая со стрелкой 13"/>
          <p:cNvCxnSpPr/>
          <p:nvPr/>
        </p:nvCxnSpPr>
        <p:spPr>
          <a:xfrm>
            <a:off x="5219640" y="5084640"/>
            <a:ext cx="915120" cy="915120"/>
          </a:xfrm>
          <a:prstGeom prst="straightConnector1">
            <a:avLst/>
          </a:prstGeom>
          <a:ln w="12600">
            <a:solidFill>
              <a:srgbClr val="c00000"/>
            </a:solidFill>
            <a:miter/>
            <a:tailEnd len="med" type="arrow" w="med"/>
          </a:ln>
        </p:spPr>
      </p:cxnSp>
      <p:grpSp>
        <p:nvGrpSpPr>
          <p:cNvPr id="369" name="TextBox 14"/>
          <p:cNvGrpSpPr/>
          <p:nvPr/>
        </p:nvGrpSpPr>
        <p:grpSpPr>
          <a:xfrm>
            <a:off x="182520" y="5834160"/>
            <a:ext cx="2871720" cy="792000"/>
            <a:chOff x="182520" y="5834160"/>
            <a:chExt cx="2871720" cy="792000"/>
          </a:xfrm>
        </p:grpSpPr>
        <p:pic>
          <p:nvPicPr>
            <p:cNvPr id="370" name="TextBox 14" descr=""/>
            <p:cNvPicPr/>
            <p:nvPr/>
          </p:nvPicPr>
          <p:blipFill>
            <a:blip r:embed="rId1"/>
            <a:stretch/>
          </p:blipFill>
          <p:spPr>
            <a:xfrm>
              <a:off x="182520" y="5834160"/>
              <a:ext cx="287172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395280" y="5950080"/>
              <a:ext cx="259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апрофит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TextBox 15"/>
          <p:cNvGrpSpPr/>
          <p:nvPr/>
        </p:nvGrpSpPr>
        <p:grpSpPr>
          <a:xfrm>
            <a:off x="5553000" y="5821200"/>
            <a:ext cx="2901960" cy="865440"/>
            <a:chOff x="5553000" y="5821200"/>
            <a:chExt cx="2901960" cy="865440"/>
          </a:xfrm>
        </p:grpSpPr>
        <p:pic>
          <p:nvPicPr>
            <p:cNvPr id="373" name="TextBox 15" descr=""/>
            <p:cNvPicPr/>
            <p:nvPr/>
          </p:nvPicPr>
          <p:blipFill>
            <a:blip r:embed="rId2"/>
            <a:stretch/>
          </p:blipFill>
          <p:spPr>
            <a:xfrm>
              <a:off x="5553000" y="5821200"/>
              <a:ext cx="2901960" cy="8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5796000" y="5950080"/>
              <a:ext cx="25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аразит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2. СТРОЕНИЕ ГРИБОВ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6" name="Picture 5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5251320" cy="3959280"/>
          </a:xfrm>
          <a:prstGeom prst="rect">
            <a:avLst/>
          </a:prstGeom>
          <a:ln w="0">
            <a:noFill/>
          </a:ln>
        </p:spPr>
      </p:pic>
      <p:cxnSp>
        <p:nvCxnSpPr>
          <p:cNvPr id="377" name="Прямая со стрелкой 6"/>
          <p:cNvCxnSpPr/>
          <p:nvPr/>
        </p:nvCxnSpPr>
        <p:spPr>
          <a:xfrm flipV="1">
            <a:off x="2339640" y="4436280"/>
            <a:ext cx="1801080" cy="129636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78" name="Прямая со стрелкой 15"/>
          <p:cNvCxnSpPr/>
          <p:nvPr/>
        </p:nvCxnSpPr>
        <p:spPr>
          <a:xfrm flipH="1" flipV="1">
            <a:off x="5866920" y="2707560"/>
            <a:ext cx="866160" cy="30978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79" name="TextBox 16"/>
          <p:cNvSpPr/>
          <p:nvPr/>
        </p:nvSpPr>
        <p:spPr>
          <a:xfrm>
            <a:off x="395280" y="5805360"/>
            <a:ext cx="23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ибница или мицел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8"/>
          <p:cNvSpPr/>
          <p:nvPr/>
        </p:nvSpPr>
        <p:spPr>
          <a:xfrm>
            <a:off x="5076720" y="6021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довое те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Box 1"/>
          <p:cNvSpPr/>
          <p:nvPr/>
        </p:nvSpPr>
        <p:spPr>
          <a:xfrm>
            <a:off x="468360" y="33336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лочки клеток содержит хитин- органическое вещество характерное для живот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ибница или мицелий- тонкие белые ни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2"/>
          <p:cNvSpPr/>
          <p:nvPr/>
        </p:nvSpPr>
        <p:spPr>
          <a:xfrm>
            <a:off x="755640" y="177336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ды мицел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3" name="Прямая со стрелкой 4"/>
          <p:cNvCxnSpPr/>
          <p:nvPr/>
        </p:nvCxnSpPr>
        <p:spPr>
          <a:xfrm flipH="1">
            <a:off x="2339640" y="2349360"/>
            <a:ext cx="792720" cy="6483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84" name="Прямая со стрелкой 6"/>
          <p:cNvCxnSpPr/>
          <p:nvPr/>
        </p:nvCxnSpPr>
        <p:spPr>
          <a:xfrm>
            <a:off x="4643280" y="2349000"/>
            <a:ext cx="866160" cy="7930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385" name="TextBox 7"/>
          <p:cNvSpPr/>
          <p:nvPr/>
        </p:nvSpPr>
        <p:spPr>
          <a:xfrm>
            <a:off x="324000" y="3141720"/>
            <a:ext cx="273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клеточный – мук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8"/>
          <p:cNvSpPr/>
          <p:nvPr/>
        </p:nvSpPr>
        <p:spPr>
          <a:xfrm>
            <a:off x="4932360" y="3141720"/>
            <a:ext cx="31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клеточный - пеницил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11" descr="Мукор1"/>
          <p:cNvPicPr/>
          <p:nvPr/>
        </p:nvPicPr>
        <p:blipFill>
          <a:blip r:embed="rId1"/>
          <a:stretch/>
        </p:blipFill>
        <p:spPr>
          <a:xfrm>
            <a:off x="324000" y="4365720"/>
            <a:ext cx="2914560" cy="1965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88" name="Picture 7" descr=""/>
          <p:cNvPicPr/>
          <p:nvPr/>
        </p:nvPicPr>
        <p:blipFill>
          <a:blip r:embed="rId2"/>
          <a:stretch/>
        </p:blipFill>
        <p:spPr>
          <a:xfrm>
            <a:off x="6948360" y="4005360"/>
            <a:ext cx="165600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3. РАЗМНОЖЕНИЕ ГРИБОВ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TextBox 2"/>
          <p:cNvSpPr/>
          <p:nvPr/>
        </p:nvSpPr>
        <p:spPr>
          <a:xfrm>
            <a:off x="468360" y="177336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ы размн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1" name="Прямая со стрелкой 4"/>
          <p:cNvCxnSpPr/>
          <p:nvPr/>
        </p:nvCxnSpPr>
        <p:spPr>
          <a:xfrm flipH="1">
            <a:off x="2195280" y="2205000"/>
            <a:ext cx="1152720" cy="4327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92" name="Прямая со стрелкой 6"/>
          <p:cNvCxnSpPr/>
          <p:nvPr/>
        </p:nvCxnSpPr>
        <p:spPr>
          <a:xfrm>
            <a:off x="4932360" y="2276640"/>
            <a:ext cx="1296000" cy="72144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grpSp>
        <p:nvGrpSpPr>
          <p:cNvPr id="393" name="TextBox 7"/>
          <p:cNvGrpSpPr/>
          <p:nvPr/>
        </p:nvGrpSpPr>
        <p:grpSpPr>
          <a:xfrm>
            <a:off x="360360" y="2687760"/>
            <a:ext cx="2333520" cy="707760"/>
            <a:chOff x="360360" y="2687760"/>
            <a:chExt cx="2333520" cy="707760"/>
          </a:xfrm>
        </p:grpSpPr>
        <p:pic>
          <p:nvPicPr>
            <p:cNvPr id="394" name="TextBox 7" descr=""/>
            <p:cNvPicPr/>
            <p:nvPr/>
          </p:nvPicPr>
          <p:blipFill>
            <a:blip r:embed="rId1"/>
            <a:stretch/>
          </p:blipFill>
          <p:spPr>
            <a:xfrm>
              <a:off x="360360" y="2687760"/>
              <a:ext cx="2333520" cy="70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539640" y="2781360"/>
              <a:ext cx="208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лов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TextBox 8"/>
          <p:cNvGrpSpPr/>
          <p:nvPr/>
        </p:nvGrpSpPr>
        <p:grpSpPr>
          <a:xfrm>
            <a:off x="5437080" y="3024360"/>
            <a:ext cx="2584440" cy="792000"/>
            <a:chOff x="5437080" y="3024360"/>
            <a:chExt cx="2584440" cy="792000"/>
          </a:xfrm>
        </p:grpSpPr>
        <p:pic>
          <p:nvPicPr>
            <p:cNvPr id="397" name="TextBox 8" descr=""/>
            <p:cNvPicPr/>
            <p:nvPr/>
          </p:nvPicPr>
          <p:blipFill>
            <a:blip r:embed="rId2"/>
            <a:stretch/>
          </p:blipFill>
          <p:spPr>
            <a:xfrm>
              <a:off x="5437080" y="3024360"/>
              <a:ext cx="258444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5651640" y="3141720"/>
              <a:ext cx="230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есполо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TextBox 10"/>
          <p:cNvSpPr/>
          <p:nvPr/>
        </p:nvSpPr>
        <p:spPr>
          <a:xfrm>
            <a:off x="250920" y="3645000"/>
            <a:ext cx="273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ножение в результате слияния  специализированных клеток образуется мицел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2"/>
          <p:cNvSpPr/>
          <p:nvPr/>
        </p:nvSpPr>
        <p:spPr>
          <a:xfrm>
            <a:off x="4716360" y="3860640"/>
            <a:ext cx="345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ножение происходит при помощи специализированных клеток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вегетативно( части гриба или почкова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4. РОЛЬ ГРИБОВ В ПРИРОДЕ И ЖИЗНИ ЧЕЛОВЕКА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Прямоугольник 3"/>
          <p:cNvSpPr/>
          <p:nvPr/>
        </p:nvSpPr>
        <p:spPr>
          <a:xfrm>
            <a:off x="324000" y="1484280"/>
            <a:ext cx="3419280" cy="703800"/>
          </a:xfrm>
          <a:prstGeom prst="rect">
            <a:avLst/>
          </a:prstGeom>
          <a:solidFill>
            <a:srgbClr val="7598d9"/>
          </a:solidFill>
          <a:ln w="34920">
            <a:solidFill>
              <a:srgbClr val="ffffff"/>
            </a:solidFill>
            <a:miter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вуют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и перегно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4"/>
          <p:cNvSpPr/>
          <p:nvPr/>
        </p:nvSpPr>
        <p:spPr>
          <a:xfrm>
            <a:off x="395280" y="2349360"/>
            <a:ext cx="3745080" cy="398880"/>
          </a:xfrm>
          <a:prstGeom prst="rect">
            <a:avLst/>
          </a:prstGeom>
          <a:solidFill>
            <a:srgbClr val="f5cd2d"/>
          </a:solidFill>
          <a:ln w="34920">
            <a:solidFill>
              <a:srgbClr val="ffffff"/>
            </a:solidFill>
            <a:miter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ство лекар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5"/>
          <p:cNvSpPr/>
          <p:nvPr/>
        </p:nvSpPr>
        <p:spPr>
          <a:xfrm>
            <a:off x="900000" y="3213000"/>
            <a:ext cx="2519640" cy="703800"/>
          </a:xfrm>
          <a:prstGeom prst="rect">
            <a:avLst/>
          </a:prstGeom>
          <a:solidFill>
            <a:srgbClr val="fe8637"/>
          </a:solidFill>
          <a:ln w="34920">
            <a:solidFill>
              <a:srgbClr val="ffffff"/>
            </a:solidFill>
            <a:miter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отребление в пищ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TextBox 6"/>
          <p:cNvGrpSpPr/>
          <p:nvPr/>
        </p:nvGrpSpPr>
        <p:grpSpPr>
          <a:xfrm>
            <a:off x="633240" y="4297320"/>
            <a:ext cx="3110040" cy="1170000"/>
            <a:chOff x="633240" y="4297320"/>
            <a:chExt cx="3110040" cy="1170000"/>
          </a:xfrm>
        </p:grpSpPr>
        <p:pic>
          <p:nvPicPr>
            <p:cNvPr id="406" name="TextBox 6" descr=""/>
            <p:cNvPicPr/>
            <p:nvPr/>
          </p:nvPicPr>
          <p:blipFill>
            <a:blip r:embed="rId1"/>
            <a:stretch/>
          </p:blipFill>
          <p:spPr>
            <a:xfrm>
              <a:off x="633240" y="4297320"/>
              <a:ext cx="311004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755640" y="4365720"/>
              <a:ext cx="2808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Участвуют в круговороте веществ в природ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TextBox 7"/>
          <p:cNvGrpSpPr/>
          <p:nvPr/>
        </p:nvGrpSpPr>
        <p:grpSpPr>
          <a:xfrm>
            <a:off x="4809960" y="1779480"/>
            <a:ext cx="3071880" cy="1171800"/>
            <a:chOff x="4809960" y="1779480"/>
            <a:chExt cx="3071880" cy="1171800"/>
          </a:xfrm>
        </p:grpSpPr>
        <p:pic>
          <p:nvPicPr>
            <p:cNvPr id="409" name="TextBox 7" descr=""/>
            <p:cNvPicPr/>
            <p:nvPr/>
          </p:nvPicPr>
          <p:blipFill>
            <a:blip r:embed="rId2"/>
            <a:stretch/>
          </p:blipFill>
          <p:spPr>
            <a:xfrm>
              <a:off x="4809960" y="1779480"/>
              <a:ext cx="3071880" cy="11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4932360" y="1844640"/>
              <a:ext cx="2879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которые вызывают болезни у растений, животных и челове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TextBox 8"/>
          <p:cNvGrpSpPr/>
          <p:nvPr/>
        </p:nvGrpSpPr>
        <p:grpSpPr>
          <a:xfrm>
            <a:off x="4883040" y="3438360"/>
            <a:ext cx="3213360" cy="1170000"/>
            <a:chOff x="4883040" y="3438360"/>
            <a:chExt cx="3213360" cy="1170000"/>
          </a:xfrm>
        </p:grpSpPr>
        <p:pic>
          <p:nvPicPr>
            <p:cNvPr id="412" name="TextBox 8" descr=""/>
            <p:cNvPicPr/>
            <p:nvPr/>
          </p:nvPicPr>
          <p:blipFill>
            <a:blip r:embed="rId3"/>
            <a:stretch/>
          </p:blipFill>
          <p:spPr>
            <a:xfrm>
              <a:off x="4883040" y="3438360"/>
              <a:ext cx="321336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5003640" y="3500280"/>
              <a:ext cx="3024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ртят продукты питания, раз рушают построй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TextBox 9"/>
          <p:cNvGrpSpPr/>
          <p:nvPr/>
        </p:nvGrpSpPr>
        <p:grpSpPr>
          <a:xfrm>
            <a:off x="4237200" y="5162400"/>
            <a:ext cx="2992320" cy="1171800"/>
            <a:chOff x="4237200" y="5162400"/>
            <a:chExt cx="2992320" cy="1171800"/>
          </a:xfrm>
        </p:grpSpPr>
        <p:pic>
          <p:nvPicPr>
            <p:cNvPr id="415" name="TextBox 9" descr=""/>
            <p:cNvPicPr/>
            <p:nvPr/>
          </p:nvPicPr>
          <p:blipFill>
            <a:blip r:embed="rId4"/>
            <a:stretch/>
          </p:blipFill>
          <p:spPr>
            <a:xfrm>
              <a:off x="4237200" y="5162400"/>
              <a:ext cx="2992320" cy="11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4356000" y="5229360"/>
              <a:ext cx="2808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обходимы при изготовлении хлеба, сыров и виноделия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7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770" fill="hold"/>
                                        <p:tgtEl>
                                          <p:spTgt spid="4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7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70" fill="hold"/>
                                        <p:tgtEl>
                                          <p:spTgt spid="4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77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770" fill="hold"/>
                                        <p:tgtEl>
                                          <p:spTgt spid="4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7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70" fill="hold"/>
                                        <p:tgtEl>
                                          <p:spTgt spid="4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6920" y="19159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БЛАГОДАРЮ ЗА ВНИМАНИЯ!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8" name="Picture 7" descr="smorchoks"/>
          <p:cNvPicPr/>
          <p:nvPr/>
        </p:nvPicPr>
        <p:blipFill>
          <a:blip r:embed="rId1"/>
          <a:stretch/>
        </p:blipFill>
        <p:spPr>
          <a:xfrm>
            <a:off x="6227640" y="4149720"/>
            <a:ext cx="2735280" cy="25210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6" descr="podosinovikb"/>
          <p:cNvPicPr/>
          <p:nvPr/>
        </p:nvPicPr>
        <p:blipFill>
          <a:blip r:embed="rId2"/>
          <a:stretch/>
        </p:blipFill>
        <p:spPr>
          <a:xfrm>
            <a:off x="3708360" y="3357720"/>
            <a:ext cx="2448000" cy="194436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9" descr="zontb"/>
          <p:cNvPicPr/>
          <p:nvPr/>
        </p:nvPicPr>
        <p:blipFill>
          <a:blip r:embed="rId3"/>
          <a:stretch/>
        </p:blipFill>
        <p:spPr>
          <a:xfrm>
            <a:off x="179280" y="4581360"/>
            <a:ext cx="3484800" cy="2060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3" descr="136OpenkiNast"/>
          <p:cNvPicPr/>
          <p:nvPr/>
        </p:nvPicPr>
        <p:blipFill>
          <a:blip r:embed="rId4"/>
          <a:stretch/>
        </p:blipFill>
        <p:spPr>
          <a:xfrm>
            <a:off x="250920" y="189000"/>
            <a:ext cx="2697120" cy="20224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6" descr="Трюфель летний"/>
          <p:cNvPicPr/>
          <p:nvPr/>
        </p:nvPicPr>
        <p:blipFill>
          <a:blip r:embed="rId5"/>
          <a:stretch/>
        </p:blipFill>
        <p:spPr>
          <a:xfrm>
            <a:off x="5867280" y="189000"/>
            <a:ext cx="271944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08:27:10Z</dcterms:created>
  <dc:creator>DOMPK</dc:creator>
  <dc:description/>
  <dc:language>en-US</dc:language>
  <cp:lastModifiedBy>DOMPK</cp:lastModifiedBy>
  <dcterms:modified xsi:type="dcterms:W3CDTF">2012-09-27T09:23:11Z</dcterms:modified>
  <cp:revision>13</cp:revision>
  <dc:subject/>
  <dc:title>Общая характеристика грибов.</dc:title>
</cp:coreProperties>
</file>