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8065-E7A4-432C-9CAE-142FC4AA2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4C29-1983-469A-A3BC-3ECFE1494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F2D-288C-40A6-AC7A-7163EB00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DCD-BE2F-47C7-97F3-7A08967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B76-9838-47C3-92F9-31AF0785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DD1-9409-44BB-969A-339AF52C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4CC-6433-4F1C-B6C3-41DCA0F9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BDF-EBB5-42DC-ADC5-72C89DE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0C6C-9FA1-46AD-A0D5-06DF439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3597-6A61-4085-AF54-6149A41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F664-3FA3-4371-88B3-BA32EAC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8649-D128-41F7-B126-9E84929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FD5-CC23-4406-BF16-5AE18F2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BFD-4F7E-4C00-A4BB-BBFDC3A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502-E952-4AD8-ACCB-8B43E04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B828-CC4F-48B4-99D6-A5D54513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2974-8523-4DC6-977E-0C873BC0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AE1-B3E7-476D-A483-3DB3DEE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B09-AB30-4D19-8DEC-8430DF2B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E77CB-0D29-41B1-B17E-F62B6514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B432D-92B2-458E-8ECC-95A1D4E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167EF-B0B4-4E9F-8095-BEB49C4A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E86FA-C07D-49F2-81E8-92760294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A785C-CCE9-40E4-8355-9E635E0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7E2-3BF8-43CA-8C37-DA51710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80E96-E9FD-4C76-B31B-D46C108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C4C58-3677-4571-8E27-6C4CBEA1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B643A-640A-4A15-8925-EC77323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F157B-16D1-406F-B551-35AFA5F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17CA2-5D42-46B9-83DF-31BDBE97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20FC6-4B86-4C6D-BB1B-B113D10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34BFC-E739-4E51-B778-D79A6B22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D059-69A1-4F32-A36E-7EEFE59E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0B59-2375-4652-8C47-51DF6EA3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FDE4-19C1-43C7-9A9C-39672CA6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433-6EAD-41CD-AB96-840A7FDC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31C2-C9D1-4482-BCB8-EFDF8F6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1C7F-57DF-447A-A721-F398E274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7453-D61C-4FB2-B948-A9A5F2D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82EF-C2FF-4F8D-A96F-E623C5E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8893-B5FE-46E4-9395-31E9A88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24A5-11E2-419F-848C-614B195E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DDE25-0DAB-4B1E-B521-9179CDD5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9339-5269-4C64-A363-E2110BD1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6E20-7D41-4A89-9444-CC376013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B0205-440F-44A4-B554-BC972B1F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39A-8F86-4EB7-9205-50C94776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48F29-3448-44D5-87BA-5FC7BE3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3DAC8-BAF3-4858-A3A6-FDD5D8F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52986-7DD3-423C-905B-C8C758D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71BC8-21AD-40B2-BF25-FAB21060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3314F-4760-44CD-BC8C-A5F144D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D4972-BE5C-4523-9EA4-33FE5BA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44074-38D6-456E-A31F-4B4B516A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4DA14-8697-42B3-8D1B-F8D0DED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2D0AF-F60C-426E-9D3D-5F4BD4B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7753B-005C-4ABF-AD15-C62AE320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FF3-AC74-432B-932B-F3B86E1E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A8804-40FD-4E1F-9F23-65300AC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5261D-E27A-4E57-BB26-D6F710BE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62F73-D4AD-4113-8C78-9E371661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EFC24-1A76-49E1-BDE5-AD96234E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179CA-FF92-484D-9CC8-3EC1AB1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250F6-451A-44CD-88A7-0BF9D1D3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97B523-43CB-4613-9F61-2C1D0E8B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49BB41-3D26-4130-95D2-B43F78A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5ED2C-4DD9-4FEA-B3E7-44827E6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DDE6F-1906-45FC-AF8C-B7B66C3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FDE-2AED-462A-95FF-FEE48CC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35A2F-3140-4BCF-952F-AA8E4D2F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CC852-C081-4985-B46B-922DD05B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84912-3250-4E55-8F23-46A210BF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DE2BC-1FE0-4304-BFD1-447A0CEB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5FA274-5146-4A40-A819-6339C8E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CE751-29DF-48A8-945A-AFF2E4C4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BA446-A468-4375-A054-3220567F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C5E7C-946A-43BD-B301-CDA8772B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35DEF-F4FB-43FA-B58C-A3F6F4F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E7826-F8DC-4570-88C1-B8EC11D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A20-F2C8-4B52-B618-F15CDC4A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0E412-CEA7-49A3-9898-4AC0789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E8DF0-E5EA-4DFF-947D-3A2624A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FDBEE-74C3-47F4-9B87-7E10609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60B78-0DB1-4862-B74C-E126295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A3027-AA0A-4A23-B4D1-3077E81F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0BC-18ED-4A87-B5AD-8824B21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8671-49AA-436C-90A9-78CEBF8F89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8369-E13A-402B-90C5-BEC9518BF8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C1D-9C9A-4430-A318-77A0C4AEFC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79C-0948-4139-8253-B578AB333C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CD17-139A-4DA3-B359-79FBA24644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42C8-6DE6-4EEF-996A-FB2115F37E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2C90-5F3B-4084-AB2F-3D6065D844D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6172200" cy="225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ГРИБОВ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17080" y="5575320"/>
            <a:ext cx="266400" cy="24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5" descr="Сморчок"/>
          <p:cNvPicPr/>
          <p:nvPr/>
        </p:nvPicPr>
        <p:blipFill>
          <a:blip r:embed="rId1"/>
          <a:stretch/>
        </p:blipFill>
        <p:spPr>
          <a:xfrm>
            <a:off x="4716360" y="3573360"/>
            <a:ext cx="4129200" cy="2752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Белый гриб - боровик"/>
          <p:cNvPicPr/>
          <p:nvPr/>
        </p:nvPicPr>
        <p:blipFill>
          <a:blip r:embed="rId2"/>
          <a:stretch/>
        </p:blipFill>
        <p:spPr>
          <a:xfrm>
            <a:off x="179280" y="3357720"/>
            <a:ext cx="40435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1. ПИТАНИЕ ГРИБОВ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468360" y="1773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оби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ду:                      - в поч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жилищ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ищевых проду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теле человека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Левая фигурная скобка 3"/>
          <p:cNvSpPr/>
          <p:nvPr/>
        </p:nvSpPr>
        <p:spPr>
          <a:xfrm>
            <a:off x="2627280" y="2276640"/>
            <a:ext cx="1152720" cy="2160360"/>
          </a:xfrm>
          <a:custGeom>
            <a:avLst/>
            <a:gdLst>
              <a:gd name="textAreaLeft" fmla="*/ 736560 w 1152720"/>
              <a:gd name="textAreaRight" fmla="*/ 1153080 w 1152720"/>
              <a:gd name="textAreaTop" fmla="*/ 29880 h 2160360"/>
              <a:gd name="textAreaBottom" fmla="*/ 213048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5400" y="10800"/>
                  <a:pt x="0" y="10800"/>
                </a:cubicBezTo>
                <a:cubicBezTo>
                  <a:pt x="54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611280" y="278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меются органически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7"/>
          <p:cNvSpPr/>
          <p:nvPr/>
        </p:nvSpPr>
        <p:spPr>
          <a:xfrm>
            <a:off x="1403280" y="465300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питания выделя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 стрелкой 11"/>
          <p:cNvCxnSpPr/>
          <p:nvPr/>
        </p:nvCxnSpPr>
        <p:spPr>
          <a:xfrm flipH="1">
            <a:off x="2339640" y="5300640"/>
            <a:ext cx="937440" cy="4327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68" name="Прямая со стрелкой 13"/>
          <p:cNvCxnSpPr/>
          <p:nvPr/>
        </p:nvCxnSpPr>
        <p:spPr>
          <a:xfrm>
            <a:off x="5219640" y="5084640"/>
            <a:ext cx="915120" cy="9151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369" name="TextBox 14"/>
          <p:cNvGrpSpPr/>
          <p:nvPr/>
        </p:nvGrpSpPr>
        <p:grpSpPr>
          <a:xfrm>
            <a:off x="182520" y="5834160"/>
            <a:ext cx="2871720" cy="792000"/>
            <a:chOff x="182520" y="5834160"/>
            <a:chExt cx="2871720" cy="792000"/>
          </a:xfrm>
        </p:grpSpPr>
        <p:pic>
          <p:nvPicPr>
            <p:cNvPr id="370" name="TextBox 14" descr=""/>
            <p:cNvPicPr/>
            <p:nvPr/>
          </p:nvPicPr>
          <p:blipFill>
            <a:blip r:embed="rId1"/>
            <a:stretch/>
          </p:blipFill>
          <p:spPr>
            <a:xfrm>
              <a:off x="182520" y="5834160"/>
              <a:ext cx="28717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95280" y="5950080"/>
              <a:ext cx="25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профи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TextBox 15"/>
          <p:cNvGrpSpPr/>
          <p:nvPr/>
        </p:nvGrpSpPr>
        <p:grpSpPr>
          <a:xfrm>
            <a:off x="5553000" y="5821200"/>
            <a:ext cx="2901960" cy="865440"/>
            <a:chOff x="5553000" y="5821200"/>
            <a:chExt cx="2901960" cy="865440"/>
          </a:xfrm>
        </p:grpSpPr>
        <p:pic>
          <p:nvPicPr>
            <p:cNvPr id="373" name="TextBox 15" descr=""/>
            <p:cNvPicPr/>
            <p:nvPr/>
          </p:nvPicPr>
          <p:blipFill>
            <a:blip r:embed="rId2"/>
            <a:stretch/>
          </p:blipFill>
          <p:spPr>
            <a:xfrm>
              <a:off x="5553000" y="5821200"/>
              <a:ext cx="29019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796000" y="595008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зи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2. СТРОЕНИЕ ГРИБОВ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251320" cy="3959280"/>
          </a:xfrm>
          <a:prstGeom prst="rect">
            <a:avLst/>
          </a:prstGeom>
          <a:ln w="0">
            <a:noFill/>
          </a:ln>
        </p:spPr>
      </p:pic>
      <p:cxnSp>
        <p:nvCxnSpPr>
          <p:cNvPr id="377" name="Прямая со стрелкой 6"/>
          <p:cNvCxnSpPr/>
          <p:nvPr/>
        </p:nvCxnSpPr>
        <p:spPr>
          <a:xfrm flipV="1">
            <a:off x="2339640" y="4436280"/>
            <a:ext cx="1801080" cy="129636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8" name="Прямая со стрелкой 15"/>
          <p:cNvCxnSpPr/>
          <p:nvPr/>
        </p:nvCxnSpPr>
        <p:spPr>
          <a:xfrm flipH="1" flipV="1">
            <a:off x="5866920" y="2707560"/>
            <a:ext cx="866160" cy="30978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9" name="TextBox 16"/>
          <p:cNvSpPr/>
          <p:nvPr/>
        </p:nvSpPr>
        <p:spPr>
          <a:xfrm>
            <a:off x="395280" y="5805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8"/>
          <p:cNvSpPr/>
          <p:nvPr/>
        </p:nvSpPr>
        <p:spPr>
          <a:xfrm>
            <a:off x="5076720" y="602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о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468360" y="33336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очки клеток содержит хитин- органическое вещество характерное для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ца или мицелий- тонкие бел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75564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миц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4"/>
          <p:cNvCxnSpPr/>
          <p:nvPr/>
        </p:nvCxnSpPr>
        <p:spPr>
          <a:xfrm flipH="1">
            <a:off x="2339640" y="2349360"/>
            <a:ext cx="792720" cy="648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Прямая со стрелкой 6"/>
          <p:cNvCxnSpPr/>
          <p:nvPr/>
        </p:nvCxnSpPr>
        <p:spPr>
          <a:xfrm>
            <a:off x="4643280" y="2349000"/>
            <a:ext cx="866160" cy="793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5" name="TextBox 7"/>
          <p:cNvSpPr/>
          <p:nvPr/>
        </p:nvSpPr>
        <p:spPr>
          <a:xfrm>
            <a:off x="324000" y="3141720"/>
            <a:ext cx="27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леточный – мук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4932360" y="314172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клеточный - пениц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Мукор1"/>
          <p:cNvPicPr/>
          <p:nvPr/>
        </p:nvPicPr>
        <p:blipFill>
          <a:blip r:embed="rId1"/>
          <a:stretch/>
        </p:blipFill>
        <p:spPr>
          <a:xfrm>
            <a:off x="324000" y="4365720"/>
            <a:ext cx="2914560" cy="196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8" name="Picture 7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6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3. РАЗМНОЖЕНИЕ ГРИБОВ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468360" y="177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размн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4"/>
          <p:cNvCxnSpPr/>
          <p:nvPr/>
        </p:nvCxnSpPr>
        <p:spPr>
          <a:xfrm flipH="1">
            <a:off x="2195280" y="2205000"/>
            <a:ext cx="1152720" cy="432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6"/>
          <p:cNvCxnSpPr/>
          <p:nvPr/>
        </p:nvCxnSpPr>
        <p:spPr>
          <a:xfrm>
            <a:off x="4932360" y="2276640"/>
            <a:ext cx="1296000" cy="721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grpSp>
        <p:nvGrpSpPr>
          <p:cNvPr id="393" name="TextBox 7"/>
          <p:cNvGrpSpPr/>
          <p:nvPr/>
        </p:nvGrpSpPr>
        <p:grpSpPr>
          <a:xfrm>
            <a:off x="360360" y="2687760"/>
            <a:ext cx="2333520" cy="707760"/>
            <a:chOff x="360360" y="2687760"/>
            <a:chExt cx="2333520" cy="707760"/>
          </a:xfrm>
        </p:grpSpPr>
        <p:pic>
          <p:nvPicPr>
            <p:cNvPr id="394" name="TextBox 7" descr=""/>
            <p:cNvPicPr/>
            <p:nvPr/>
          </p:nvPicPr>
          <p:blipFill>
            <a:blip r:embed="rId1"/>
            <a:stretch/>
          </p:blipFill>
          <p:spPr>
            <a:xfrm>
              <a:off x="360360" y="2687760"/>
              <a:ext cx="23335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39640" y="2781360"/>
              <a:ext cx="20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в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TextBox 8"/>
          <p:cNvGrpSpPr/>
          <p:nvPr/>
        </p:nvGrpSpPr>
        <p:grpSpPr>
          <a:xfrm>
            <a:off x="5437080" y="3024360"/>
            <a:ext cx="2584440" cy="792000"/>
            <a:chOff x="5437080" y="3024360"/>
            <a:chExt cx="2584440" cy="792000"/>
          </a:xfrm>
        </p:grpSpPr>
        <p:pic>
          <p:nvPicPr>
            <p:cNvPr id="397" name="TextBox 8" descr=""/>
            <p:cNvPicPr/>
            <p:nvPr/>
          </p:nvPicPr>
          <p:blipFill>
            <a:blip r:embed="rId2"/>
            <a:stretch/>
          </p:blipFill>
          <p:spPr>
            <a:xfrm>
              <a:off x="5437080" y="3024360"/>
              <a:ext cx="2584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651640" y="3141720"/>
              <a:ext cx="23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спол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10"/>
          <p:cNvSpPr/>
          <p:nvPr/>
        </p:nvSpPr>
        <p:spPr>
          <a:xfrm>
            <a:off x="250920" y="3645000"/>
            <a:ext cx="273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в результате слияния  специализированных клеток образуется мице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2"/>
          <p:cNvSpPr/>
          <p:nvPr/>
        </p:nvSpPr>
        <p:spPr>
          <a:xfrm>
            <a:off x="4716360" y="386064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ение происходит при помощи специализированных клеток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вегетативно( части гриба или почк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4. РОЛЬ ГРИБОВ В ПРИРОДЕ И ЖИЗНИ ЧЕЛОВЕ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Прямоугольник 3"/>
          <p:cNvSpPr/>
          <p:nvPr/>
        </p:nvSpPr>
        <p:spPr>
          <a:xfrm>
            <a:off x="324000" y="1484280"/>
            <a:ext cx="3419280" cy="703800"/>
          </a:xfrm>
          <a:prstGeom prst="rect">
            <a:avLst/>
          </a:prstGeom>
          <a:solidFill>
            <a:srgbClr val="7598d9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и 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4"/>
          <p:cNvSpPr/>
          <p:nvPr/>
        </p:nvSpPr>
        <p:spPr>
          <a:xfrm>
            <a:off x="395280" y="2349360"/>
            <a:ext cx="3745080" cy="39888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900000" y="3213000"/>
            <a:ext cx="2519640" cy="7038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ление в п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Box 6"/>
          <p:cNvGrpSpPr/>
          <p:nvPr/>
        </p:nvGrpSpPr>
        <p:grpSpPr>
          <a:xfrm>
            <a:off x="633240" y="4297320"/>
            <a:ext cx="3110040" cy="1170000"/>
            <a:chOff x="633240" y="4297320"/>
            <a:chExt cx="3110040" cy="1170000"/>
          </a:xfrm>
        </p:grpSpPr>
        <p:pic>
          <p:nvPicPr>
            <p:cNvPr id="406" name="TextBox 6" descr=""/>
            <p:cNvPicPr/>
            <p:nvPr/>
          </p:nvPicPr>
          <p:blipFill>
            <a:blip r:embed="rId1"/>
            <a:stretch/>
          </p:blipFill>
          <p:spPr>
            <a:xfrm>
              <a:off x="633240" y="4297320"/>
              <a:ext cx="31100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55640" y="4365720"/>
              <a:ext cx="280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аствуют в круговороте веществ в приро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TextBox 7"/>
          <p:cNvGrpSpPr/>
          <p:nvPr/>
        </p:nvGrpSpPr>
        <p:grpSpPr>
          <a:xfrm>
            <a:off x="4809960" y="1779480"/>
            <a:ext cx="3071880" cy="1171800"/>
            <a:chOff x="4809960" y="1779480"/>
            <a:chExt cx="3071880" cy="1171800"/>
          </a:xfrm>
        </p:grpSpPr>
        <p:pic>
          <p:nvPicPr>
            <p:cNvPr id="409" name="TextBox 7" descr=""/>
            <p:cNvPicPr/>
            <p:nvPr/>
          </p:nvPicPr>
          <p:blipFill>
            <a:blip r:embed="rId2"/>
            <a:stretch/>
          </p:blipFill>
          <p:spPr>
            <a:xfrm>
              <a:off x="4809960" y="1779480"/>
              <a:ext cx="307188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932360" y="1844640"/>
              <a:ext cx="287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которые вызывают болезни у растений, животных и 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TextBox 8"/>
          <p:cNvGrpSpPr/>
          <p:nvPr/>
        </p:nvGrpSpPr>
        <p:grpSpPr>
          <a:xfrm>
            <a:off x="4883040" y="3438360"/>
            <a:ext cx="3213360" cy="1170000"/>
            <a:chOff x="4883040" y="3438360"/>
            <a:chExt cx="3213360" cy="1170000"/>
          </a:xfrm>
        </p:grpSpPr>
        <p:pic>
          <p:nvPicPr>
            <p:cNvPr id="412" name="TextBox 8" descr=""/>
            <p:cNvPicPr/>
            <p:nvPr/>
          </p:nvPicPr>
          <p:blipFill>
            <a:blip r:embed="rId3"/>
            <a:stretch/>
          </p:blipFill>
          <p:spPr>
            <a:xfrm>
              <a:off x="4883040" y="3438360"/>
              <a:ext cx="32133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5003640" y="3500280"/>
              <a:ext cx="302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ртят продукты питания, раз рушают построй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TextBox 9"/>
          <p:cNvGrpSpPr/>
          <p:nvPr/>
        </p:nvGrpSpPr>
        <p:grpSpPr>
          <a:xfrm>
            <a:off x="4237200" y="5162400"/>
            <a:ext cx="2992320" cy="1171800"/>
            <a:chOff x="4237200" y="5162400"/>
            <a:chExt cx="2992320" cy="1171800"/>
          </a:xfrm>
        </p:grpSpPr>
        <p:pic>
          <p:nvPicPr>
            <p:cNvPr id="415" name="TextBox 9" descr=""/>
            <p:cNvPicPr/>
            <p:nvPr/>
          </p:nvPicPr>
          <p:blipFill>
            <a:blip r:embed="rId4"/>
            <a:stretch/>
          </p:blipFill>
          <p:spPr>
            <a:xfrm>
              <a:off x="4237200" y="5162400"/>
              <a:ext cx="299232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4356000" y="5229360"/>
              <a:ext cx="280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бходимы при изготовлении хлеба, сыров и винодел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4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БЛАГОДАРЮ ЗА ВНИМАНИЯ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Picture 7" descr="smorchoks"/>
          <p:cNvPicPr/>
          <p:nvPr/>
        </p:nvPicPr>
        <p:blipFill>
          <a:blip r:embed="rId1"/>
          <a:stretch/>
        </p:blipFill>
        <p:spPr>
          <a:xfrm>
            <a:off x="6227640" y="4149720"/>
            <a:ext cx="2735280" cy="2521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podosinovikb"/>
          <p:cNvPicPr/>
          <p:nvPr/>
        </p:nvPicPr>
        <p:blipFill>
          <a:blip r:embed="rId2"/>
          <a:stretch/>
        </p:blipFill>
        <p:spPr>
          <a:xfrm>
            <a:off x="3708360" y="3357720"/>
            <a:ext cx="2448000" cy="1944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zontb"/>
          <p:cNvPicPr/>
          <p:nvPr/>
        </p:nvPicPr>
        <p:blipFill>
          <a:blip r:embed="rId3"/>
          <a:stretch/>
        </p:blipFill>
        <p:spPr>
          <a:xfrm>
            <a:off x="179280" y="4581360"/>
            <a:ext cx="3484800" cy="2060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136OpenkiNast"/>
          <p:cNvPicPr/>
          <p:nvPr/>
        </p:nvPicPr>
        <p:blipFill>
          <a:blip r:embed="rId4"/>
          <a:stretch/>
        </p:blipFill>
        <p:spPr>
          <a:xfrm>
            <a:off x="250920" y="189000"/>
            <a:ext cx="2697120" cy="2022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Трюфель летний"/>
          <p:cNvPicPr/>
          <p:nvPr/>
        </p:nvPicPr>
        <p:blipFill>
          <a:blip r:embed="rId5"/>
          <a:stretch/>
        </p:blipFill>
        <p:spPr>
          <a:xfrm>
            <a:off x="5867280" y="18900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08:27:10Z</dcterms:created>
  <dc:creator>DOMPK</dc:creator>
  <dc:description/>
  <dc:language>en-US</dc:language>
  <cp:lastModifiedBy>DOMPK</cp:lastModifiedBy>
  <dcterms:modified xsi:type="dcterms:W3CDTF">2012-09-27T09:23:11Z</dcterms:modified>
  <cp:revision>13</cp:revision>
  <dc:subject/>
  <dc:title>Общая характеристика грибов.</dc:title>
</cp:coreProperties>
</file>