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DE81-CBC6-4A99-A6EE-D8EAE5225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85C-8845-47D8-8982-8F1B06B8A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ACA-6DC2-4516-BC17-476088E2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B76-C29C-4CCA-8F7D-3A991715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574-0635-42C5-B254-5C69BEA6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46C-B44A-482A-AA7E-B3A75810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D498-4ACF-4F88-9294-6F0E60F4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4CC6-BFE2-499F-945F-206FAF5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7DF3-63BF-4409-A2B4-D90E39E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F275-5930-4E64-8974-54779185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9643-AE42-4378-A3BA-D57BA4E5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84B-00E9-4729-BFF4-3F9C196E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DA40-14CB-48AF-AFC7-0260F87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DF6-BC2A-4540-8C27-F3443903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F4C3-A422-41E5-88D9-19675A0F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EC8E-9B6E-46ED-9864-C0CFF00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4B21-79F5-40F1-9D58-14265D2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2310-A9A6-4500-9EFC-6B1CD360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5FB9-1D90-4A73-BF83-A585E6ED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1D1-7855-440D-A159-8D5A2D9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99F-BAF1-477F-9C35-8CE7DA8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C11-40EC-4371-9F05-472A7F44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9C6-496C-407C-9CCD-51E25061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051-6E29-41C5-9A64-0C9B67D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80F-EDB7-47D4-A797-7B63BED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2B4-E0B7-46F5-8C78-64F3006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3AD6-AF85-4BE4-BAC5-5AAE1808A110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D5B-6489-4DC9-BFF0-2C3AB4F4BE75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Segoe UI"/>
                <a:ea typeface="Segoe UI"/>
              </a:rPr>
              <a:t>Плесневые грибы</a:t>
            </a: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Segoe UI"/>
                <a:ea typeface="Segoe UI"/>
              </a:rPr>
              <a:t>и дрожжи</a:t>
            </a:r>
            <a:br>
              <a:rPr sz="4400"/>
            </a:b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3" name="Picture 14" descr="пенициллин 2"/>
          <p:cNvPicPr/>
          <p:nvPr/>
        </p:nvPicPr>
        <p:blipFill>
          <a:blip r:embed="rId1"/>
          <a:stretch/>
        </p:blipFill>
        <p:spPr>
          <a:xfrm>
            <a:off x="5508720" y="3213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Segoe UI"/>
                <a:ea typeface="Segoe UI"/>
              </a:rPr>
              <a:t>II. </a:t>
            </a: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Гриб пеницилл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187280" y="19162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 – селится на других пищевых продуктах и на почве, имеет многоклеточный мицелий. Споры располагаются на кисточках мицелия. Широко используется в медицине в качестве получения лекар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Аспергилл на стене"/>
          <p:cNvPicPr/>
          <p:nvPr/>
        </p:nvPicPr>
        <p:blipFill>
          <a:blip r:embed="rId1"/>
          <a:stretch/>
        </p:blipFill>
        <p:spPr>
          <a:xfrm>
            <a:off x="1332000" y="2637000"/>
            <a:ext cx="5246640" cy="39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Аспергилл"/>
          <p:cNvPicPr/>
          <p:nvPr/>
        </p:nvPicPr>
        <p:blipFill>
          <a:blip r:embed="rId2"/>
          <a:stretch/>
        </p:blipFill>
        <p:spPr>
          <a:xfrm>
            <a:off x="2124000" y="2781360"/>
            <a:ext cx="5302440" cy="3714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Аспергилл под микроскопом"/>
          <p:cNvPicPr/>
          <p:nvPr/>
        </p:nvPicPr>
        <p:blipFill>
          <a:blip r:embed="rId3"/>
          <a:stretch/>
        </p:blipFill>
        <p:spPr>
          <a:xfrm>
            <a:off x="4140360" y="2924280"/>
            <a:ext cx="4681440" cy="3511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аспергилла спорангий"/>
          <p:cNvPicPr/>
          <p:nvPr/>
        </p:nvPicPr>
        <p:blipFill>
          <a:blip r:embed="rId4"/>
          <a:stretch/>
        </p:blipFill>
        <p:spPr>
          <a:xfrm>
            <a:off x="6877080" y="4581360"/>
            <a:ext cx="1724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1" descr="Мукор1"/>
          <p:cNvPicPr/>
          <p:nvPr/>
        </p:nvPicPr>
        <p:blipFill>
          <a:blip r:embed="rId1"/>
          <a:stretch/>
        </p:blipFill>
        <p:spPr>
          <a:xfrm>
            <a:off x="0" y="404640"/>
            <a:ext cx="4643280" cy="547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435640" y="185760"/>
            <a:ext cx="3313080" cy="57643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900000" y="6093000"/>
            <a:ext cx="280836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084720" y="6093000"/>
            <a:ext cx="223236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Segoe UI"/>
                <a:ea typeface="Segoe UI"/>
              </a:rPr>
              <a:t>III. </a:t>
            </a: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Дрожжи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187280" y="1557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дрожжи для приготовления хлеба, вина, пива. Состоят  из одной клетки, питаются жидкостью содержащей сахар. Размножаются почкованием. Дрожжи разлагают сахар на спирт и углекислый г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Дрожжи под микроскопом"/>
          <p:cNvPicPr/>
          <p:nvPr/>
        </p:nvPicPr>
        <p:blipFill>
          <a:blip r:embed="rId1"/>
          <a:stretch/>
        </p:blipFill>
        <p:spPr>
          <a:xfrm>
            <a:off x="468360" y="1341360"/>
            <a:ext cx="4546440" cy="507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Дрожжи"/>
          <p:cNvPicPr/>
          <p:nvPr/>
        </p:nvPicPr>
        <p:blipFill>
          <a:blip r:embed="rId2"/>
          <a:stretch/>
        </p:blipFill>
        <p:spPr>
          <a:xfrm>
            <a:off x="2484360" y="1557360"/>
            <a:ext cx="3551400" cy="508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Тесто 1"/>
          <p:cNvPicPr/>
          <p:nvPr/>
        </p:nvPicPr>
        <p:blipFill>
          <a:blip r:embed="rId3"/>
          <a:stretch/>
        </p:blipFill>
        <p:spPr>
          <a:xfrm>
            <a:off x="1878120" y="1409760"/>
            <a:ext cx="72658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Почкование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1222200"/>
            <a:ext cx="9101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Благодарю за внимание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3668760" cy="407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плесневые грибы7"/>
          <p:cNvPicPr/>
          <p:nvPr/>
        </p:nvPicPr>
        <p:blipFill>
          <a:blip r:embed="rId2"/>
          <a:stretch/>
        </p:blipFill>
        <p:spPr>
          <a:xfrm>
            <a:off x="5003640" y="2852640"/>
            <a:ext cx="36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539640" y="476280"/>
            <a:ext cx="8064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их частей состоит гри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ножки и шляп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почвенной грибницы и плодового              тел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з микоризы и гиф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2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4720" y="333360"/>
            <a:ext cx="45352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В микоризе участвуют и растение и гриб. Кто из них получает от этого пользу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а) гриб;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б) ни гриб ни растение;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в) и растение и гриб;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f261e"/>
                </a:solidFill>
                <a:latin typeface="Times New Roman"/>
                <a:ea typeface="Times New Roman"/>
              </a:rPr>
              <a:t>г) растение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887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24000" y="33336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27280" y="1197000"/>
            <a:ext cx="3803760" cy="532764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5"/>
          <p:cNvCxnSpPr/>
          <p:nvPr/>
        </p:nvCxnSpPr>
        <p:spPr>
          <a:xfrm flipH="1" flipV="1">
            <a:off x="4858920" y="1699560"/>
            <a:ext cx="1729440" cy="73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1" name="Прямая со стрелкой 7"/>
          <p:cNvCxnSpPr/>
          <p:nvPr/>
        </p:nvCxnSpPr>
        <p:spPr>
          <a:xfrm flipH="1">
            <a:off x="4355640" y="3500280"/>
            <a:ext cx="2232720" cy="145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2" name="Прямая соединительная линия 13"/>
          <p:cNvSpPr/>
          <p:nvPr/>
        </p:nvSpPr>
        <p:spPr>
          <a:xfrm flipH="1">
            <a:off x="2484360" y="1341360"/>
            <a:ext cx="17272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7"/>
          <p:cNvSpPr/>
          <p:nvPr/>
        </p:nvSpPr>
        <p:spPr>
          <a:xfrm flipH="1">
            <a:off x="2555640" y="5516640"/>
            <a:ext cx="143964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21"/>
          <p:cNvSpPr/>
          <p:nvPr/>
        </p:nvSpPr>
        <p:spPr>
          <a:xfrm>
            <a:off x="2484360" y="1413000"/>
            <a:ext cx="71640" cy="4176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26"/>
          <p:cNvCxnSpPr/>
          <p:nvPr/>
        </p:nvCxnSpPr>
        <p:spPr>
          <a:xfrm flipH="1">
            <a:off x="4571640" y="5660640"/>
            <a:ext cx="1945440" cy="14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TextBox 27"/>
          <p:cNvSpPr/>
          <p:nvPr/>
        </p:nvSpPr>
        <p:spPr>
          <a:xfrm>
            <a:off x="1332000" y="270828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680400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673272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6588000" y="537372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395280" y="333360"/>
            <a:ext cx="82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ы из корней деревьев получ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итам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инераль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рганически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395280" y="33336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ориз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биоз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95280" y="260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611280" y="98100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названных грибов относятся к трубчатым, а какие к пластинчатым: А)маслята,              Е) сыроеж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рыжики,              Ж) шампиньон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белые грибы,      З) подберёзови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лисички,              И) грузд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подосиновики,    К)оп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ые:                 Пластинчат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Плесневые грибы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900000" y="1700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Плесневые грибы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сапротрофно в почве, на увлажненных продуктах, плодах и овощах, на животных и растительных остатках, образуя пушистые или паутинистые налеты (плесень) серого, зеленого, черного, сизого цвет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Segoe UI"/>
                <a:ea typeface="Segoe UI"/>
              </a:rPr>
              <a:t>I. </a:t>
            </a:r>
            <a:r>
              <a:rPr b="0" lang="ru-RU" sz="4400" spc="-1" strike="noStrike">
                <a:solidFill>
                  <a:srgbClr val="4f261e"/>
                </a:solidFill>
                <a:latin typeface="Segoe UI"/>
                <a:ea typeface="Segoe UI"/>
              </a:rPr>
              <a:t>Гриб мукор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11280" y="155736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р – плесневый гриб сапрофит. Поселяется на овощах и фруктах. Мицелий состоит из одной клетки. Размножается мицелием или спорами. Споры разносятся ветром и пророст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Мукор"/>
          <p:cNvPicPr/>
          <p:nvPr/>
        </p:nvPicPr>
        <p:blipFill>
          <a:blip r:embed="rId1"/>
          <a:stretch/>
        </p:blipFill>
        <p:spPr>
          <a:xfrm>
            <a:off x="539640" y="1333440"/>
            <a:ext cx="4586400" cy="552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Мукор 1"/>
          <p:cNvPicPr/>
          <p:nvPr/>
        </p:nvPicPr>
        <p:blipFill>
          <a:blip r:embed="rId2"/>
          <a:stretch/>
        </p:blipFill>
        <p:spPr>
          <a:xfrm>
            <a:off x="755640" y="1628640"/>
            <a:ext cx="7062840" cy="472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мукор микр"/>
          <p:cNvPicPr/>
          <p:nvPr/>
        </p:nvPicPr>
        <p:blipFill>
          <a:blip r:embed="rId3"/>
          <a:stretch/>
        </p:blipFill>
        <p:spPr>
          <a:xfrm>
            <a:off x="3851280" y="2997360"/>
            <a:ext cx="48988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08:58:21Z</dcterms:created>
  <dc:creator>DOMPK</dc:creator>
  <dc:description/>
  <dc:language>en-US</dc:language>
  <cp:lastModifiedBy>DOMPK</cp:lastModifiedBy>
  <dcterms:modified xsi:type="dcterms:W3CDTF">2012-10-04T08:45:29Z</dcterms:modified>
  <cp:revision>17</cp:revision>
  <dc:subject/>
  <dc:title>Плесневые грибы и дрожжи </dc:title>
</cp:coreProperties>
</file>