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6B07-C82A-4341-8945-E3FF2D488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0496-9189-4090-8C3B-9FF8A0E63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043-D771-4CCF-AB36-9AA61DAE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4EC-E787-46AA-9D77-D5B0FBF6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97A-49FF-4A8D-9847-5D7AF518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63F-D46B-4B24-A89E-6B8429F9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1CC5-8824-4365-9C75-51A2AB2E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5032-D755-4C84-88D1-A75119FD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91D8-8A06-4C8D-8ACA-52ADD833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B6CD-A3DD-4ADC-9996-E48AC5F3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A6D1-8B4A-40D7-B948-AD04258B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17EF-3A5A-427A-BAEF-E78E4A8B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E804-2B04-4971-9016-49D5E88B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F96-40D9-4927-94AE-6F6D8DD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DD4E-06DB-4587-BABE-A4B7316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DCEC-5A50-4616-91D0-E067C05C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F105-14B7-4FF3-9CD0-487CA23F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C451-6611-4E19-AD98-2BB98DC0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B2A0-DCDE-43D4-B8FA-337A5520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7EA-B29B-4339-AF10-01A501CF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7BE-31A9-40BC-BB15-E1886462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208-C0FF-45A1-860B-759E3521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000-3463-4961-8F9E-65B889FF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5D4-EA30-42B5-BEF2-FF2396C9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D4A-EB27-463B-846F-08AC0E4E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F50-41CF-4E92-AF77-03B768AA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771C-70C5-45B4-BC14-ED3AC2D183C1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3EC-4115-4A50-AA64-2CE8CCAB4298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Segoe UI"/>
                <a:ea typeface="Segoe UI"/>
              </a:rPr>
              <a:t>Плесневые грибы</a:t>
            </a:r>
            <a:br>
              <a:rPr sz="4400"/>
            </a:br>
            <a:r>
              <a:rPr b="0" lang="ru-RU" sz="4400" spc="-1" strike="noStrike">
                <a:solidFill>
                  <a:srgbClr val="cc6600"/>
                </a:solidFill>
                <a:latin typeface="Segoe UI"/>
                <a:ea typeface="Segoe UI"/>
              </a:rPr>
              <a:t>и дрожжи</a:t>
            </a:r>
            <a:br>
              <a:rPr sz="4400"/>
            </a:b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3" name="Picture 14" descr="пенициллин 2"/>
          <p:cNvPicPr/>
          <p:nvPr/>
        </p:nvPicPr>
        <p:blipFill>
          <a:blip r:embed="rId1"/>
          <a:stretch/>
        </p:blipFill>
        <p:spPr>
          <a:xfrm>
            <a:off x="5508720" y="3213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Segoe UI"/>
                <a:ea typeface="Segoe UI"/>
              </a:rPr>
              <a:t>II. </a:t>
            </a: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Гриб пеницилл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87280" y="191628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 – селится на других пищевых продуктах и на почве, имеет многоклеточный мицелий. Споры располагаются на кисточках мицелия. Широко используется в медицине в качестве получения лекар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Аспергилл на стене"/>
          <p:cNvPicPr/>
          <p:nvPr/>
        </p:nvPicPr>
        <p:blipFill>
          <a:blip r:embed="rId1"/>
          <a:stretch/>
        </p:blipFill>
        <p:spPr>
          <a:xfrm>
            <a:off x="1332000" y="2637000"/>
            <a:ext cx="5246640" cy="39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Аспергилл"/>
          <p:cNvPicPr/>
          <p:nvPr/>
        </p:nvPicPr>
        <p:blipFill>
          <a:blip r:embed="rId2"/>
          <a:stretch/>
        </p:blipFill>
        <p:spPr>
          <a:xfrm>
            <a:off x="2124000" y="2781360"/>
            <a:ext cx="5302440" cy="3714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Аспергилл под микроскопом"/>
          <p:cNvPicPr/>
          <p:nvPr/>
        </p:nvPicPr>
        <p:blipFill>
          <a:blip r:embed="rId3"/>
          <a:stretch/>
        </p:blipFill>
        <p:spPr>
          <a:xfrm>
            <a:off x="4140360" y="292428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аспергилла спорангий"/>
          <p:cNvPicPr/>
          <p:nvPr/>
        </p:nvPicPr>
        <p:blipFill>
          <a:blip r:embed="rId4"/>
          <a:stretch/>
        </p:blipFill>
        <p:spPr>
          <a:xfrm>
            <a:off x="6877080" y="4581360"/>
            <a:ext cx="1724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Мукор1"/>
          <p:cNvPicPr/>
          <p:nvPr/>
        </p:nvPicPr>
        <p:blipFill>
          <a:blip r:embed="rId1"/>
          <a:stretch/>
        </p:blipFill>
        <p:spPr>
          <a:xfrm>
            <a:off x="0" y="404640"/>
            <a:ext cx="4643280" cy="547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5435640" y="185760"/>
            <a:ext cx="3313080" cy="57643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900000" y="6093000"/>
            <a:ext cx="280836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6084720" y="6093000"/>
            <a:ext cx="223236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Segoe UI"/>
                <a:ea typeface="Segoe UI"/>
              </a:rPr>
              <a:t>III. </a:t>
            </a: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Дрожж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187280" y="155736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дрожжи для приготовления хлеба, вина, пива. Состоят  из одной клетки, питаются жидкостью содержащей сахар. Размножаются почкованием. Дрожжи разлагают сахар на спирт и углекислый г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Дрожжи под микроскопом"/>
          <p:cNvPicPr/>
          <p:nvPr/>
        </p:nvPicPr>
        <p:blipFill>
          <a:blip r:embed="rId1"/>
          <a:stretch/>
        </p:blipFill>
        <p:spPr>
          <a:xfrm>
            <a:off x="468360" y="1341360"/>
            <a:ext cx="4546440" cy="507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Дрожжи"/>
          <p:cNvPicPr/>
          <p:nvPr/>
        </p:nvPicPr>
        <p:blipFill>
          <a:blip r:embed="rId2"/>
          <a:stretch/>
        </p:blipFill>
        <p:spPr>
          <a:xfrm>
            <a:off x="2484360" y="1557360"/>
            <a:ext cx="3551400" cy="508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Тесто 1"/>
          <p:cNvPicPr/>
          <p:nvPr/>
        </p:nvPicPr>
        <p:blipFill>
          <a:blip r:embed="rId3"/>
          <a:stretch/>
        </p:blipFill>
        <p:spPr>
          <a:xfrm>
            <a:off x="1878120" y="1409760"/>
            <a:ext cx="7265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Почковани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1222200"/>
            <a:ext cx="9101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Благодарю за внимание!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3668760" cy="407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плесневые грибы7"/>
          <p:cNvPicPr/>
          <p:nvPr/>
        </p:nvPicPr>
        <p:blipFill>
          <a:blip r:embed="rId2"/>
          <a:stretch/>
        </p:blipFill>
        <p:spPr>
          <a:xfrm>
            <a:off x="5003640" y="2852640"/>
            <a:ext cx="36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39640" y="476280"/>
            <a:ext cx="8064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их частей состоит гри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 ножки и шляп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почвенной грибницы и плодового              те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з микоризы и гиф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2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4720" y="333360"/>
            <a:ext cx="45352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В микоризе участвуют и растение и гриб. Кто из них получает от этого пользу: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а) гриб;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б) ни гриб ни растение;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в) и растение и гриб;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г) растение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887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24000" y="33336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3803760" cy="532764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5"/>
          <p:cNvCxnSpPr/>
          <p:nvPr/>
        </p:nvCxnSpPr>
        <p:spPr>
          <a:xfrm flipH="1" flipV="1">
            <a:off x="4858920" y="1699560"/>
            <a:ext cx="1729440" cy="73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1" name="Прямая со стрелкой 7"/>
          <p:cNvCxnSpPr/>
          <p:nvPr/>
        </p:nvCxnSpPr>
        <p:spPr>
          <a:xfrm flipH="1">
            <a:off x="4355640" y="3500280"/>
            <a:ext cx="2232720" cy="145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2" name="Прямая соединительная линия 13"/>
          <p:cNvSpPr/>
          <p:nvPr/>
        </p:nvSpPr>
        <p:spPr>
          <a:xfrm flipH="1">
            <a:off x="2484360" y="1341360"/>
            <a:ext cx="17272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7"/>
          <p:cNvSpPr/>
          <p:nvPr/>
        </p:nvSpPr>
        <p:spPr>
          <a:xfrm flipH="1">
            <a:off x="2555640" y="5516640"/>
            <a:ext cx="14396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1"/>
          <p:cNvSpPr/>
          <p:nvPr/>
        </p:nvSpPr>
        <p:spPr>
          <a:xfrm>
            <a:off x="2484360" y="1413000"/>
            <a:ext cx="71640" cy="4176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26"/>
          <p:cNvCxnSpPr/>
          <p:nvPr/>
        </p:nvCxnSpPr>
        <p:spPr>
          <a:xfrm flipH="1">
            <a:off x="4571640" y="5660640"/>
            <a:ext cx="1945440" cy="14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TextBox 27"/>
          <p:cNvSpPr/>
          <p:nvPr/>
        </p:nvSpPr>
        <p:spPr>
          <a:xfrm>
            <a:off x="1332000" y="270828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680400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9"/>
          <p:cNvSpPr/>
          <p:nvPr/>
        </p:nvSpPr>
        <p:spPr>
          <a:xfrm>
            <a:off x="6732720" y="3213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6588000" y="537372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395280" y="333360"/>
            <a:ext cx="82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 из корней деревьев получ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итам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инеральны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рганически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95280" y="33336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о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ориз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биоз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95280" y="260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611280" y="98100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названных грибов относятся к трубчатым, а какие к пластинчатым: А)маслята,              Е) сыроеж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рыжики,              Ж) шампиньон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белые грибы,      З) подберёзови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лисички,              И) грузд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подосиновики,    К)опя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чатые:                 Пластинчат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Плесневые грибы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900000" y="1700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Плесневые грибы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ся сапротрофно в почве, на увлажненных продуктах, плодах и овощах, на животных и растительных остатках, образуя пушистые или паутинистые налеты (плесень) серого, зеленого, черного, сизого цве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Segoe UI"/>
                <a:ea typeface="Segoe UI"/>
              </a:rPr>
              <a:t>I. </a:t>
            </a: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Гриб мукор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611280" y="155736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р – плесневый гриб сапрофит. Поселяется на овощах и фруктах. Мицелий состоит из одной клетки. Размножается мицелием или спорами. Споры разносятся ветром и пророст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Мукор"/>
          <p:cNvPicPr/>
          <p:nvPr/>
        </p:nvPicPr>
        <p:blipFill>
          <a:blip r:embed="rId1"/>
          <a:stretch/>
        </p:blipFill>
        <p:spPr>
          <a:xfrm>
            <a:off x="539640" y="1333440"/>
            <a:ext cx="4586400" cy="552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Мукор 1"/>
          <p:cNvPicPr/>
          <p:nvPr/>
        </p:nvPicPr>
        <p:blipFill>
          <a:blip r:embed="rId2"/>
          <a:stretch/>
        </p:blipFill>
        <p:spPr>
          <a:xfrm>
            <a:off x="755640" y="1628640"/>
            <a:ext cx="7062840" cy="472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мукор микр"/>
          <p:cNvPicPr/>
          <p:nvPr/>
        </p:nvPicPr>
        <p:blipFill>
          <a:blip r:embed="rId3"/>
          <a:stretch/>
        </p:blipFill>
        <p:spPr>
          <a:xfrm>
            <a:off x="3851280" y="2997360"/>
            <a:ext cx="48988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8:58:21Z</dcterms:created>
  <dc:creator>DOMPK</dc:creator>
  <dc:description/>
  <dc:language>en-US</dc:language>
  <cp:lastModifiedBy>DOMPK</cp:lastModifiedBy>
  <dcterms:modified xsi:type="dcterms:W3CDTF">2012-10-04T08:45:29Z</dcterms:modified>
  <cp:revision>17</cp:revision>
  <dc:subject/>
  <dc:title>Плесневые грибы и дрожжи </dc:title>
</cp:coreProperties>
</file>