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8.gif" ContentType="image/gif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D36-1853-4626-AC2C-3F851FF5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660-D0B9-4D00-AD75-890F09E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AC3-25A0-4C16-9519-899E4778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072-C076-4005-8BC0-09CAA470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3CFC5-BFF4-4E87-97D9-9605C433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55DF1-12BE-457B-B8A4-21A0D2D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B3E2-A522-4EDE-8C3D-2D22CF8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84F8E-1A0D-416E-9E7D-4ED19DB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BDEAE-CE2D-4111-ABCB-D61CCCF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D5472-2D1E-49DA-8A3D-36D1BCBF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27881-90FE-4722-BAA6-B07954AD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098-3719-4C5F-94CA-5529296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DE9E-D589-43DD-8F3C-19C2B5E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EB33F-AC54-439D-9EA9-75AB43A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3003D-D4A4-4BFB-9F12-B0D1105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F874-5350-4C21-BFBD-9B566ADB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1C36-4BFB-4716-8514-0C332393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1F36-893B-4E8A-9ED5-F704169C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9650-7885-4DB1-9514-3473B0C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1142-AFA9-4B04-90E0-9745284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605C-0352-41A7-89A5-4D6F876D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743C-E715-4221-87E5-C5CEC92F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812-CD58-41A4-997D-BBE43FF9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A9E0-0954-48DD-83E5-89FE45F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E8C8-3B2A-4D81-8870-97DFBF9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7E01-DA27-4C81-B507-A91A9625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6731-258F-4A20-A304-81B7BE2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72C0-B484-414D-AA96-EECD24CB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2B3A-3C13-49F0-9C06-27A31F28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A17C-93D8-443D-93FA-3AF5DD00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FDB4D-9FC3-41D6-945D-634E61F3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2747D-A30D-4CAE-8426-CDD0911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73CE3-BFBD-40E0-81CF-9508B17A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DDA-1F26-4575-BB56-9F767952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C9947-5F53-4B27-865B-96B3FC5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23AF8-A131-40E8-8373-A6A54B71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5C3FD-1F8B-42F6-835A-F2BD0DA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E3812-7E82-45E0-BFA8-846BBE8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82B23-69FB-4E5A-BF7B-C4F0278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CF4A6-86C0-4C2F-B744-5F1C5C2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E60736-3C38-42CC-A5CF-8CCCB49F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4D171-B83C-4DCE-ACE5-2B714D47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AC68E-179D-49F9-9DDA-2DED6D6D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30DB-79A8-4FE2-B15F-4128D89A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B53-2249-41FC-BC43-ADF0771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7668-1776-4E2B-AB1D-34390F4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CF35-ADD3-4ACD-B514-863F5FCD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99E8-6124-40D7-A293-339E6DD1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1A565-3477-4D96-A99F-3CA3EE0C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FC44F-AA12-4D3B-AB70-712CEFD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B8EB-B8D1-47EF-8E52-113C16AA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8183-4710-4DA8-8C06-A86CBDA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74AB-F449-4A9F-A8FA-9959141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0F18-1FEC-409F-8CD4-14FEB25F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F6BE-E9D0-4A67-BE61-84684EEE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BEB-FD51-437E-8D88-D7509C12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72528-26EE-4CC4-8488-A0D7D662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9CB-4FD3-4E63-AFDC-8D95B254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584-4B8E-4B29-9C35-D13D3D25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187-B485-4FF6-92DC-5A5EC88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427C-B184-4C47-AF26-FE02606EBF52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96F-7EDF-4964-9CDA-EB566F09F87B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E306-A71F-4816-A905-3064022B6BD9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9BD4-E84F-4586-A9B3-FD189B9D3483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9D83-6B26-4D81-920C-544CA9B30AE2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f421"/>
                </a:solidFill>
                <a:latin typeface="Times New Roman"/>
                <a:ea typeface="Times New Roman"/>
              </a:rPr>
              <a:t>Лабораторная работа по теме: «Строение клетки кожицы лука»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822240" y="1122480"/>
            <a:ext cx="77184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осень"/>
          <p:cNvPicPr/>
          <p:nvPr/>
        </p:nvPicPr>
        <p:blipFill>
          <a:blip r:embed="rId2"/>
          <a:stretch/>
        </p:blipFill>
        <p:spPr>
          <a:xfrm>
            <a:off x="468360" y="404640"/>
            <a:ext cx="810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468360" y="1628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изучить клеточное строение кожицы л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: микроск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е и покровное стек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аровальная иг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пе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кан с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 работы: 1. Подготовить микроскоп к раб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 помощи пипетки взять каплю воды и капнуть на предметное стекл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3995640" y="836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нять кожицу с чешуйки лука и положить в каплю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пуская при помощи препаровольной иглы накрыть покровным стек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лучившийся микропрепарат положить на предметный сто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Рассмотреть и зарисовать объект, сделать соответствующие подписи и выводы по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уковица"/>
          <p:cNvPicPr/>
          <p:nvPr/>
        </p:nvPicPr>
        <p:blipFill>
          <a:blip r:embed="rId2"/>
          <a:stretch/>
        </p:blipFill>
        <p:spPr>
          <a:xfrm>
            <a:off x="420840" y="981000"/>
            <a:ext cx="2984400" cy="4896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кожица_лука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кожица_лука3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кожица_лука3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кожица_лука5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кожица_лука7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мп клеток кожицы лука фото"/>
          <p:cNvPicPr/>
          <p:nvPr/>
        </p:nvPicPr>
        <p:blipFill>
          <a:blip r:embed="rId3"/>
          <a:stretch/>
        </p:blipFill>
        <p:spPr>
          <a:xfrm>
            <a:off x="826920" y="1700280"/>
            <a:ext cx="68518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одержимое 3" descr="0005-005-Zarisujte-v-tetradi-uvidennoe-v-mikroskop.jpg"/>
          <p:cNvPicPr/>
          <p:nvPr/>
        </p:nvPicPr>
        <p:blipFill>
          <a:blip r:embed="rId2"/>
          <a:stretch/>
        </p:blipFill>
        <p:spPr>
          <a:xfrm>
            <a:off x="-95400" y="2700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3" descr="0009-009-Zarisujte-kletku-i-podpishite-ejo-chasti.jpg"/>
          <p:cNvPicPr/>
          <p:nvPr/>
        </p:nvPicPr>
        <p:blipFill>
          <a:blip r:embed="rId2"/>
          <a:stretch/>
        </p:blipFill>
        <p:spPr>
          <a:xfrm>
            <a:off x="-343080" y="-257040"/>
            <a:ext cx="9487080" cy="71150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0" name="Прямая соединительная линия 5"/>
          <p:cNvSpPr/>
          <p:nvPr/>
        </p:nvSpPr>
        <p:spPr>
          <a:xfrm flipV="1">
            <a:off x="6227640" y="2133720"/>
            <a:ext cx="936720" cy="57456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V="1">
            <a:off x="6443640" y="2204640"/>
            <a:ext cx="649440" cy="158436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7093080" y="1916280"/>
            <a:ext cx="18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709308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5" descr="f18b22105450.jpg"/>
          <p:cNvPicPr/>
          <p:nvPr/>
        </p:nvPicPr>
        <p:blipFill>
          <a:blip r:embed="rId2"/>
          <a:stretch/>
        </p:blipFill>
        <p:spPr>
          <a:xfrm>
            <a:off x="-195120" y="0"/>
            <a:ext cx="9339120" cy="666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0" y="-10243800"/>
            <a:ext cx="32400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2"/>
          <a:stretch/>
        </p:blipFill>
        <p:spPr>
          <a:xfrm>
            <a:off x="347760" y="2200320"/>
            <a:ext cx="8472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лотная прозрачна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ходит особое вещ-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люло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нкие участ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олоч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Растительная клетка 4"/>
          <p:cNvPicPr/>
          <p:nvPr/>
        </p:nvPicPr>
        <p:blipFill>
          <a:blip r:embed="rId3"/>
          <a:stretch/>
        </p:blipFill>
        <p:spPr>
          <a:xfrm>
            <a:off x="4067280" y="1700280"/>
            <a:ext cx="4537080" cy="4943520"/>
          </a:xfrm>
          <a:prstGeom prst="rect">
            <a:avLst/>
          </a:prstGeom>
          <a:ln w="0">
            <a:noFill/>
          </a:ln>
        </p:spPr>
      </p:pic>
      <p:sp>
        <p:nvSpPr>
          <p:cNvPr id="218" name="Line 4"/>
          <p:cNvSpPr/>
          <p:nvPr/>
        </p:nvSpPr>
        <p:spPr>
          <a:xfrm>
            <a:off x="4572000" y="54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898560" y="2060640"/>
            <a:ext cx="20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22760" y="363996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2771640" y="2494080"/>
            <a:ext cx="2303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050920" y="3933720"/>
            <a:ext cx="3097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979640" y="4005360"/>
            <a:ext cx="230328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традесканция"/>
          <p:cNvPicPr/>
          <p:nvPr/>
        </p:nvPicPr>
        <p:blipFill>
          <a:blip r:embed="rId3"/>
          <a:stretch/>
        </p:blipFill>
        <p:spPr>
          <a:xfrm>
            <a:off x="468360" y="1628640"/>
            <a:ext cx="8424720" cy="42642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4"/>
          <p:cNvGrpSpPr/>
          <p:nvPr/>
        </p:nvGrpSpPr>
        <p:grpSpPr>
          <a:xfrm>
            <a:off x="4784760" y="2295360"/>
            <a:ext cx="3350880" cy="3500280"/>
            <a:chOff x="4784760" y="2295360"/>
            <a:chExt cx="3350880" cy="3500280"/>
          </a:xfrm>
        </p:grpSpPr>
        <p:pic>
          <p:nvPicPr>
            <p:cNvPr id="227" name="Picture 5" descr="Движение-цмтоплазмы"/>
            <p:cNvPicPr/>
            <p:nvPr/>
          </p:nvPicPr>
          <p:blipFill>
            <a:blip r:embed="rId4"/>
            <a:stretch/>
          </p:blipFill>
          <p:spPr>
            <a:xfrm>
              <a:off x="4918680" y="2295360"/>
              <a:ext cx="3216960" cy="34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6"/>
            <p:cNvSpPr/>
            <p:nvPr/>
          </p:nvSpPr>
          <p:spPr>
            <a:xfrm>
              <a:off x="4784760" y="2553480"/>
              <a:ext cx="3252960" cy="3242160"/>
            </a:xfrm>
            <a:custGeom>
              <a:avLst/>
              <a:gdLst>
                <a:gd name="textAreaLeft" fmla="*/ 475560 w 3252960"/>
                <a:gd name="textAreaRight" fmla="*/ 2777400 w 3252960"/>
                <a:gd name="textAreaTop" fmla="*/ 473760 h 3242160"/>
                <a:gd name="textAreaBottom" fmla="*/ 2768400 h 324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Клетка средняя"/>
          <p:cNvPicPr/>
          <p:nvPr/>
        </p:nvPicPr>
        <p:blipFill>
          <a:blip r:embed="rId3"/>
          <a:stretch/>
        </p:blipFill>
        <p:spPr>
          <a:xfrm>
            <a:off x="826920" y="2276640"/>
            <a:ext cx="2611440" cy="32716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ая соединительная линия 7"/>
          <p:cNvSpPr/>
          <p:nvPr/>
        </p:nvSpPr>
        <p:spPr>
          <a:xfrm flipV="1">
            <a:off x="2627280" y="2781000"/>
            <a:ext cx="1152720" cy="93492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9"/>
          <p:cNvCxnSpPr/>
          <p:nvPr/>
        </p:nvCxnSpPr>
        <p:spPr>
          <a:xfrm>
            <a:off x="2700000" y="3933360"/>
            <a:ext cx="1367640" cy="1080"/>
          </a:xfrm>
          <a:prstGeom prst="straightConnector1">
            <a:avLst/>
          </a:prstGeom>
          <a:ln w="1260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3" name="TextBox 10"/>
          <p:cNvSpPr/>
          <p:nvPr/>
        </p:nvSpPr>
        <p:spPr>
          <a:xfrm>
            <a:off x="370836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399564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дрыш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Клетка молодая"/>
          <p:cNvPicPr/>
          <p:nvPr/>
        </p:nvPicPr>
        <p:blipFill>
          <a:blip r:embed="rId4"/>
          <a:stretch/>
        </p:blipFill>
        <p:spPr>
          <a:xfrm>
            <a:off x="5292720" y="2276640"/>
            <a:ext cx="3421080" cy="347004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ая соединительная линия 15"/>
          <p:cNvSpPr/>
          <p:nvPr/>
        </p:nvSpPr>
        <p:spPr>
          <a:xfrm flipH="1" flipV="1">
            <a:off x="4500360" y="2708280"/>
            <a:ext cx="2447640" cy="122544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17"/>
          <p:cNvSpPr/>
          <p:nvPr/>
        </p:nvSpPr>
        <p:spPr>
          <a:xfrm flipH="1" flipV="1">
            <a:off x="5292720" y="4011480"/>
            <a:ext cx="2016000" cy="13824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932360" y="1197000"/>
            <a:ext cx="3743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f5f9"/>
                </a:solidFill>
                <a:latin typeface="Constantia"/>
              </a:rPr>
              <a:t>Вакуоли- специальные полости заполненные клеточным сок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f5f9"/>
                </a:solidFill>
                <a:latin typeface="Constantia"/>
              </a:rPr>
              <a:t>Клеточный сок- вода с растворенными в ней сахарами и др. органическими и неорганическими вещ- вами. В нем могут содержать пигменты- красящие вещ-в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36200" cy="88452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.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куоли</a:t>
            </a: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40" name="Picture 5" descr="Клетка старая"/>
          <p:cNvPicPr/>
          <p:nvPr/>
        </p:nvPicPr>
        <p:blipFill>
          <a:blip r:embed="rId2"/>
          <a:stretch/>
        </p:blipFill>
        <p:spPr>
          <a:xfrm>
            <a:off x="539640" y="1916280"/>
            <a:ext cx="2664000" cy="46796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ая соединительная линия 6"/>
          <p:cNvSpPr/>
          <p:nvPr/>
        </p:nvSpPr>
        <p:spPr>
          <a:xfrm flipV="1">
            <a:off x="2124000" y="1628640"/>
            <a:ext cx="1368360" cy="115272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492360" y="119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ку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2" descr=""/>
          <p:cNvPicPr/>
          <p:nvPr/>
        </p:nvPicPr>
        <p:blipFill>
          <a:blip r:embed="rId2"/>
          <a:stretch/>
        </p:blipFill>
        <p:spPr>
          <a:xfrm>
            <a:off x="603360" y="328680"/>
            <a:ext cx="6851520" cy="1092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хлоропласты в растительных клетках"/>
          <p:cNvPicPr/>
          <p:nvPr/>
        </p:nvPicPr>
        <p:blipFill>
          <a:blip r:embed="rId3"/>
          <a:stretch/>
        </p:blipFill>
        <p:spPr>
          <a:xfrm>
            <a:off x="503280" y="1700280"/>
            <a:ext cx="2562120" cy="204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строение хлоропластов"/>
          <p:cNvPicPr/>
          <p:nvPr/>
        </p:nvPicPr>
        <p:blipFill>
          <a:blip r:embed="rId4"/>
          <a:stretch/>
        </p:blipFill>
        <p:spPr>
          <a:xfrm>
            <a:off x="1692360" y="4005360"/>
            <a:ext cx="6586560" cy="24526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348000" y="249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плас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пластиды 0"/>
          <p:cNvPicPr/>
          <p:nvPr/>
        </p:nvPicPr>
        <p:blipFill>
          <a:blip r:embed="rId3"/>
          <a:stretch/>
        </p:blipFill>
        <p:spPr>
          <a:xfrm>
            <a:off x="971640" y="1557360"/>
            <a:ext cx="1296720" cy="45813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9"/>
          <p:cNvGrpSpPr/>
          <p:nvPr/>
        </p:nvGrpSpPr>
        <p:grpSpPr>
          <a:xfrm>
            <a:off x="1763640" y="1052640"/>
            <a:ext cx="6227640" cy="1920600"/>
            <a:chOff x="1763640" y="1052640"/>
            <a:chExt cx="6227640" cy="1920600"/>
          </a:xfrm>
        </p:grpSpPr>
        <p:pic>
          <p:nvPicPr>
            <p:cNvPr id="250" name="Picture 10" descr="пластиды 3"/>
            <p:cNvPicPr/>
            <p:nvPr/>
          </p:nvPicPr>
          <p:blipFill>
            <a:blip r:embed="rId4"/>
            <a:stretch/>
          </p:blipFill>
          <p:spPr>
            <a:xfrm>
              <a:off x="6050880" y="1052640"/>
              <a:ext cx="19404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Line 11"/>
            <p:cNvSpPr/>
            <p:nvPr/>
          </p:nvSpPr>
          <p:spPr>
            <a:xfrm flipV="1">
              <a:off x="1763640" y="1847520"/>
              <a:ext cx="42508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2" name="Picture 7" descr="пластиды 2"/>
          <p:cNvPicPr/>
          <p:nvPr/>
        </p:nvPicPr>
        <p:blipFill>
          <a:blip r:embed="rId5"/>
          <a:stretch/>
        </p:blipFill>
        <p:spPr>
          <a:xfrm>
            <a:off x="4365720" y="2708280"/>
            <a:ext cx="1863720" cy="180036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6"/>
          <p:cNvGrpSpPr/>
          <p:nvPr/>
        </p:nvGrpSpPr>
        <p:grpSpPr>
          <a:xfrm>
            <a:off x="2124000" y="2708280"/>
            <a:ext cx="4105080" cy="1800360"/>
            <a:chOff x="2124000" y="2708280"/>
            <a:chExt cx="4105080" cy="1800360"/>
          </a:xfrm>
        </p:grpSpPr>
        <p:pic>
          <p:nvPicPr>
            <p:cNvPr id="254" name="Picture 7" descr="пластиды 2"/>
            <p:cNvPicPr/>
            <p:nvPr/>
          </p:nvPicPr>
          <p:blipFill>
            <a:blip r:embed="rId6"/>
            <a:stretch/>
          </p:blipFill>
          <p:spPr>
            <a:xfrm>
              <a:off x="4365360" y="2708280"/>
              <a:ext cx="186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Line 8"/>
            <p:cNvSpPr/>
            <p:nvPr/>
          </p:nvSpPr>
          <p:spPr>
            <a:xfrm flipV="1">
              <a:off x="2124000" y="3538800"/>
              <a:ext cx="2241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3"/>
          <p:cNvGrpSpPr/>
          <p:nvPr/>
        </p:nvGrpSpPr>
        <p:grpSpPr>
          <a:xfrm>
            <a:off x="1908000" y="4221000"/>
            <a:ext cx="2952720" cy="2016360"/>
            <a:chOff x="1908000" y="4221000"/>
            <a:chExt cx="2952720" cy="2016360"/>
          </a:xfrm>
        </p:grpSpPr>
        <p:pic>
          <p:nvPicPr>
            <p:cNvPr id="257" name="Picture 4" descr="пластиды 1"/>
            <p:cNvPicPr/>
            <p:nvPr/>
          </p:nvPicPr>
          <p:blipFill>
            <a:blip r:embed="rId7"/>
            <a:stretch/>
          </p:blipFill>
          <p:spPr>
            <a:xfrm>
              <a:off x="2965320" y="4221000"/>
              <a:ext cx="189540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Line 5"/>
            <p:cNvSpPr/>
            <p:nvPr/>
          </p:nvSpPr>
          <p:spPr>
            <a:xfrm flipV="1">
              <a:off x="1908000" y="5141520"/>
              <a:ext cx="1062720" cy="165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TextBox 13"/>
          <p:cNvSpPr/>
          <p:nvPr/>
        </p:nvSpPr>
        <p:spPr>
          <a:xfrm>
            <a:off x="709308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6300720" y="4365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лор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219640" y="5589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йк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помидор"/>
          <p:cNvPicPr/>
          <p:nvPr/>
        </p:nvPicPr>
        <p:blipFill>
          <a:blip r:embed="rId3"/>
          <a:stretch/>
        </p:blipFill>
        <p:spPr>
          <a:xfrm>
            <a:off x="2340000" y="1413000"/>
            <a:ext cx="4535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29:17Z</dcterms:created>
  <dc:creator>DOMPK</dc:creator>
  <dc:description/>
  <dc:language>en-US</dc:language>
  <cp:lastModifiedBy>Teacher</cp:lastModifiedBy>
  <dcterms:modified xsi:type="dcterms:W3CDTF">2013-04-06T08:20:09Z</dcterms:modified>
  <cp:revision>20</cp:revision>
  <dc:subject/>
  <dc:title>Строение клетки</dc:title>
</cp:coreProperties>
</file>