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1.png" ContentType="image/png"/>
  <Override PartName="/ppt/media/image8.gif" ContentType="image/gif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106-6C65-4FE6-9AEC-9AA2C3F4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2EB-28BF-4346-8411-3452F7EF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266-555A-4D25-BA58-87EF5795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77D-5324-4BF6-A7D4-545B0613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FDAE3-D5A9-4B9A-AE98-615B9B7A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D725-E1C1-4F9F-8991-E55398B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6D6CA-ACAA-4619-AF6E-D23F8008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83148-9A89-4FE4-AB6C-37FB4B6F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262A9-A50C-45DE-B9AA-6086A0D3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094F9-46E9-497A-A8BF-B994A182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58F15-4B11-4158-97E2-474F8906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2FF-E3B6-4993-8226-91835DB5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3C115-2181-4BCC-BA61-3AFF73C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2FFE8-4352-4890-A329-02E9D6D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437A1-39CD-4A70-938A-ED78466F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B11E-2C1B-4BA5-8CAD-6208134A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080DD-86BD-45FE-BA7B-FFA79D65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1D3B-CEB1-49AC-A0A4-22B4FC1B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CE55-84C3-4C37-9235-DF4179C3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98DF-C046-41B4-8FB7-9F717D31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0457-BC7E-4C87-A180-95DA1C5D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D744-3A52-470E-B577-BAA89463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4B3-E029-4F27-892F-3349EA23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672A-54C5-462A-B572-A815BA0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2899-C8C9-493D-B69D-E40E1E88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0384-249D-4E0C-9C9B-71D25B0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B185-D6DC-4053-A654-8465893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05CD6-A17C-4B74-9C99-6E6B949B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0A79-3541-4484-8C07-08FBD802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81B9-BE9F-4F61-9ED1-25A4B58C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9EA47-24BE-4D0A-8D54-7E02B417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2A3E5-ACE6-4A82-93DE-94F4FCAA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BF8B1-2E86-414F-AB30-9E488BCB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B46-D5DB-4658-94C0-1E55CCBB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77CDC-3A6B-43BA-8661-C736F32C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74768-20BC-49F0-A3B2-8BF95F8E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B0A4A-FAC0-4AC2-8DEB-15ADA7D2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75153-D86E-4E0B-93E6-BFD917ED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37422-996C-44BD-B53D-7F5164B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7722E-5149-4BB5-BF90-9351ABF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A6311-B2E0-4F5E-AA0D-7F168401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7E66F-70A9-4364-AC4C-71C35599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27DE7-18C9-40A6-8810-78BFF04F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E8BA5-62F5-43B9-B6CC-EAEFF81C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624-74AC-4806-9EE4-7CDF6E4E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0B28-3775-42F8-9CF4-347000F8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6AC3B-C4A7-4728-A69D-B33DADA7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842A-2A8F-48D3-85FC-B024C170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26AE-D54F-4576-9126-D04CAA8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B46D-420C-4D93-A25F-354E030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08517-7509-4528-AA18-0F8B87B0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0DD9-C5DA-4248-8CDB-50E1BA49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9D57-34C5-479D-9C66-F8A1F8E0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323F-EBC2-41E0-A53E-19B40CCA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C32C2-87F7-42FB-B0DE-8BDD1525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3EA-CAF6-4850-B6AE-364C99D7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579C-E285-4C15-B86F-91CAA27C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E38-EE40-4F52-83FD-F683C6B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8AA-C4F7-4B14-A5EF-3AF57D19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A58-7D3F-4B47-95A9-4312052C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41AF-AB53-403E-8EEB-EDB4F60EA907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8DFF-1248-4885-B649-09A600CCD923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EF49-25EB-4C29-B60D-13A3713F38D9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91D4-3D31-4962-BB3F-1D3B449C14BA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99AD-1252-4738-AE91-DC7745B916D8}" type="slidenum">
              <a:rPr b="0" lang="en-US" sz="16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6f421"/>
                </a:solidFill>
                <a:latin typeface="Times New Roman"/>
                <a:ea typeface="Times New Roman"/>
              </a:rPr>
              <a:t>Лабораторная работа по теме: «Строение клетки кожицы лука»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2"/>
          <a:stretch/>
        </p:blipFill>
        <p:spPr>
          <a:xfrm>
            <a:off x="822240" y="1122480"/>
            <a:ext cx="77184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осень"/>
          <p:cNvPicPr/>
          <p:nvPr/>
        </p:nvPicPr>
        <p:blipFill>
          <a:blip r:embed="rId2"/>
          <a:stretch/>
        </p:blipFill>
        <p:spPr>
          <a:xfrm>
            <a:off x="468360" y="404640"/>
            <a:ext cx="810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468360" y="1628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:изучить клеточное строение кожицы л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рудование: микроск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ное и покровное стек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аровальная иг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пе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кан с в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 работы: 1. Подготовить микроскоп к рабо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и помощи пипетки взять каплю воды и капнуть на предметное стекл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3995640" y="836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нять кожицу с чешуйки лука и положить в каплю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пуская при помощи препаровольной иглы накрыть покровным стек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лучившийся микропрепарат положить на предметный сто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Рассмотреть и зарисовать объект, сделать соответствующие подписи и выводы по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уковица"/>
          <p:cNvPicPr/>
          <p:nvPr/>
        </p:nvPicPr>
        <p:blipFill>
          <a:blip r:embed="rId2"/>
          <a:stretch/>
        </p:blipFill>
        <p:spPr>
          <a:xfrm>
            <a:off x="420840" y="981000"/>
            <a:ext cx="2984400" cy="4896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кожица_лука1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кожица_лука3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кожица_лука3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кожица_лука5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кожица_лука7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237960" y="-49320"/>
            <a:ext cx="8455320" cy="1427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мп клеток кожицы лука фото"/>
          <p:cNvPicPr/>
          <p:nvPr/>
        </p:nvPicPr>
        <p:blipFill>
          <a:blip r:embed="rId3"/>
          <a:stretch/>
        </p:blipFill>
        <p:spPr>
          <a:xfrm>
            <a:off x="826920" y="1700280"/>
            <a:ext cx="685188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одержимое 3" descr="0005-005-Zarisujte-v-tetradi-uvidennoe-v-mikroskop.jpg"/>
          <p:cNvPicPr/>
          <p:nvPr/>
        </p:nvPicPr>
        <p:blipFill>
          <a:blip r:embed="rId2"/>
          <a:stretch/>
        </p:blipFill>
        <p:spPr>
          <a:xfrm>
            <a:off x="-95400" y="27000"/>
            <a:ext cx="9239400" cy="69292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3" descr="0009-009-Zarisujte-kletku-i-podpishite-ejo-chasti.jpg"/>
          <p:cNvPicPr/>
          <p:nvPr/>
        </p:nvPicPr>
        <p:blipFill>
          <a:blip r:embed="rId2"/>
          <a:stretch/>
        </p:blipFill>
        <p:spPr>
          <a:xfrm>
            <a:off x="-343080" y="-257040"/>
            <a:ext cx="9487080" cy="71150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0" name="Прямая соединительная линия 5"/>
          <p:cNvSpPr/>
          <p:nvPr/>
        </p:nvSpPr>
        <p:spPr>
          <a:xfrm flipV="1">
            <a:off x="6227640" y="2133720"/>
            <a:ext cx="936720" cy="57456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 flipV="1">
            <a:off x="6443640" y="2204640"/>
            <a:ext cx="649440" cy="158436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7093080" y="1916280"/>
            <a:ext cx="18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7093080" y="184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Содержимое 5" descr="f18b22105450.jpg"/>
          <p:cNvPicPr/>
          <p:nvPr/>
        </p:nvPicPr>
        <p:blipFill>
          <a:blip r:embed="rId2"/>
          <a:stretch/>
        </p:blipFill>
        <p:spPr>
          <a:xfrm>
            <a:off x="-195120" y="0"/>
            <a:ext cx="9339120" cy="666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0" y="-10243800"/>
            <a:ext cx="324000" cy="116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2"/>
          <a:stretch/>
        </p:blipFill>
        <p:spPr>
          <a:xfrm>
            <a:off x="347760" y="2200320"/>
            <a:ext cx="8472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лотная прозрачна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ходит особое вещ-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люло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нкие участ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олоч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Растительная клетка 4"/>
          <p:cNvPicPr/>
          <p:nvPr/>
        </p:nvPicPr>
        <p:blipFill>
          <a:blip r:embed="rId3"/>
          <a:stretch/>
        </p:blipFill>
        <p:spPr>
          <a:xfrm>
            <a:off x="4067280" y="1700280"/>
            <a:ext cx="4537080" cy="4943520"/>
          </a:xfrm>
          <a:prstGeom prst="rect">
            <a:avLst/>
          </a:prstGeom>
          <a:ln w="0">
            <a:noFill/>
          </a:ln>
        </p:spPr>
      </p:pic>
      <p:sp>
        <p:nvSpPr>
          <p:cNvPr id="218" name="Line 4"/>
          <p:cNvSpPr/>
          <p:nvPr/>
        </p:nvSpPr>
        <p:spPr>
          <a:xfrm>
            <a:off x="4572000" y="544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898560" y="2060640"/>
            <a:ext cx="20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ол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22760" y="3639960"/>
            <a:ext cx="12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2771640" y="2494080"/>
            <a:ext cx="2303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050920" y="3933720"/>
            <a:ext cx="3097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979640" y="4005360"/>
            <a:ext cx="230328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традесканция"/>
          <p:cNvPicPr/>
          <p:nvPr/>
        </p:nvPicPr>
        <p:blipFill>
          <a:blip r:embed="rId3"/>
          <a:stretch/>
        </p:blipFill>
        <p:spPr>
          <a:xfrm>
            <a:off x="468360" y="1628640"/>
            <a:ext cx="8424720" cy="42642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4"/>
          <p:cNvGrpSpPr/>
          <p:nvPr/>
        </p:nvGrpSpPr>
        <p:grpSpPr>
          <a:xfrm>
            <a:off x="4784760" y="2295360"/>
            <a:ext cx="3350880" cy="3500280"/>
            <a:chOff x="4784760" y="2295360"/>
            <a:chExt cx="3350880" cy="3500280"/>
          </a:xfrm>
        </p:grpSpPr>
        <p:pic>
          <p:nvPicPr>
            <p:cNvPr id="227" name="Picture 5" descr="Движение-цмтоплазмы"/>
            <p:cNvPicPr/>
            <p:nvPr/>
          </p:nvPicPr>
          <p:blipFill>
            <a:blip r:embed="rId4"/>
            <a:stretch/>
          </p:blipFill>
          <p:spPr>
            <a:xfrm>
              <a:off x="4918680" y="2295360"/>
              <a:ext cx="3216960" cy="34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6"/>
            <p:cNvSpPr/>
            <p:nvPr/>
          </p:nvSpPr>
          <p:spPr>
            <a:xfrm>
              <a:off x="4784760" y="2553480"/>
              <a:ext cx="3252960" cy="3242160"/>
            </a:xfrm>
            <a:custGeom>
              <a:avLst/>
              <a:gdLst>
                <a:gd name="textAreaLeft" fmla="*/ 475560 w 3252960"/>
                <a:gd name="textAreaRight" fmla="*/ 2777400 w 3252960"/>
                <a:gd name="textAreaTop" fmla="*/ 473760 h 3242160"/>
                <a:gd name="textAreaBottom" fmla="*/ 2768400 h 324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047" y="10800"/>
                  </a:moveTo>
                  <a:cubicBezTo>
                    <a:pt x="1047" y="16186"/>
                    <a:pt x="5414" y="20553"/>
                    <a:pt x="10800" y="20553"/>
                  </a:cubicBezTo>
                  <a:cubicBezTo>
                    <a:pt x="16186" y="20553"/>
                    <a:pt x="20553" y="16186"/>
                    <a:pt x="20553" y="10800"/>
                  </a:cubicBezTo>
                  <a:cubicBezTo>
                    <a:pt x="20553" y="5414"/>
                    <a:pt x="16186" y="1047"/>
                    <a:pt x="10800" y="1047"/>
                  </a:cubicBezTo>
                  <a:cubicBezTo>
                    <a:pt x="5414" y="1047"/>
                    <a:pt x="1047" y="5414"/>
                    <a:pt x="1047" y="10800"/>
                  </a:cubicBez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Клетка средняя"/>
          <p:cNvPicPr/>
          <p:nvPr/>
        </p:nvPicPr>
        <p:blipFill>
          <a:blip r:embed="rId3"/>
          <a:stretch/>
        </p:blipFill>
        <p:spPr>
          <a:xfrm>
            <a:off x="826920" y="2276640"/>
            <a:ext cx="2611440" cy="32716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ая соединительная линия 7"/>
          <p:cNvSpPr/>
          <p:nvPr/>
        </p:nvSpPr>
        <p:spPr>
          <a:xfrm flipV="1">
            <a:off x="2627280" y="2781000"/>
            <a:ext cx="1152720" cy="93492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9"/>
          <p:cNvCxnSpPr/>
          <p:nvPr/>
        </p:nvCxnSpPr>
        <p:spPr>
          <a:xfrm>
            <a:off x="2700000" y="3933360"/>
            <a:ext cx="1367640" cy="1080"/>
          </a:xfrm>
          <a:prstGeom prst="straightConnector1">
            <a:avLst/>
          </a:prstGeom>
          <a:ln w="1260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3" name="TextBox 10"/>
          <p:cNvSpPr/>
          <p:nvPr/>
        </p:nvSpPr>
        <p:spPr>
          <a:xfrm>
            <a:off x="370836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3995640" y="378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дрыш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Клетка молодая"/>
          <p:cNvPicPr/>
          <p:nvPr/>
        </p:nvPicPr>
        <p:blipFill>
          <a:blip r:embed="rId4"/>
          <a:stretch/>
        </p:blipFill>
        <p:spPr>
          <a:xfrm>
            <a:off x="5292720" y="2276640"/>
            <a:ext cx="3421080" cy="347004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ая соединительная линия 15"/>
          <p:cNvSpPr/>
          <p:nvPr/>
        </p:nvSpPr>
        <p:spPr>
          <a:xfrm flipH="1" flipV="1">
            <a:off x="4500360" y="2708280"/>
            <a:ext cx="2447640" cy="122544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17"/>
          <p:cNvSpPr/>
          <p:nvPr/>
        </p:nvSpPr>
        <p:spPr>
          <a:xfrm flipH="1" flipV="1">
            <a:off x="5292720" y="4011480"/>
            <a:ext cx="2016000" cy="13824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932360" y="1197000"/>
            <a:ext cx="3743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f5f9"/>
                </a:solidFill>
                <a:latin typeface="Constantia"/>
              </a:rPr>
              <a:t>Вакуоли- специальные полости заполненные клеточным сок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f5f9"/>
                </a:solidFill>
                <a:latin typeface="Constantia"/>
              </a:rPr>
              <a:t>Клеточный сок- вода с растворенными в ней сахарами и др. органическими и неорганическими вещ- вами. В нем могут содержать пигменты- красящие вещ-в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36200" cy="88452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V.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куоли</a:t>
            </a:r>
            <a:endParaRPr b="0" lang="en-US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40" name="Picture 5" descr="Клетка старая"/>
          <p:cNvPicPr/>
          <p:nvPr/>
        </p:nvPicPr>
        <p:blipFill>
          <a:blip r:embed="rId2"/>
          <a:stretch/>
        </p:blipFill>
        <p:spPr>
          <a:xfrm>
            <a:off x="539640" y="1916280"/>
            <a:ext cx="2664000" cy="46796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ая соединительная линия 6"/>
          <p:cNvSpPr/>
          <p:nvPr/>
        </p:nvSpPr>
        <p:spPr>
          <a:xfrm flipV="1">
            <a:off x="2124000" y="1628640"/>
            <a:ext cx="1368360" cy="115272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3492360" y="119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ку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2" descr=""/>
          <p:cNvPicPr/>
          <p:nvPr/>
        </p:nvPicPr>
        <p:blipFill>
          <a:blip r:embed="rId2"/>
          <a:stretch/>
        </p:blipFill>
        <p:spPr>
          <a:xfrm>
            <a:off x="603360" y="328680"/>
            <a:ext cx="6851520" cy="1092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хлоропласты в растительных клетках"/>
          <p:cNvPicPr/>
          <p:nvPr/>
        </p:nvPicPr>
        <p:blipFill>
          <a:blip r:embed="rId3"/>
          <a:stretch/>
        </p:blipFill>
        <p:spPr>
          <a:xfrm>
            <a:off x="503280" y="1700280"/>
            <a:ext cx="2562120" cy="204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строение хлоропластов"/>
          <p:cNvPicPr/>
          <p:nvPr/>
        </p:nvPicPr>
        <p:blipFill>
          <a:blip r:embed="rId4"/>
          <a:stretch/>
        </p:blipFill>
        <p:spPr>
          <a:xfrm>
            <a:off x="1692360" y="4005360"/>
            <a:ext cx="6586560" cy="24526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3348000" y="2492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плас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пластиды 0"/>
          <p:cNvPicPr/>
          <p:nvPr/>
        </p:nvPicPr>
        <p:blipFill>
          <a:blip r:embed="rId3"/>
          <a:stretch/>
        </p:blipFill>
        <p:spPr>
          <a:xfrm>
            <a:off x="971640" y="1557360"/>
            <a:ext cx="1296720" cy="45813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9"/>
          <p:cNvGrpSpPr/>
          <p:nvPr/>
        </p:nvGrpSpPr>
        <p:grpSpPr>
          <a:xfrm>
            <a:off x="1763640" y="1052640"/>
            <a:ext cx="6227640" cy="1920600"/>
            <a:chOff x="1763640" y="1052640"/>
            <a:chExt cx="6227640" cy="1920600"/>
          </a:xfrm>
        </p:grpSpPr>
        <p:pic>
          <p:nvPicPr>
            <p:cNvPr id="250" name="Picture 10" descr="пластиды 3"/>
            <p:cNvPicPr/>
            <p:nvPr/>
          </p:nvPicPr>
          <p:blipFill>
            <a:blip r:embed="rId4"/>
            <a:stretch/>
          </p:blipFill>
          <p:spPr>
            <a:xfrm>
              <a:off x="6050880" y="1052640"/>
              <a:ext cx="194040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Line 11"/>
            <p:cNvSpPr/>
            <p:nvPr/>
          </p:nvSpPr>
          <p:spPr>
            <a:xfrm flipV="1">
              <a:off x="1763640" y="1847520"/>
              <a:ext cx="425088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2" name="Picture 7" descr="пластиды 2"/>
          <p:cNvPicPr/>
          <p:nvPr/>
        </p:nvPicPr>
        <p:blipFill>
          <a:blip r:embed="rId5"/>
          <a:stretch/>
        </p:blipFill>
        <p:spPr>
          <a:xfrm>
            <a:off x="4365720" y="2708280"/>
            <a:ext cx="1863720" cy="180036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6"/>
          <p:cNvGrpSpPr/>
          <p:nvPr/>
        </p:nvGrpSpPr>
        <p:grpSpPr>
          <a:xfrm>
            <a:off x="2124000" y="2708280"/>
            <a:ext cx="4105080" cy="1800360"/>
            <a:chOff x="2124000" y="2708280"/>
            <a:chExt cx="4105080" cy="1800360"/>
          </a:xfrm>
        </p:grpSpPr>
        <p:pic>
          <p:nvPicPr>
            <p:cNvPr id="254" name="Picture 7" descr="пластиды 2"/>
            <p:cNvPicPr/>
            <p:nvPr/>
          </p:nvPicPr>
          <p:blipFill>
            <a:blip r:embed="rId6"/>
            <a:stretch/>
          </p:blipFill>
          <p:spPr>
            <a:xfrm>
              <a:off x="4365360" y="2708280"/>
              <a:ext cx="186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Line 8"/>
            <p:cNvSpPr/>
            <p:nvPr/>
          </p:nvSpPr>
          <p:spPr>
            <a:xfrm flipV="1">
              <a:off x="2124000" y="3538800"/>
              <a:ext cx="22413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Group 3"/>
          <p:cNvGrpSpPr/>
          <p:nvPr/>
        </p:nvGrpSpPr>
        <p:grpSpPr>
          <a:xfrm>
            <a:off x="1908000" y="4221000"/>
            <a:ext cx="2952720" cy="2016360"/>
            <a:chOff x="1908000" y="4221000"/>
            <a:chExt cx="2952720" cy="2016360"/>
          </a:xfrm>
        </p:grpSpPr>
        <p:pic>
          <p:nvPicPr>
            <p:cNvPr id="257" name="Picture 4" descr="пластиды 1"/>
            <p:cNvPicPr/>
            <p:nvPr/>
          </p:nvPicPr>
          <p:blipFill>
            <a:blip r:embed="rId7"/>
            <a:stretch/>
          </p:blipFill>
          <p:spPr>
            <a:xfrm>
              <a:off x="2965320" y="4221000"/>
              <a:ext cx="189540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Line 5"/>
            <p:cNvSpPr/>
            <p:nvPr/>
          </p:nvSpPr>
          <p:spPr>
            <a:xfrm flipV="1">
              <a:off x="1908000" y="5141520"/>
              <a:ext cx="1062720" cy="165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TextBox 13"/>
          <p:cNvSpPr/>
          <p:nvPr/>
        </p:nvSpPr>
        <p:spPr>
          <a:xfrm>
            <a:off x="709308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м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14"/>
          <p:cNvSpPr/>
          <p:nvPr/>
        </p:nvSpPr>
        <p:spPr>
          <a:xfrm>
            <a:off x="6300720" y="4365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лор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5219640" y="5589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ейкопла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помидор"/>
          <p:cNvPicPr/>
          <p:nvPr/>
        </p:nvPicPr>
        <p:blipFill>
          <a:blip r:embed="rId3"/>
          <a:stretch/>
        </p:blipFill>
        <p:spPr>
          <a:xfrm>
            <a:off x="2340000" y="1413000"/>
            <a:ext cx="4535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3:29:17Z</dcterms:created>
  <dc:creator>DOMPK</dc:creator>
  <dc:description/>
  <dc:language>en-US</dc:language>
  <cp:lastModifiedBy>Teacher</cp:lastModifiedBy>
  <dcterms:modified xsi:type="dcterms:W3CDTF">2013-04-06T08:20:09Z</dcterms:modified>
  <cp:revision>20</cp:revision>
  <dc:subject/>
  <dc:title>Строение клетки</dc:title>
</cp:coreProperties>
</file>