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6.gif" ContentType="image/gif"/>
  <Override PartName="/ppt/media/image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5.gif" ContentType="image/gif"/>
  <Override PartName="/ppt/media/image33.jpeg" ContentType="image/jpeg"/>
  <Override PartName="/ppt/media/image19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CC5-0352-4AAE-A4B6-10EF9172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83D-50BC-4DA0-8B78-6F95E229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94A-5F64-44D8-AD95-669D7B9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CD3-2CA4-4C4A-BB22-FC7EB6C3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736-6580-47DE-8E8C-0FD5501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41B-3237-4493-8717-3D16994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3126-7043-461E-84B1-7790DBC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136-1E82-4FDB-A63E-A0C6523E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CD5-BF4F-41C0-9CE7-5418407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9EF-FD83-4708-8C85-946D14AA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183E-396E-4FF9-BA40-B2EA069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38D-6AE6-4B62-9C3F-589AF5E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10AA-C41E-4703-9A75-5A9AF729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E39-E379-41DE-8A48-EAB5D2E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3D9A-A1C3-4EBE-BD4E-182C1AFC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2A62-B7A8-4E2E-9146-1CD85F2F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C78-0D5E-4C5C-9E33-037F9263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7C7-A4D5-4836-85AF-6A4FDAC8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BB2-0332-4BD4-82A3-C28EED8C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63E-087E-4960-9BA4-E379C486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AE5-593E-44EE-9118-B284245E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19A-6B97-4D8F-B7FA-3B1EEA4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0D4-0E69-426B-A302-D3383B4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802-2FD7-4426-BF46-477A220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3376-A047-4590-A845-3AA716DE4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8"/>
            <p:cNvSpPr/>
            <p:nvPr/>
          </p:nvSpPr>
          <p:spPr>
            <a:xfrm>
              <a:off x="442440" y="190080"/>
              <a:ext cx="1603440" cy="69372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2280" y="190800"/>
              <a:ext cx="1363680" cy="70020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387000" y="190800"/>
              <a:ext cx="1492920" cy="847800"/>
            </a:xfrm>
            <a:custGeom>
              <a:avLst/>
              <a:gdLst>
                <a:gd name="textAreaLeft" fmla="*/ 0 w 1492920"/>
                <a:gd name="textAreaRight" fmla="*/ 1493280 w 14929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608400" y="306360"/>
              <a:ext cx="830160" cy="6159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830520" y="497880"/>
              <a:ext cx="331560" cy="231480"/>
            </a:xfrm>
            <a:custGeom>
              <a:avLst/>
              <a:gdLst>
                <a:gd name="textAreaLeft" fmla="*/ 0 w 331560"/>
                <a:gd name="textAreaRight" fmla="*/ 331560 w 331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362880" y="782640"/>
              <a:ext cx="466560" cy="371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362880" y="758520"/>
              <a:ext cx="244080" cy="549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1491840" y="190080"/>
              <a:ext cx="554040" cy="6552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165960" y="343800"/>
              <a:ext cx="1103400" cy="655200"/>
            </a:xfrm>
            <a:custGeom>
              <a:avLst/>
              <a:gdLst>
                <a:gd name="textAreaLeft" fmla="*/ 0 w 1103400"/>
                <a:gd name="textAreaRight" fmla="*/ 1103760 w 110340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2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3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4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5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6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8"/>
            <p:cNvSpPr/>
            <p:nvPr/>
          </p:nvSpPr>
          <p:spPr>
            <a:xfrm>
              <a:off x="341280" y="291240"/>
              <a:ext cx="2316960" cy="1128600"/>
            </a:xfrm>
            <a:custGeom>
              <a:avLst/>
              <a:gdLst>
                <a:gd name="textAreaLeft" fmla="*/ 0 w 2316960"/>
                <a:gd name="textAreaRight" fmla="*/ 2317320 w 23169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1952280"/>
                <a:gd name="textAreaBottom" fmla="*/ 1952640 h 19522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>
                <a:gd name="textAreaLeft" fmla="*/ 0 w 2573640"/>
                <a:gd name="textAreaRight" fmla="*/ 2574000 w 2573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580320" y="478800"/>
              <a:ext cx="1194120" cy="99828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739440" y="666360"/>
              <a:ext cx="795960" cy="686880"/>
            </a:xfrm>
            <a:custGeom>
              <a:avLst/>
              <a:gdLst>
                <a:gd name="textAreaLeft" fmla="*/ 0 w 795960"/>
                <a:gd name="textAreaRight" fmla="*/ 796320 w 79596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898920" y="791640"/>
              <a:ext cx="477360" cy="37296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228600" y="1252800"/>
              <a:ext cx="669960" cy="6033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228600" y="1213920"/>
              <a:ext cx="351360" cy="888840"/>
            </a:xfrm>
            <a:custGeom>
              <a:avLst/>
              <a:gdLst>
                <a:gd name="textAreaLeft" fmla="*/ 0 w 351360"/>
                <a:gd name="textAreaRight" fmla="*/ 351360 w 3513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854360" y="291240"/>
              <a:ext cx="797760" cy="106308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-56160" y="541440"/>
              <a:ext cx="1582200" cy="1063080"/>
            </a:xfrm>
            <a:custGeom>
              <a:avLst/>
              <a:gdLst>
                <a:gd name="textAreaLeft" fmla="*/ 0 w 1582200"/>
                <a:gd name="textAreaRight" fmla="*/ 1582560 w 158220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82160" y="228600"/>
              <a:ext cx="1353240" cy="1002240"/>
            </a:xfrm>
            <a:custGeom>
              <a:avLst/>
              <a:gdLst>
                <a:gd name="textAreaLeft" fmla="*/ 0 w 1353240"/>
                <a:gd name="textAreaRight" fmla="*/ 1353240 w 135324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137600" y="979200"/>
              <a:ext cx="1427760" cy="187560"/>
            </a:xfrm>
            <a:custGeom>
              <a:avLst/>
              <a:gdLst>
                <a:gd name="textAreaLeft" fmla="*/ 0 w 1427760"/>
                <a:gd name="textAreaRight" fmla="*/ 1428120 w 14277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2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3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24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5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6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7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883-A03A-4901-BEB6-48E39A237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1066680"/>
            <a:ext cx="6248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Arial"/>
              </a:rPr>
              <a:t>Ткани раст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0" descr="levitan"/>
          <p:cNvPicPr/>
          <p:nvPr/>
        </p:nvPicPr>
        <p:blipFill>
          <a:blip r:embed="rId1"/>
          <a:stretch/>
        </p:blipFill>
        <p:spPr>
          <a:xfrm>
            <a:off x="304920" y="2209680"/>
            <a:ext cx="219060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303956-006"/>
          <p:cNvPicPr/>
          <p:nvPr/>
        </p:nvPicPr>
        <p:blipFill>
          <a:blip r:embed="rId2"/>
          <a:stretch/>
        </p:blipFill>
        <p:spPr>
          <a:xfrm>
            <a:off x="5791320" y="4267080"/>
            <a:ext cx="3047760" cy="230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286512-002"/>
          <p:cNvPicPr/>
          <p:nvPr/>
        </p:nvPicPr>
        <p:blipFill>
          <a:blip r:embed="rId3"/>
          <a:stretch/>
        </p:blipFill>
        <p:spPr>
          <a:xfrm>
            <a:off x="2819520" y="3505320"/>
            <a:ext cx="2514600" cy="1861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15228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ГБОУ №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нкова А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окр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183315675_f"/>
          <p:cNvPicPr/>
          <p:nvPr/>
        </p:nvPicPr>
        <p:blipFill>
          <a:blip r:embed="rId1"/>
          <a:stretch/>
        </p:blipFill>
        <p:spPr>
          <a:xfrm>
            <a:off x="380880" y="1600200"/>
            <a:ext cx="2560680" cy="1920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Image105"/>
          <p:cNvPicPr/>
          <p:nvPr/>
        </p:nvPicPr>
        <p:blipFill>
          <a:blip r:embed="rId2"/>
          <a:stretch/>
        </p:blipFill>
        <p:spPr>
          <a:xfrm>
            <a:off x="685800" y="3962520"/>
            <a:ext cx="1587600" cy="2666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823680" y="3465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3"/>
          <a:stretch/>
        </p:blipFill>
        <p:spPr>
          <a:xfrm>
            <a:off x="5715000" y="1523880"/>
            <a:ext cx="2679840" cy="1839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ork-structure"/>
          <p:cNvPicPr/>
          <p:nvPr/>
        </p:nvPicPr>
        <p:blipFill>
          <a:blip r:embed="rId4"/>
          <a:stretch/>
        </p:blipFill>
        <p:spPr>
          <a:xfrm>
            <a:off x="6095880" y="3962520"/>
            <a:ext cx="2435400" cy="2665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6783480" y="3429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973960" y="2438280"/>
            <a:ext cx="27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щищае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благоприя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слови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592px-Leaf_epidermis"/>
          <p:cNvPicPr/>
          <p:nvPr/>
        </p:nvPicPr>
        <p:blipFill>
          <a:blip r:embed="rId5"/>
          <a:stretch/>
        </p:blipFill>
        <p:spPr>
          <a:xfrm>
            <a:off x="3048120" y="4191120"/>
            <a:ext cx="2404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60880" y="220968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280" y="54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280" y="228600"/>
          <a:ext cx="8763120" cy="6778800"/>
        </p:xfrm>
        <a:graphic>
          <a:graphicData uri="http://schemas.openxmlformats.org/drawingml/2006/table">
            <a:tbl>
              <a:tblPr/>
              <a:tblGrid>
                <a:gridCol w="2743200"/>
                <a:gridCol w="3200400"/>
                <a:gridCol w="28195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ящие ткан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ревесина (сосу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ертвые, поперечные оболочки между ними разрушен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сосуд пропитан пробковым веществ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воду с растворенными минеральными веществами из корня в другие органы (восходящий то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91" name="Picture 15" descr="Копия (3) Scan0019"/>
          <p:cNvPicPr/>
          <p:nvPr/>
        </p:nvPicPr>
        <p:blipFill>
          <a:blip r:embed="rId1"/>
          <a:stretch/>
        </p:blipFill>
        <p:spPr>
          <a:xfrm>
            <a:off x="501480" y="4046400"/>
            <a:ext cx="1932120" cy="227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52280" y="228600"/>
          <a:ext cx="8763120" cy="64008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луб (ситовидные трубки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живые, старые, оболочки пронизаны отверстиями, в цитоплазме имеются кана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воду с растворенными органическими веществами из листа в другие органы (нисходящий то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93" name="Picture 16" descr="Копия (2) Scan0019"/>
          <p:cNvPicPr/>
          <p:nvPr/>
        </p:nvPicPr>
        <p:blipFill>
          <a:blip r:embed="rId1"/>
          <a:stretch/>
        </p:blipFill>
        <p:spPr>
          <a:xfrm>
            <a:off x="380880" y="2895480"/>
            <a:ext cx="1752840" cy="2068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94" name="Picture 15" descr="Ситовидные трубки"/>
          <p:cNvPicPr/>
          <p:nvPr/>
        </p:nvPicPr>
        <p:blipFill>
          <a:blip r:embed="rId2"/>
          <a:stretch/>
        </p:blipFill>
        <p:spPr>
          <a:xfrm>
            <a:off x="990720" y="5116680"/>
            <a:ext cx="2057400" cy="127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16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 (сосу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б (ситовидные труб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VesselMembPerf200"/>
          <p:cNvPicPr/>
          <p:nvPr/>
        </p:nvPicPr>
        <p:blipFill>
          <a:blip r:embed="rId1"/>
          <a:stretch/>
        </p:blipFill>
        <p:spPr>
          <a:xfrm>
            <a:off x="304920" y="1752480"/>
            <a:ext cx="1600200" cy="2787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опия (3) Scan0019"/>
          <p:cNvPicPr/>
          <p:nvPr/>
        </p:nvPicPr>
        <p:blipFill>
          <a:blip r:embed="rId2"/>
          <a:stretch/>
        </p:blipFill>
        <p:spPr>
          <a:xfrm>
            <a:off x="1922400" y="3657600"/>
            <a:ext cx="2185920" cy="236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0" name="Picture 7" descr="Ситовидные трубки"/>
          <p:cNvPicPr/>
          <p:nvPr/>
        </p:nvPicPr>
        <p:blipFill>
          <a:blip r:embed="rId3"/>
          <a:stretch/>
        </p:blipFill>
        <p:spPr>
          <a:xfrm>
            <a:off x="6553080" y="2286000"/>
            <a:ext cx="2362320" cy="1452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1" name="Picture 6" descr="Копия (2) Scan0019"/>
          <p:cNvPicPr/>
          <p:nvPr/>
        </p:nvPicPr>
        <p:blipFill>
          <a:blip r:embed="rId4"/>
          <a:stretch/>
        </p:blipFill>
        <p:spPr>
          <a:xfrm>
            <a:off x="6858000" y="4336920"/>
            <a:ext cx="1905120" cy="2249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02" name="Picture 4" descr="Image154"/>
          <p:cNvPicPr/>
          <p:nvPr/>
        </p:nvPicPr>
        <p:blipFill>
          <a:blip r:embed="rId5"/>
          <a:stretch/>
        </p:blipFill>
        <p:spPr>
          <a:xfrm>
            <a:off x="4800600" y="2262240"/>
            <a:ext cx="1457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304920"/>
          <a:ext cx="8534160" cy="617220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16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8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я 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ертвые, узкие, длинные (волокна), оболочки пропитаны пробковым веществ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ет прочность  и упругость орган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аркас растения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6" descr="к кл"/>
          <p:cNvPicPr/>
          <p:nvPr/>
        </p:nvPicPr>
        <p:blipFill>
          <a:blip r:embed="rId1"/>
          <a:stretch/>
        </p:blipFill>
        <p:spPr>
          <a:xfrm>
            <a:off x="457200" y="3505320"/>
            <a:ext cx="2424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Механическ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Придает прочность  и упругость орга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(каркас раст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image006"/>
          <p:cNvPicPr/>
          <p:nvPr/>
        </p:nvPicPr>
        <p:blipFill>
          <a:blip r:embed="rId1"/>
          <a:stretch/>
        </p:blipFill>
        <p:spPr>
          <a:xfrm>
            <a:off x="1979640" y="2708280"/>
            <a:ext cx="5276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лист"/>
          <p:cNvPicPr/>
          <p:nvPr/>
        </p:nvPicPr>
        <p:blipFill>
          <a:blip r:embed="rId1"/>
          <a:stretch/>
        </p:blipFill>
        <p:spPr>
          <a:xfrm>
            <a:off x="324000" y="2205000"/>
            <a:ext cx="5472000" cy="3135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334800" y="551664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нижняя 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покровная тк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95160" y="119700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верхняя 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покровная тк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487840" y="143208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основная тка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с хлороплас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357720" y="566100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механическая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вол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5946120" y="4149720"/>
            <a:ext cx="27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проводящие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луб и древе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050920" y="1989000"/>
            <a:ext cx="7308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1332000" y="4508640"/>
            <a:ext cx="6490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03280" y="4723920"/>
            <a:ext cx="93492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H="1">
            <a:off x="4859280" y="2276640"/>
            <a:ext cx="122544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3276720" y="3715920"/>
            <a:ext cx="280800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оперечный разрез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Ткань –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уппа клеток, сходных по строению, функциям и имеющих общее происхожд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Пробка"/>
          <p:cNvPicPr/>
          <p:nvPr/>
        </p:nvPicPr>
        <p:blipFill>
          <a:blip r:embed="rId1"/>
          <a:srcRect l="3937" t="9859" r="3937" b="3286"/>
          <a:stretch/>
        </p:blipFill>
        <p:spPr>
          <a:xfrm>
            <a:off x="457200" y="4495680"/>
            <a:ext cx="2666880" cy="151452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pic>
        <p:nvPicPr>
          <p:cNvPr id="130" name="Picture 5" descr="Копия (3) Scan0019"/>
          <p:cNvPicPr/>
          <p:nvPr/>
        </p:nvPicPr>
        <p:blipFill>
          <a:blip r:embed="rId2"/>
          <a:stretch/>
        </p:blipFill>
        <p:spPr>
          <a:xfrm>
            <a:off x="3581280" y="4495680"/>
            <a:ext cx="1673280" cy="197352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31" name="Picture 6" descr="Копия Лист"/>
          <p:cNvPicPr/>
          <p:nvPr/>
        </p:nvPicPr>
        <p:blipFill>
          <a:blip r:embed="rId3"/>
          <a:stretch/>
        </p:blipFill>
        <p:spPr>
          <a:xfrm>
            <a:off x="5791320" y="4419720"/>
            <a:ext cx="2819160" cy="155088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Межклетники –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это промежутки между клетками в тк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Лист"/>
          <p:cNvPicPr/>
          <p:nvPr/>
        </p:nvPicPr>
        <p:blipFill>
          <a:blip r:embed="rId1"/>
          <a:stretch/>
        </p:blipFill>
        <p:spPr>
          <a:xfrm>
            <a:off x="1219320" y="3657600"/>
            <a:ext cx="2514600" cy="18273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135" name="Picture 5" descr="Копия Лист"/>
          <p:cNvPicPr/>
          <p:nvPr/>
        </p:nvPicPr>
        <p:blipFill>
          <a:blip r:embed="rId2"/>
          <a:stretch/>
        </p:blipFill>
        <p:spPr>
          <a:xfrm>
            <a:off x="4876920" y="3886200"/>
            <a:ext cx="2717640" cy="149544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36" name="Text Box 6"/>
          <p:cNvSpPr/>
          <p:nvPr/>
        </p:nvSpPr>
        <p:spPr>
          <a:xfrm>
            <a:off x="1586520" y="5751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лотн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920" y="56386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ыхл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8"/>
          <p:cNvSpPr/>
          <p:nvPr/>
        </p:nvSpPr>
        <p:spPr>
          <a:xfrm flipV="1">
            <a:off x="6324480" y="3200400"/>
            <a:ext cx="9144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7162920" y="2743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кле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32240" y="69228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Arial"/>
              </a:rPr>
              <a:t>Тка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H="1">
            <a:off x="1763280" y="1557360"/>
            <a:ext cx="158436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3132000" y="1628640"/>
            <a:ext cx="648000" cy="25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500720" y="1628640"/>
            <a:ext cx="0" cy="367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219640" y="1628640"/>
            <a:ext cx="504720" cy="2160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1628640"/>
            <a:ext cx="1440000" cy="129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840" y="256536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образо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94480" y="43131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меха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282480" y="532116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покр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077080" y="39337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проводя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881760" y="29973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осн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28600"/>
          <a:ext cx="8686800" cy="56088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олодые, способные делиться, плотно прилегают друг к  друг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а камбием и конусом нараст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рост 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4" descr="Образовательна"/>
          <p:cNvPicPr/>
          <p:nvPr/>
        </p:nvPicPr>
        <p:blipFill>
          <a:blip r:embed="rId1"/>
          <a:stretch/>
        </p:blipFill>
        <p:spPr>
          <a:xfrm>
            <a:off x="380880" y="3200400"/>
            <a:ext cx="212724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Образователь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Обеспечивает рост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80"/>
          <p:cNvPicPr/>
          <p:nvPr/>
        </p:nvPicPr>
        <p:blipFill>
          <a:blip r:embed="rId1"/>
          <a:stretch/>
        </p:blipFill>
        <p:spPr>
          <a:xfrm>
            <a:off x="457200" y="1295280"/>
            <a:ext cx="2976480" cy="579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почка"/>
          <p:cNvPicPr/>
          <p:nvPr/>
        </p:nvPicPr>
        <p:blipFill>
          <a:blip r:embed="rId2"/>
          <a:stretch/>
        </p:blipFill>
        <p:spPr>
          <a:xfrm>
            <a:off x="304920" y="4343400"/>
            <a:ext cx="1893600" cy="223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biology_17"/>
          <p:cNvPicPr/>
          <p:nvPr/>
        </p:nvPicPr>
        <p:blipFill>
          <a:blip r:embed="rId3"/>
          <a:stretch/>
        </p:blipFill>
        <p:spPr>
          <a:xfrm>
            <a:off x="4038480" y="3352680"/>
            <a:ext cx="3886200" cy="315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мер корня"/>
          <p:cNvPicPr/>
          <p:nvPr/>
        </p:nvPicPr>
        <p:blipFill>
          <a:blip r:embed="rId4"/>
          <a:stretch/>
        </p:blipFill>
        <p:spPr>
          <a:xfrm>
            <a:off x="6858000" y="1600200"/>
            <a:ext cx="1679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520" y="1523880"/>
            <a:ext cx="5867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152280"/>
          <a:ext cx="8686800" cy="665316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98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старые, имеют крупные вакуол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клетки располагаются рыхло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е. между клетками большие межклетники, заполненные воздух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фотосинтезирующей ткани содержат хлоропл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накопление вещест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64" name="Picture 16" descr="основная"/>
          <p:cNvPicPr/>
          <p:nvPr/>
        </p:nvPicPr>
        <p:blipFill>
          <a:blip r:embed="rId1"/>
          <a:stretch/>
        </p:blipFill>
        <p:spPr>
          <a:xfrm>
            <a:off x="380880" y="2895480"/>
            <a:ext cx="240372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5" name="Picture 15" descr="Копия Лист"/>
          <p:cNvPicPr/>
          <p:nvPr/>
        </p:nvPicPr>
        <p:blipFill>
          <a:blip r:embed="rId2"/>
          <a:stretch/>
        </p:blipFill>
        <p:spPr>
          <a:xfrm>
            <a:off x="304920" y="4876920"/>
            <a:ext cx="2630520" cy="1447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Осн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здание и нако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е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v409558"/>
          <p:cNvPicPr/>
          <p:nvPr/>
        </p:nvPicPr>
        <p:blipFill>
          <a:blip r:embed="rId1"/>
          <a:stretch/>
        </p:blipFill>
        <p:spPr>
          <a:xfrm>
            <a:off x="6629400" y="1676520"/>
            <a:ext cx="1962000" cy="460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1183315675_f"/>
          <p:cNvPicPr/>
          <p:nvPr/>
        </p:nvPicPr>
        <p:blipFill>
          <a:blip r:embed="rId2"/>
          <a:stretch/>
        </p:blipFill>
        <p:spPr>
          <a:xfrm>
            <a:off x="228600" y="2971800"/>
            <a:ext cx="2455920" cy="184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6"/>
          <p:cNvPicPr/>
          <p:nvPr/>
        </p:nvPicPr>
        <p:blipFill>
          <a:blip r:embed="rId3"/>
          <a:stretch/>
        </p:blipFill>
        <p:spPr>
          <a:xfrm>
            <a:off x="2209680" y="5029200"/>
            <a:ext cx="2438640" cy="166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uzina"/>
          <p:cNvPicPr/>
          <p:nvPr/>
        </p:nvPicPr>
        <p:blipFill>
          <a:blip r:embed="rId4"/>
          <a:stretch/>
        </p:blipFill>
        <p:spPr>
          <a:xfrm>
            <a:off x="3962520" y="2895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334120" y="3124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304920"/>
          <a:ext cx="8763120" cy="6464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6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плотно прилегают друг к друг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 оболочки клеток бывают пропитаны пробковым веществ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ет от неблагоприя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услов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15" descr="Пробка"/>
          <p:cNvPicPr/>
          <p:nvPr/>
        </p:nvPicPr>
        <p:blipFill>
          <a:blip r:embed="rId1"/>
          <a:stretch/>
        </p:blipFill>
        <p:spPr>
          <a:xfrm>
            <a:off x="254160" y="3581280"/>
            <a:ext cx="2782800" cy="2133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DOMPK</cp:lastModifiedBy>
  <dcterms:modified xsi:type="dcterms:W3CDTF">2012-09-16T18:25:20Z</dcterms:modified>
  <cp:revision>2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