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72FB-FEC2-476A-B500-8FCA100CCE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8F5A-7C21-4D86-8216-27327E7BC0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A6F9-26B9-4E8C-A98B-23D86CEBD7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DF4-4E6E-4E45-9D84-33D450A0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121-9347-44AA-9D6C-268652C3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308-936F-4070-A3C8-30C2AD12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BEF-E18E-4802-9D50-8B95A9B5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DE86-8FF3-478D-B952-E2CCAB92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F9EA-69CE-40DA-823A-67441910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2530-0907-4EE4-9556-E8E52368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DCA9-4ADB-4235-86C2-D3BD278D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5A27-0829-4DC4-9571-E16B7745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A784-6D20-42D9-8936-C1BECCA9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79D9-9F1A-4C4A-A8AB-BD0E8471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F997-5CD7-4882-8F31-057D04E5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58C7-98D9-44C5-B997-071B09FF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C1E4-AECC-414A-8B4D-3AE670FD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392B-1A8D-41C2-BF38-F909BDE1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A390-286C-4AE1-A6D7-2DB39164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8EC5-D624-461C-AF20-6E8CEAF9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071-A39D-4B8D-9CF8-55205287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B1E-026A-4078-92F4-4BDA2C5F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3B6-9015-4F5E-94AC-93A61125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723-90D6-4F9C-9BD3-05526B89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54B-6D7D-486E-ADDF-0B9A1A21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F26-1A92-4AE7-8DC8-24D1A443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F8B-A2D4-4442-A5B0-EEFD0684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09C1-31F2-4292-93E1-40B438162BA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6999-DC4C-4D89-B5B2-0E6F2CBB915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14360" y="1047600"/>
            <a:ext cx="8242200" cy="236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84720" y="4508640"/>
            <a:ext cx="305928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БОУ №1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анкова А.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9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37684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179280" y="18900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1. Найдите соответствие. Составьте логические пары, выписав буквенные обозначения, соответствующие цифровым обозначен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755640" y="2205000"/>
            <a:ext cx="17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I. </a:t>
            </a:r>
            <a:r>
              <a:rPr b="0" lang="ru-RU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Кок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696960" y="2924280"/>
            <a:ext cx="19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II. </a:t>
            </a:r>
            <a:r>
              <a:rPr b="0" lang="ru-RU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Бацил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767880" y="3500280"/>
            <a:ext cx="22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III. </a:t>
            </a:r>
            <a:r>
              <a:rPr b="0" lang="ru-RU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Вибри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5"/>
          <p:cNvSpPr/>
          <p:nvPr/>
        </p:nvSpPr>
        <p:spPr>
          <a:xfrm>
            <a:off x="819360" y="400536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IV. </a:t>
            </a:r>
            <a:r>
              <a:rPr b="0" lang="ru-RU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Спирил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4218840" y="213372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A. </a:t>
            </a:r>
            <a:r>
              <a:rPr b="0" lang="ru-RU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Палочкови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7"/>
          <p:cNvSpPr/>
          <p:nvPr/>
        </p:nvSpPr>
        <p:spPr>
          <a:xfrm>
            <a:off x="4299120" y="2781360"/>
            <a:ext cx="28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Б. Шарообраз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4231080" y="3429000"/>
            <a:ext cx="30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B. </a:t>
            </a:r>
            <a:r>
              <a:rPr b="0" lang="ru-RU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Спиралевид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9"/>
          <p:cNvSpPr/>
          <p:nvPr/>
        </p:nvSpPr>
        <p:spPr>
          <a:xfrm>
            <a:off x="4563720" y="400536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imes New Roman"/>
                <a:ea typeface="Arial"/>
              </a:rPr>
              <a:t>Г. Изогну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10"/>
          <p:cNvSpPr/>
          <p:nvPr/>
        </p:nvSpPr>
        <p:spPr>
          <a:xfrm>
            <a:off x="3851280" y="5157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ff"/>
                </a:solidFill>
                <a:latin typeface="Times New Roman"/>
                <a:ea typeface="Arial"/>
              </a:rPr>
              <a:t>Прове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692360" y="4648320"/>
            <a:ext cx="1498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1003bd"/>
              </a:solidFill>
              <a:latin typeface="Arial"/>
            </a:endParaRPr>
          </a:p>
        </p:txBody>
      </p:sp>
      <p:pic>
        <p:nvPicPr>
          <p:cNvPr id="160" name="Picture 4" descr="бактерии"/>
          <p:cNvPicPr/>
          <p:nvPr/>
        </p:nvPicPr>
        <p:blipFill>
          <a:blip r:embed="rId1"/>
          <a:stretch/>
        </p:blipFill>
        <p:spPr>
          <a:xfrm>
            <a:off x="-8424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3"/>
          <p:cNvSpPr/>
          <p:nvPr/>
        </p:nvSpPr>
        <p:spPr>
          <a:xfrm>
            <a:off x="611280" y="263700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003bd"/>
                </a:solidFill>
                <a:latin typeface="Times New Roman"/>
              </a:rPr>
              <a:t>Благодарю за внима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6997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и организмы состоят из одной клет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етка имеет стенк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етки не имеют яде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следственная информация сосредоточена в единственной хромосом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мен веществ осуществляется в процессе ХЕМОСИНТЕЗА или ФОТОСИНТЕЗ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явились 3,8 – 3,1 млрд. лет наза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Прямая соединительная линия 4"/>
          <p:cNvSpPr/>
          <p:nvPr/>
        </p:nvSpPr>
        <p:spPr>
          <a:xfrm>
            <a:off x="826920" y="5661000"/>
            <a:ext cx="6913800" cy="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Прямоугольник 5" descr=""/>
          <p:cNvPicPr/>
          <p:nvPr/>
        </p:nvPicPr>
        <p:blipFill>
          <a:blip r:embed="rId2"/>
          <a:stretch/>
        </p:blipFill>
        <p:spPr>
          <a:xfrm>
            <a:off x="963720" y="5559480"/>
            <a:ext cx="66625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-146160" y="-6480"/>
            <a:ext cx="4973760" cy="1444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Arial"/>
              </a:rPr>
              <a:t>Бактерии – мельчайшие из организмов, обладающих клеточным строением; их размеры составляют от 0,1 до 10 мк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Безымянный 33333333.bmp"/>
          <p:cNvPicPr/>
          <p:nvPr/>
        </p:nvPicPr>
        <p:blipFill>
          <a:blip r:embed="rId2"/>
          <a:stretch/>
        </p:blipFill>
        <p:spPr>
          <a:xfrm>
            <a:off x="3413160" y="1341360"/>
            <a:ext cx="5730840" cy="49579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ая соединительная линия 6"/>
          <p:cNvSpPr/>
          <p:nvPr/>
        </p:nvSpPr>
        <p:spPr>
          <a:xfrm flipV="1">
            <a:off x="5580000" y="5876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ая соединительная линия 16"/>
          <p:cNvSpPr/>
          <p:nvPr/>
        </p:nvSpPr>
        <p:spPr>
          <a:xfrm flipV="1">
            <a:off x="5435640" y="1988640"/>
            <a:ext cx="1440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ая соединительная линия 18"/>
          <p:cNvSpPr/>
          <p:nvPr/>
        </p:nvSpPr>
        <p:spPr>
          <a:xfrm flipV="1">
            <a:off x="5219640" y="2565000"/>
            <a:ext cx="2305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ая соединительная линия 20"/>
          <p:cNvSpPr/>
          <p:nvPr/>
        </p:nvSpPr>
        <p:spPr>
          <a:xfrm>
            <a:off x="5219640" y="4797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6875640" y="162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25"/>
          <p:cNvSpPr/>
          <p:nvPr/>
        </p:nvSpPr>
        <p:spPr>
          <a:xfrm>
            <a:off x="7524720" y="2349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дерное ве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31"/>
          <p:cNvSpPr/>
          <p:nvPr/>
        </p:nvSpPr>
        <p:spPr>
          <a:xfrm>
            <a:off x="5364000" y="3213000"/>
            <a:ext cx="151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ая соединительная линия 33"/>
          <p:cNvSpPr/>
          <p:nvPr/>
        </p:nvSpPr>
        <p:spPr>
          <a:xfrm flipV="1">
            <a:off x="5292720" y="3284280"/>
            <a:ext cx="1582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34"/>
          <p:cNvSpPr/>
          <p:nvPr/>
        </p:nvSpPr>
        <p:spPr>
          <a:xfrm>
            <a:off x="6875640" y="3068640"/>
            <a:ext cx="20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я (вакуоли) с запасными веществ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6875640" y="4508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топлаз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6875640" y="558972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гут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3"/>
          <p:cNvCxnSpPr/>
          <p:nvPr/>
        </p:nvCxnSpPr>
        <p:spPr>
          <a:xfrm flipH="1">
            <a:off x="1186920" y="980640"/>
            <a:ext cx="115344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5"/>
          <p:cNvCxnSpPr/>
          <p:nvPr/>
        </p:nvCxnSpPr>
        <p:spPr>
          <a:xfrm>
            <a:off x="3563640" y="1125360"/>
            <a:ext cx="144720" cy="165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Прямая со стрелкой 7"/>
          <p:cNvCxnSpPr/>
          <p:nvPr/>
        </p:nvCxnSpPr>
        <p:spPr>
          <a:xfrm>
            <a:off x="5076720" y="1125000"/>
            <a:ext cx="504000" cy="151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9"/>
          <p:cNvCxnSpPr/>
          <p:nvPr/>
        </p:nvCxnSpPr>
        <p:spPr>
          <a:xfrm>
            <a:off x="6587640" y="1125000"/>
            <a:ext cx="864360" cy="230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TextBox 12"/>
          <p:cNvSpPr/>
          <p:nvPr/>
        </p:nvSpPr>
        <p:spPr>
          <a:xfrm>
            <a:off x="179280" y="2276640"/>
            <a:ext cx="21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рообразные - Кок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2340000" y="30686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лочковидные - бацил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4643280" y="285264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ралевидные - спирил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7164360" y="3789360"/>
            <a:ext cx="172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гнутые в виде запятой - вибри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3716280"/>
            <a:ext cx="1927080" cy="169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1979640" y="5373720"/>
            <a:ext cx="2579760" cy="129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4"/>
          <a:stretch/>
        </p:blipFill>
        <p:spPr>
          <a:xfrm>
            <a:off x="4356000" y="3933720"/>
            <a:ext cx="2567160" cy="12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5"/>
          <a:stretch/>
        </p:blipFill>
        <p:spPr>
          <a:xfrm>
            <a:off x="6516720" y="5373720"/>
            <a:ext cx="262728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5233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3"/>
          <p:cNvSpPr/>
          <p:nvPr/>
        </p:nvSpPr>
        <p:spPr>
          <a:xfrm>
            <a:off x="0" y="54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Выживают при неблагоприятных условиях при помощи сп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4" descr=""/>
          <p:cNvPicPr/>
          <p:nvPr/>
        </p:nvPicPr>
        <p:blipFill>
          <a:blip r:embed="rId2"/>
          <a:srcRect l="0" t="7470" r="18676" b="7470"/>
          <a:stretch/>
        </p:blipFill>
        <p:spPr>
          <a:xfrm>
            <a:off x="4489560" y="1700280"/>
            <a:ext cx="4154400" cy="36068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4516200" y="56610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ff"/>
                </a:solidFill>
                <a:latin typeface="Times New Roman"/>
                <a:ea typeface="Arial"/>
              </a:rPr>
              <a:t>Деление бактериальной кле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684360" y="1628640"/>
            <a:ext cx="232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Бактерии размножаются путем деления пример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каждые 20 минут          (в благоприятных условиях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Образование спор у бактерий"/>
          <p:cNvPicPr/>
          <p:nvPr/>
        </p:nvPicPr>
        <p:blipFill>
          <a:blip r:embed="rId2"/>
          <a:stretch/>
        </p:blipFill>
        <p:spPr>
          <a:xfrm>
            <a:off x="3276720" y="1844640"/>
            <a:ext cx="5298840" cy="3456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324000" y="1700280"/>
            <a:ext cx="316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ры бактерий – это приспособления к выживанию в неблагоприятных условия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132" name="Прямая со стрелкой 3"/>
          <p:cNvCxnSpPr/>
          <p:nvPr/>
        </p:nvCxnSpPr>
        <p:spPr>
          <a:xfrm flipH="1">
            <a:off x="2339280" y="1125000"/>
            <a:ext cx="648360" cy="151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Прямая со стрелкой 7"/>
          <p:cNvCxnSpPr/>
          <p:nvPr/>
        </p:nvCxnSpPr>
        <p:spPr>
          <a:xfrm>
            <a:off x="5219640" y="1196640"/>
            <a:ext cx="937440" cy="15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TextBox 9"/>
          <p:cNvSpPr/>
          <p:nvPr/>
        </p:nvSpPr>
        <p:spPr>
          <a:xfrm>
            <a:off x="324000" y="2276640"/>
            <a:ext cx="266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протрофы – питаются органическими веществами из отмерших организ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4716360" y="2637000"/>
            <a:ext cx="33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зиты – питаются органическими веществами живых организм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1619280" y="4437000"/>
            <a:ext cx="60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не- зеленые или цианобактерии способны создавать органические вещества из неорганических.Они сыграли важную роль в накоплении кислорода на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731960" cy="1405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17319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5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1116000" y="1557360"/>
            <a:ext cx="574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 какие группы делятся бактерии по питанию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ак размножаются бактер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Что такое спора бактерий и для чего она служи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468360" y="260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2. Число бактерий в проветриваемом помещен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4203720" y="2492280"/>
            <a:ext cx="4127400" cy="396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6516720" y="907920"/>
            <a:ext cx="1871640" cy="1521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5"/>
          <p:cNvSpPr/>
          <p:nvPr/>
        </p:nvSpPr>
        <p:spPr>
          <a:xfrm>
            <a:off x="1133640" y="242100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A. </a:t>
            </a:r>
            <a:r>
              <a:rPr b="0" lang="ru-RU" sz="28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Не изменя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1184760" y="3357720"/>
            <a:ext cx="28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4e7ed"/>
                </a:solidFill>
                <a:latin typeface="Times New Roman"/>
                <a:ea typeface="Arial"/>
              </a:rPr>
              <a:t>Б. Увеличив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1403640" y="429264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B. </a:t>
            </a:r>
            <a:r>
              <a:rPr b="0" lang="ru-RU" sz="2400" spc="-1" strike="noStrike">
                <a:solidFill>
                  <a:srgbClr val="f4e7ed"/>
                </a:solidFill>
                <a:latin typeface="Times New Roman"/>
                <a:ea typeface="Times New Roman"/>
              </a:rPr>
              <a:t>Уменьш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3995640" y="907920"/>
            <a:ext cx="17319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4:08:21Z</dcterms:created>
  <dc:creator>DOMPK</dc:creator>
  <dc:description/>
  <dc:language>en-US</dc:language>
  <cp:lastModifiedBy>DOMPK</cp:lastModifiedBy>
  <dcterms:modified xsi:type="dcterms:W3CDTF">2012-09-26T14:18:03Z</dcterms:modified>
  <cp:revision>25</cp:revision>
  <dc:subject/>
  <dc:title>Слайд 1</dc:title>
</cp:coreProperties>
</file>