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6E64-CD24-4100-9D3D-46B9FD3E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07A0-65D7-469A-9B4F-2BDC8AFD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893D-1751-4F04-8C89-F2B724FF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FB97-C2E9-4EF3-9FDC-FC174E6C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BFC8-16D1-4958-B7A8-AB3C0C2B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B2F9-3BF2-4851-B4A8-5221AC78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EE01-0375-4EFF-9C25-BF352AB9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F82E-096B-47D6-96AF-7A25B1C6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BC6C-F311-47F5-B2FA-EC567C22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E20E-B1D7-4C9C-9B35-B3861145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920B-ADA4-4EE3-8BDB-F6CF1A7E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5C6D-CE2D-40C1-A675-B2A59C6C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EF63-E619-4877-9895-E5B9D15B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F19E-760F-4DD7-9F2D-4686CE4A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FC68-1DAF-4C9B-8674-CBE9963B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9F67-DED5-4454-9D6A-DC035A53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06AF-3D6C-499B-9740-E9FABDD9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3FA1-AA9F-47A4-9D3F-43BE26F6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A35E-B352-448C-BFD7-12A87B0C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94FB-E659-4743-A96D-513FCC0F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0227-A2C7-4109-8624-EEA5A4D5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70B4-735D-4B68-BCDB-21C4CF97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447D-9418-4B08-8B97-E3D736CA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D662-ED51-45DF-BF8F-5F08D3C5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8401-7609-474A-955E-2CBB75754A47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2DDE-30CA-4A0E-AA21-744E602E31EE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635640" y="4869360"/>
            <a:ext cx="5257800" cy="1989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читель биолог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БОУ №1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панкова А.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6" name="Прямоугольник 3" descr=""/>
          <p:cNvPicPr/>
          <p:nvPr/>
        </p:nvPicPr>
        <p:blipFill>
          <a:blip r:embed="rId1"/>
          <a:stretch/>
        </p:blipFill>
        <p:spPr>
          <a:xfrm>
            <a:off x="390600" y="1152360"/>
            <a:ext cx="854532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3"/>
          <p:cNvSpPr/>
          <p:nvPr/>
        </p:nvSpPr>
        <p:spPr>
          <a:xfrm>
            <a:off x="826920" y="2276640"/>
            <a:ext cx="7201080" cy="314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бактерии разложения и гниен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очвенные бактер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молочнокислые бактер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болезнетворные бактер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321760" cy="16509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2"/>
          <p:cNvSpPr/>
          <p:nvPr/>
        </p:nvSpPr>
        <p:spPr>
          <a:xfrm>
            <a:off x="611280" y="206064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и – важнейшее звено общего круговорота веществ в природе. В почве содержится огромное число бактерий – сотни миллионов в 1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протрофные бактерии гниения превращают в перегной. Они санитары нашей плане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4211640" y="5013360"/>
            <a:ext cx="43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Бактерии принимают участие в  выветривании горных пород и минералов. Так, железобактерии сформировали крупные </a:t>
            </a:r>
            <a:r>
              <a:rPr b="1" lang="ru-RU" sz="2000" spc="-1" strike="noStrike">
                <a:solidFill>
                  <a:srgbClr val="ff2bd8"/>
                </a:solidFill>
                <a:latin typeface="Constantia"/>
              </a:rPr>
              <a:t>отложения железных ру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6436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66"/>
                </a:solidFill>
                <a:latin typeface="Times New Roman"/>
                <a:ea typeface="Times New Roman"/>
              </a:rPr>
              <a:t>2. Азотфиксирующие (почвенные) бактерии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4032360" cy="45370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УБЕНЬКОВЫЕ БАКТЕРИИ - род бактерий, образующих на корнях многих бобовых растений клубеньки и фиксирующих молекулярный азот воздуха в условиях симбиоза с растением. Вступают в симбиоз с бобовыми растениями. Поселяясь в корнях бобовых, они вызывают образование на них клубеньков, за что и получили название клубеньковых бактерий. Растения получают от них азот, а те в замен отдают  углевод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4205160" y="2276640"/>
            <a:ext cx="47847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360360" y="701640"/>
            <a:ext cx="8508960" cy="115092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2"/>
          <p:cNvSpPr/>
          <p:nvPr/>
        </p:nvSpPr>
        <p:spPr>
          <a:xfrm>
            <a:off x="250920" y="1916280"/>
            <a:ext cx="590544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чнокислые бактерии участвуют в создани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молочных продукт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исломолочные продукты - группа молочных продуктов, вырабатываемых из цельного коровьего молока или его производных (сливок, обезжиренного молока и сыворотки) путём сквашивания заквасками. Молочнокислые продукты изготовляются также из молока овец, коз, кобыл и других живот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5" descr="Молочнокислые бактерии"/>
          <p:cNvPicPr/>
          <p:nvPr/>
        </p:nvPicPr>
        <p:blipFill>
          <a:blip r:embed="rId2"/>
          <a:stretch/>
        </p:blipFill>
        <p:spPr>
          <a:xfrm>
            <a:off x="6283440" y="2190600"/>
            <a:ext cx="2514600" cy="2065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Йогурт"/>
          <p:cNvPicPr/>
          <p:nvPr/>
        </p:nvPicPr>
        <p:blipFill>
          <a:blip r:embed="rId3"/>
          <a:stretch/>
        </p:blipFill>
        <p:spPr>
          <a:xfrm>
            <a:off x="6084720" y="4292640"/>
            <a:ext cx="383544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328680" y="701640"/>
            <a:ext cx="8566200" cy="11509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2"/>
          <p:cNvSpPr/>
          <p:nvPr/>
        </p:nvSpPr>
        <p:spPr>
          <a:xfrm>
            <a:off x="468360" y="2133720"/>
            <a:ext cx="381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ют такие болезни, как тиф, дизентерия, холера, бруцеллёз, туберкулёз, ангину, сап, сибирскую язву, столбняк, чу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4896000" y="3141720"/>
            <a:ext cx="4248000" cy="32004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4"/>
          <p:cNvSpPr/>
          <p:nvPr/>
        </p:nvSpPr>
        <p:spPr>
          <a:xfrm>
            <a:off x="5651640" y="234936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Холерный вибри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0"/>
          <p:cNvGrpSpPr/>
          <p:nvPr/>
        </p:nvGrpSpPr>
        <p:grpSpPr>
          <a:xfrm>
            <a:off x="1476360" y="4724280"/>
            <a:ext cx="2808000" cy="2133360"/>
            <a:chOff x="1476360" y="4724280"/>
            <a:chExt cx="2808000" cy="2133360"/>
          </a:xfrm>
        </p:grpSpPr>
        <p:sp>
          <p:nvSpPr>
            <p:cNvPr id="114" name="AutoShape 21"/>
            <p:cNvSpPr/>
            <p:nvPr/>
          </p:nvSpPr>
          <p:spPr>
            <a:xfrm>
              <a:off x="1476360" y="4724280"/>
              <a:ext cx="2808000" cy="389160"/>
            </a:xfrm>
            <a:prstGeom prst="roundRect">
              <a:avLst>
                <a:gd name="adj" fmla="val 16667"/>
              </a:avLst>
            </a:prstGeom>
            <a:solidFill>
              <a:srgbClr val="ff38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стафилококк</a:t>
              </a: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22" descr="стафилококк 1"/>
            <p:cNvPicPr/>
            <p:nvPr/>
          </p:nvPicPr>
          <p:blipFill>
            <a:blip r:embed="rId3"/>
            <a:stretch/>
          </p:blipFill>
          <p:spPr>
            <a:xfrm>
              <a:off x="1730520" y="5253840"/>
              <a:ext cx="2296800" cy="1603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263160" y="549360"/>
            <a:ext cx="381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ff"/>
                </a:solidFill>
                <a:uFillTx/>
                <a:latin typeface="Constantia"/>
              </a:rPr>
              <a:t>РОЛЬ   БАКТЕРИЙ  В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4211640" y="54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ff"/>
                </a:solidFill>
                <a:uFillTx/>
                <a:latin typeface="Constantia"/>
              </a:rPr>
              <a:t>РОЛЬ   БАКТЕРИЙ  В ЖИЗН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179280" y="1197000"/>
            <a:ext cx="2808360" cy="703800"/>
          </a:xfrm>
          <a:prstGeom prst="rect">
            <a:avLst/>
          </a:prstGeom>
          <a:solidFill>
            <a:srgbClr val="ff8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вуют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и перегно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179280" y="2276640"/>
            <a:ext cx="295272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ращают перег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неральные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0" y="3429000"/>
            <a:ext cx="313200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аивают аз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2916360" y="4797360"/>
            <a:ext cx="4140000" cy="10087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ривают клетчат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ишечнике травояд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0" descr=""/>
          <p:cNvPicPr/>
          <p:nvPr/>
        </p:nvPicPr>
        <p:blipFill>
          <a:blip r:embed="rId1"/>
          <a:stretch/>
        </p:blipFill>
        <p:spPr>
          <a:xfrm>
            <a:off x="179280" y="4508640"/>
            <a:ext cx="2743200" cy="213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Клубеньки на корнях люпина"/>
          <p:cNvPicPr/>
          <p:nvPr/>
        </p:nvPicPr>
        <p:blipFill>
          <a:blip r:embed="rId2"/>
          <a:stretch/>
        </p:blipFill>
        <p:spPr>
          <a:xfrm>
            <a:off x="3276720" y="2708280"/>
            <a:ext cx="1439640" cy="2158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Минерализация веществ"/>
          <p:cNvPicPr/>
          <p:nvPr/>
        </p:nvPicPr>
        <p:blipFill>
          <a:blip r:embed="rId3"/>
          <a:stretch/>
        </p:blipFill>
        <p:spPr>
          <a:xfrm>
            <a:off x="3203640" y="907920"/>
            <a:ext cx="1439640" cy="18734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10"/>
          <p:cNvSpPr/>
          <p:nvPr/>
        </p:nvSpPr>
        <p:spPr>
          <a:xfrm>
            <a:off x="4932360" y="1268280"/>
            <a:ext cx="3960720" cy="703800"/>
          </a:xfrm>
          <a:prstGeom prst="rect">
            <a:avLst/>
          </a:prstGeom>
          <a:solidFill>
            <a:srgbClr val="4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о сыр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молочных прод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1"/>
          <p:cNvSpPr/>
          <p:nvPr/>
        </p:nvSpPr>
        <p:spPr>
          <a:xfrm>
            <a:off x="5796000" y="5950080"/>
            <a:ext cx="3348000" cy="703800"/>
          </a:xfrm>
          <a:prstGeom prst="rect">
            <a:avLst/>
          </a:prstGeom>
          <a:solidFill>
            <a:srgbClr val="ff8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о лекар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терферо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Кефир"/>
          <p:cNvPicPr/>
          <p:nvPr/>
        </p:nvPicPr>
        <p:blipFill>
          <a:blip r:embed="rId4"/>
          <a:stretch/>
        </p:blipFill>
        <p:spPr>
          <a:xfrm>
            <a:off x="7361280" y="2349360"/>
            <a:ext cx="1782720" cy="2376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Сыр рокфор"/>
          <p:cNvPicPr/>
          <p:nvPr/>
        </p:nvPicPr>
        <p:blipFill>
          <a:blip r:embed="rId5"/>
          <a:stretch/>
        </p:blipFill>
        <p:spPr>
          <a:xfrm>
            <a:off x="4932360" y="2417760"/>
            <a:ext cx="2090880" cy="209088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14"/>
          <p:cNvSpPr/>
          <p:nvPr/>
        </p:nvSpPr>
        <p:spPr>
          <a:xfrm>
            <a:off x="2340000" y="602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ля очистки сто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63680" y="2273400"/>
            <a:ext cx="8315280" cy="1152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Различные формы бактерий"/>
          <p:cNvPicPr/>
          <p:nvPr/>
        </p:nvPicPr>
        <p:blipFill>
          <a:blip r:embed="rId2"/>
          <a:srcRect l="0" t="0" r="48929" b="50400"/>
          <a:stretch/>
        </p:blipFill>
        <p:spPr>
          <a:xfrm>
            <a:off x="826920" y="260280"/>
            <a:ext cx="2168640" cy="2373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Различные формы бактерий"/>
          <p:cNvPicPr/>
          <p:nvPr/>
        </p:nvPicPr>
        <p:blipFill>
          <a:blip r:embed="rId3"/>
          <a:srcRect l="0" t="51030" r="48929" b="0"/>
          <a:stretch/>
        </p:blipFill>
        <p:spPr>
          <a:xfrm>
            <a:off x="1116000" y="4005360"/>
            <a:ext cx="2303640" cy="2487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Различные формы бактерий"/>
          <p:cNvPicPr/>
          <p:nvPr/>
        </p:nvPicPr>
        <p:blipFill>
          <a:blip r:embed="rId4"/>
          <a:srcRect l="52475" t="0" r="0" b="51030"/>
          <a:stretch/>
        </p:blipFill>
        <p:spPr>
          <a:xfrm>
            <a:off x="6443640" y="4076640"/>
            <a:ext cx="2087640" cy="2421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Различные формы бактерий"/>
          <p:cNvPicPr/>
          <p:nvPr/>
        </p:nvPicPr>
        <p:blipFill>
          <a:blip r:embed="rId5"/>
          <a:srcRect l="52475" t="51030" r="0" b="0"/>
          <a:stretch/>
        </p:blipFill>
        <p:spPr>
          <a:xfrm>
            <a:off x="6443640" y="260280"/>
            <a:ext cx="216072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08:52:49Z</dcterms:created>
  <dc:creator>DOMPK</dc:creator>
  <dc:description/>
  <dc:language>en-US</dc:language>
  <cp:lastModifiedBy>DOMPK</cp:lastModifiedBy>
  <dcterms:modified xsi:type="dcterms:W3CDTF">2012-09-24T18:26:54Z</dcterms:modified>
  <cp:revision>10</cp:revision>
  <dc:subject/>
  <dc:title>Слайд 1</dc:title>
</cp:coreProperties>
</file>