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EE0-CCBD-4903-A1AF-4F7A2154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6EB-1649-492F-91F7-57AD9230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B3BD-FD6E-448F-B13C-89697D38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682F-93BF-454A-885E-861D5F68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B0D3-49E5-484E-9A9C-86886DFA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4549-05E8-4564-BA56-4C3CFA8C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AE53-A7A3-4DFE-823D-CBFBAEB1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02EE-209B-4CBF-B470-3701218B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859F-620D-47B8-BAA0-BDCE02B8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F55B-7436-45E6-9D3B-F63B5C8E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DD3A-E886-42A5-BA2B-3B69E8DB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1016-06BF-4C93-A09D-ABDC1CE5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E954-ED13-4961-A0D9-11122732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0AE5-1793-4130-8FB0-714299BA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7172-4B4D-4DE0-AAFE-83A62398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4B2B-807B-42A9-94BB-A4881A9C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2E92-86A3-4C01-9779-86EE289C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9C33-5511-4AC9-8D92-C2BEB15C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305F-7287-40E8-8A1D-21373585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7E2D-5937-452B-9D6E-5313ABEE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B58-66FE-4770-9F59-C2A2E929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F9F1-EDF1-4921-93C5-39ABB259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4DF-05AB-46E4-B118-2995FA8D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E743-702B-47BB-A0C3-692BA6D7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CEE5-5EB7-4BFA-B2A2-62CF859B0C13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BAD6-2422-43A7-B471-B6CFC9446B20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635640" y="4869360"/>
            <a:ext cx="5257800" cy="1989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итель биолог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БОУ №1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панкова А.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390600" y="1152360"/>
            <a:ext cx="854532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"/>
          <p:cNvSpPr/>
          <p:nvPr/>
        </p:nvSpPr>
        <p:spPr>
          <a:xfrm>
            <a:off x="826920" y="2276640"/>
            <a:ext cx="7201080" cy="31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бактерии разложения и гни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очвенные бактер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молочнокислые бактер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болезнетворные бактер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321760" cy="16509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2"/>
          <p:cNvSpPr/>
          <p:nvPr/>
        </p:nvSpPr>
        <p:spPr>
          <a:xfrm>
            <a:off x="611280" y="206064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и – важнейшее звено общего круговорота веществ в природе. В почве содержится огромное число бактерий – сотни миллионов в 1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протрофные бактерии гниения превращают в перегной. Они санитары нашей план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4211640" y="5013360"/>
            <a:ext cx="43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Бактерии принимают участие в  выветривании горных пород и минералов. Так, железобактерии сформировали крупные </a:t>
            </a:r>
            <a:r>
              <a:rPr b="1" lang="ru-RU" sz="2000" spc="-1" strike="noStrike">
                <a:solidFill>
                  <a:srgbClr val="ff2bd8"/>
                </a:solidFill>
                <a:latin typeface="Constantia"/>
              </a:rPr>
              <a:t>отложения железных ру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6436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2. Азотфиксирующие (почвенные) бактерии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4032360" cy="45370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УБЕНЬКОВЫЕ БАКТЕРИИ - род бактерий, образующих на корнях многих бобовых растений клубеньки и фиксирующих молекулярный азот воздуха в условиях симбиоза с растением. Вступают в симбиоз с бобовыми растениями. Поселяясь в корнях бобовых, они вызывают образование на них клубеньков, за что и получили название клубеньковых бактерий. Растения получают от них азот, а те в замен отдают  углевод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4205160" y="2276640"/>
            <a:ext cx="47847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360360" y="701640"/>
            <a:ext cx="8508960" cy="115092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2"/>
          <p:cNvSpPr/>
          <p:nvPr/>
        </p:nvSpPr>
        <p:spPr>
          <a:xfrm>
            <a:off x="250920" y="1916280"/>
            <a:ext cx="590544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чнокислые бактерии участвуют в создани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молочных продукт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исломолочные продукты - группа молочных продуктов, вырабатываемых из цельного коровьего молока или его производных (сливок, обезжиренного молока и сыворотки) путём сквашивания заквасками. Молочнокислые продукты изготовляются также из молока овец, коз, кобыл и других живот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5" descr="Молочнокислые бактерии"/>
          <p:cNvPicPr/>
          <p:nvPr/>
        </p:nvPicPr>
        <p:blipFill>
          <a:blip r:embed="rId2"/>
          <a:stretch/>
        </p:blipFill>
        <p:spPr>
          <a:xfrm>
            <a:off x="6283440" y="2190600"/>
            <a:ext cx="2514600" cy="2065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Йогурт"/>
          <p:cNvPicPr/>
          <p:nvPr/>
        </p:nvPicPr>
        <p:blipFill>
          <a:blip r:embed="rId3"/>
          <a:stretch/>
        </p:blipFill>
        <p:spPr>
          <a:xfrm>
            <a:off x="6084720" y="4292640"/>
            <a:ext cx="383544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328680" y="701640"/>
            <a:ext cx="8566200" cy="11509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2"/>
          <p:cNvSpPr/>
          <p:nvPr/>
        </p:nvSpPr>
        <p:spPr>
          <a:xfrm>
            <a:off x="468360" y="2133720"/>
            <a:ext cx="381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ют такие болезни, как тиф, дизентерия, холера, бруцеллёз, туберкулёз, ангину, сап, сибирскую язву, столбняк, чу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4896000" y="3141720"/>
            <a:ext cx="4248000" cy="32004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5651640" y="234936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Холерный вибри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0"/>
          <p:cNvGrpSpPr/>
          <p:nvPr/>
        </p:nvGrpSpPr>
        <p:grpSpPr>
          <a:xfrm>
            <a:off x="1476360" y="4724280"/>
            <a:ext cx="2808000" cy="2133360"/>
            <a:chOff x="1476360" y="4724280"/>
            <a:chExt cx="2808000" cy="2133360"/>
          </a:xfrm>
        </p:grpSpPr>
        <p:sp>
          <p:nvSpPr>
            <p:cNvPr id="114" name="AutoShape 21"/>
            <p:cNvSpPr/>
            <p:nvPr/>
          </p:nvSpPr>
          <p:spPr>
            <a:xfrm>
              <a:off x="1476360" y="4724280"/>
              <a:ext cx="2808000" cy="389160"/>
            </a:xfrm>
            <a:prstGeom prst="roundRect">
              <a:avLst>
                <a:gd name="adj" fmla="val 16667"/>
              </a:avLst>
            </a:prstGeom>
            <a:solidFill>
              <a:srgbClr val="ff38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стафилококк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22" descr="стафилококк 1"/>
            <p:cNvPicPr/>
            <p:nvPr/>
          </p:nvPicPr>
          <p:blipFill>
            <a:blip r:embed="rId3"/>
            <a:stretch/>
          </p:blipFill>
          <p:spPr>
            <a:xfrm>
              <a:off x="1730520" y="5253840"/>
              <a:ext cx="2296800" cy="1603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263160" y="549360"/>
            <a:ext cx="38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Constantia"/>
              </a:rPr>
              <a:t>РОЛЬ   БАКТЕРИЙ  В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421164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Constantia"/>
              </a:rPr>
              <a:t>РОЛЬ   БАКТЕРИЙ  В ЖИЗН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179280" y="1197000"/>
            <a:ext cx="2808360" cy="703800"/>
          </a:xfrm>
          <a:prstGeom prst="rect">
            <a:avLst/>
          </a:prstGeom>
          <a:solidFill>
            <a:srgbClr val="ff8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уют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и перегно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179280" y="2276640"/>
            <a:ext cx="295272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ащают перег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неральные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0" y="3429000"/>
            <a:ext cx="313200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аивают аз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2916360" y="4797360"/>
            <a:ext cx="4140000" cy="1008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ривают клетча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ишечнике травояд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0" descr=""/>
          <p:cNvPicPr/>
          <p:nvPr/>
        </p:nvPicPr>
        <p:blipFill>
          <a:blip r:embed="rId1"/>
          <a:stretch/>
        </p:blipFill>
        <p:spPr>
          <a:xfrm>
            <a:off x="179280" y="4508640"/>
            <a:ext cx="2743200" cy="213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Клубеньки на корнях люпина"/>
          <p:cNvPicPr/>
          <p:nvPr/>
        </p:nvPicPr>
        <p:blipFill>
          <a:blip r:embed="rId2"/>
          <a:stretch/>
        </p:blipFill>
        <p:spPr>
          <a:xfrm>
            <a:off x="3276720" y="2708280"/>
            <a:ext cx="1439640" cy="2158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Минерализация веществ"/>
          <p:cNvPicPr/>
          <p:nvPr/>
        </p:nvPicPr>
        <p:blipFill>
          <a:blip r:embed="rId3"/>
          <a:stretch/>
        </p:blipFill>
        <p:spPr>
          <a:xfrm>
            <a:off x="3203640" y="907920"/>
            <a:ext cx="1439640" cy="18734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0"/>
          <p:cNvSpPr/>
          <p:nvPr/>
        </p:nvSpPr>
        <p:spPr>
          <a:xfrm>
            <a:off x="4932360" y="1268280"/>
            <a:ext cx="3960720" cy="703800"/>
          </a:xfrm>
          <a:prstGeom prst="rect">
            <a:avLst/>
          </a:prstGeom>
          <a:solidFill>
            <a:srgbClr val="4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 сыр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молочных прод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5796000" y="5950080"/>
            <a:ext cx="3348000" cy="703800"/>
          </a:xfrm>
          <a:prstGeom prst="rect">
            <a:avLst/>
          </a:prstGeom>
          <a:solidFill>
            <a:srgbClr val="ff8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 лекар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терферо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Кефир"/>
          <p:cNvPicPr/>
          <p:nvPr/>
        </p:nvPicPr>
        <p:blipFill>
          <a:blip r:embed="rId4"/>
          <a:stretch/>
        </p:blipFill>
        <p:spPr>
          <a:xfrm>
            <a:off x="7361280" y="2349360"/>
            <a:ext cx="1782720" cy="2376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Сыр рокфор"/>
          <p:cNvPicPr/>
          <p:nvPr/>
        </p:nvPicPr>
        <p:blipFill>
          <a:blip r:embed="rId5"/>
          <a:stretch/>
        </p:blipFill>
        <p:spPr>
          <a:xfrm>
            <a:off x="4932360" y="2417760"/>
            <a:ext cx="2090880" cy="209088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14"/>
          <p:cNvSpPr/>
          <p:nvPr/>
        </p:nvSpPr>
        <p:spPr>
          <a:xfrm>
            <a:off x="2340000" y="602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очистки сто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63680" y="2273400"/>
            <a:ext cx="8315280" cy="115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Различные формы бактерий"/>
          <p:cNvPicPr/>
          <p:nvPr/>
        </p:nvPicPr>
        <p:blipFill>
          <a:blip r:embed="rId2"/>
          <a:srcRect l="0" t="0" r="48929" b="50400"/>
          <a:stretch/>
        </p:blipFill>
        <p:spPr>
          <a:xfrm>
            <a:off x="826920" y="260280"/>
            <a:ext cx="2168640" cy="2373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Различные формы бактерий"/>
          <p:cNvPicPr/>
          <p:nvPr/>
        </p:nvPicPr>
        <p:blipFill>
          <a:blip r:embed="rId3"/>
          <a:srcRect l="0" t="51030" r="48929" b="0"/>
          <a:stretch/>
        </p:blipFill>
        <p:spPr>
          <a:xfrm>
            <a:off x="1116000" y="4005360"/>
            <a:ext cx="2303640" cy="2487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Различные формы бактерий"/>
          <p:cNvPicPr/>
          <p:nvPr/>
        </p:nvPicPr>
        <p:blipFill>
          <a:blip r:embed="rId4"/>
          <a:srcRect l="52475" t="0" r="0" b="51030"/>
          <a:stretch/>
        </p:blipFill>
        <p:spPr>
          <a:xfrm>
            <a:off x="6443640" y="4076640"/>
            <a:ext cx="2087640" cy="2421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Различные формы бактерий"/>
          <p:cNvPicPr/>
          <p:nvPr/>
        </p:nvPicPr>
        <p:blipFill>
          <a:blip r:embed="rId5"/>
          <a:srcRect l="52475" t="51030" r="0" b="0"/>
          <a:stretch/>
        </p:blipFill>
        <p:spPr>
          <a:xfrm>
            <a:off x="6443640" y="260280"/>
            <a:ext cx="216072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08:52:49Z</dcterms:created>
  <dc:creator>DOMPK</dc:creator>
  <dc:description/>
  <dc:language>en-US</dc:language>
  <cp:lastModifiedBy>DOMPK</cp:lastModifiedBy>
  <dcterms:modified xsi:type="dcterms:W3CDTF">2012-09-24T18:26:54Z</dcterms:modified>
  <cp:revision>10</cp:revision>
  <dc:subject/>
  <dc:title>Слайд 1</dc:title>
</cp:coreProperties>
</file>