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A84-6E91-4A6A-B4F9-AADB155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5BA-3B1C-4266-A4E5-72257AB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C2A-40C8-4696-9BB1-05EC2BCB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1B5-62E0-4A7E-9F41-70C1E71D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C407-451C-416E-8290-5DD2968A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4A8-BD4A-4F1B-9A67-F4D94D2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8730-731C-42CC-B341-ABAD60F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25C-D5C0-4EB2-84A8-BA9849ED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BD28-5D7D-43D5-91D5-D63F745D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F200-9B76-4380-86EB-2B8F49A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0D46-BA79-48B5-A98A-0D42EE8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2EA-DA04-45AA-89FB-ABFFFCB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F94-05F1-4F22-9FFE-7E93847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4971-FA11-49A3-85C9-42B1BD7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222D-536D-4183-8E84-906E721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A3DE-258D-4198-9447-7E2F2F2D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CDFA-8807-4E66-BA5D-555A9793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7B86-2434-4B07-A0AF-0C6C953D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7ACE-4ED1-445C-93DF-3AD4D8B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41D4-90F4-4761-B527-232196F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D384-783B-465B-A491-9FA23DA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320D-8B82-4696-B932-C9C6A47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EFA-F837-41C3-A195-BE5915D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1ADE-3BF4-42CE-98F2-57CC158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BB0D-6BE8-41B7-A785-6F2E09D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3490-4C17-4AD1-A3B6-F713C4A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A808-FEF5-4DFA-9365-399F0364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F4FB-9584-44BD-B70A-F9C8AE3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81B2-3233-4316-8AD8-984B3E6B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CA77-5DC1-4396-925A-DE434886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7667-712A-42F3-9293-A1B65682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C800-F3B6-4115-A772-7E21835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AFDA-1EF9-4A68-98E2-A394AAA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CA0-ABEC-4EAD-A793-0BDE503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E0A6-79EB-4CE3-B50F-D941F73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EE30-EEE5-459A-96C3-A2E9A5C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4345-6CCD-451D-9271-65D805CF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32C4-4BBF-405F-AEAF-4041AD8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BF97-26DB-4C4B-93F8-D6B42BD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057E-2AFD-46F0-B796-A566903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B43D-33E5-4ADC-9A61-CA46411B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9BED-503F-46B1-A684-8294F1A8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3F18-BB84-4DB1-8A06-60CE35B2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905-1ACF-441A-8B5A-1AA0751C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9C5-AA57-48BD-89E1-958AD845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F2E-0348-42E7-B5F1-1A6BE91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A64-7851-43E3-A60D-F287DB9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9F2-5223-4B4C-A685-95AD0BB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CDB-410B-423F-81C3-2E2CFD303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943-2BFB-46DB-9535-2FE94413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E00-F8ED-460B-967B-295AEE0E3A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A36-15D0-4280-9C89-5BD7EF2B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lanetaskazok.ru/vsuteevskz/pro-begemota" TargetMode="External"/><Relationship Id="rId3" Type="http://schemas.openxmlformats.org/officeDocument/2006/relationships/hyperlink" Target="http://www.planetaskazok.ru/vsuteevskz/pro-begemota" TargetMode="External"/><Relationship Id="rId4" Type="http://schemas.openxmlformats.org/officeDocument/2006/relationships/hyperlink" Target="http://www.planetaskazok.ru/vsuteevskz/pro-begemota" TargetMode="External"/><Relationship Id="rId5" Type="http://schemas.openxmlformats.org/officeDocument/2006/relationships/hyperlink" Target="http://www.planetaskazok.ru/vsuteevskz/pro-begemota" TargetMode="External"/><Relationship Id="rId6" Type="http://schemas.openxmlformats.org/officeDocument/2006/relationships/hyperlink" Target="http://www.planetaskazok.ru/vsuteevskz/pro-begemota" TargetMode="External"/><Relationship Id="rId7" Type="http://schemas.openxmlformats.org/officeDocument/2006/relationships/hyperlink" Target="http://www.planetaskazok.ru/vsuteevskz/pro-begemota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001000" cy="6400800"/>
          </a:xfrm>
          <a:prstGeom prst="rect">
            <a:avLst/>
          </a:prstGeom>
          <a:ln w="92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щитите себя и своих близких!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делайте привив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lanetaskazo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suteevskz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o-beg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876920" y="1752480"/>
            <a:ext cx="4038480" cy="317520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235440" y="2133720"/>
            <a:ext cx="45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люстрации: Сутеев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840" y="5029200"/>
            <a:ext cx="85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езентацию подготовили ученики 3 Б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ОУ СОШ № 7 г.Мончего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ассный руководитель: Одениц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ляже было очень весело. Больше всех веселился Бегемот, плескаясь в тёплой воде под яркими лучами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1447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919680" cy="441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318280" y="2475000"/>
            <a:ext cx="329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876920"/>
            <a:ext cx="38098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Бегемот вылез из воды на бepe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увидел большое объя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267080" y="4038480"/>
            <a:ext cx="4648320" cy="2635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успел Бегемот прийти домой, как тут же прискакал Кенгуру-почталь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от повестка: вам явиться на прививку. Бегемот не на шутку испуг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епуха, - сказал ему друг Марабу. - Уколют - раз! - и вс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334040" cy="586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иёмной поликлиники Бегемот дрожал от стр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А ты будешь меня за руку держать? - всё время спрашивал он своего друга Мара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Буду, буду... - отвечал Мара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457200"/>
            <a:ext cx="4772160" cy="5562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ый раз вижу белого Бегемота! - воскликнул До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ожет быть, он просто боится ук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638680" cy="48927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00240" y="1522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Это особенный Бегемот, - объяснил Марабу, - он когда как: то серый, то бел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 Доктор выбирал иголку побольше, специально для бегемотовой кожи, Бегемот исчез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724280" cy="449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28600" y="48006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бросились искать Бегем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Его нужно найти! Он может заболеть желтух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Бегемот спрятался от преследователей и спокойно пошёл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32763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ругое утро Марабу зашёл к Бегемоту и, увидев его, в ужасе закрич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то с тобой? Ты совсем жёлтый! Как лимо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абу немедленно позвонил Док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5248440" cy="6019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Доктор, что делать? Бегемот стал жёлтый-прежёлт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Но вы же сами говорили - ваш Бегемот особенный: он то серый, то бел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Да нет, Доктор, тогда он просто побелел от страха. -Ах так!.. Это другое дело. Очевидно, у него желтуха. Высылаю «скорую помощь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00600" cy="3138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228600" y="3809880"/>
            <a:ext cx="3809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зьянки-санитары быстро отнесли на носилках Бегемота в машину «скорой помощи» и увезли в боль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мотрите! - закричал Доктор, - что с Бегемотом? Он был серым, белым, жёлтым, а теперь он совсем красный! Это какой-то необыкновенный Бегемо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т, Доктор. Это самый обыкновенный Бегемот, - сказал Марабу, - только ему стыдно, что он так боялся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124080" cy="36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3505320" y="15228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Марабу пришёл в больницу навестить своего больного друга, Бегемот попросил его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не очень скучно лежать: расскажи какую-нибудь сказ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Xopoшo, - сказал Марабу. - «Жил-был Бегемот. Он ужас до чего боялся прививок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9T18:0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