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DA6-1282-49C1-9A0F-C6680D6A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3A9-8435-45E3-B152-AA3CFFF2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DBA-F5DF-4063-AEB8-4F717421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BEC-F3B9-49F0-B850-8285B33F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55CB-551C-43BD-BA89-9E4D6633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B32A-29EC-40CF-8044-CB3C27CC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78A1-7DC0-4CF9-BD7D-45DF13DD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FED0-1F19-4074-BD33-67E1CFBB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1431-986D-4ACF-953B-C019D8C0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CCFA-F04A-45DA-B7E3-61EB7949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24D0-24BB-4939-9C7C-7766C1E7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CBE2-8E5E-4E56-BEFD-62BEF822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03CA-5CA3-4CAF-9D07-5ABEB759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944D-4816-43D9-9E0D-83C85990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3C1E-3179-4C85-ACE5-846F6AB9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758A-AB4F-4138-ACBC-5A68A9C9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B891-D3F7-48F3-A5CE-2B23E3A0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459A8-D506-4716-B5E2-56F57873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66068-EB63-4D4C-A3BE-0FF7624C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8966B-3CAD-4459-8DAE-8CBD4318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EE398-E15C-4A60-8B2B-D84A3430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7D7FD-EC0F-4FF7-9280-9E6B3075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1A88-9728-49CD-9A1F-8A285170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520B3-01AC-45E6-98B2-2C20B4DB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B124B-C77C-4A75-9630-F57209A0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6C74B-8CDD-4CDB-B712-6A033BA6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A0CCE-1918-4A0A-A9DB-3D86AB31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31219-C91E-4C54-BD9F-5275C448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25A97-C4A2-46D0-81ED-4C57C1EA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2DCA3-AA58-4859-8798-0B7E2E07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C3598-6382-4ADD-BDD5-1369A672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FDA33-04EA-49A6-B1AD-F1F51CCC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8BFAF-EF4D-4A3F-AF9A-6CE6B881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70EA-5A0C-4704-AFA5-01E529E6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7BFF9-6A91-407B-8360-CF543882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C07C4-BEE5-419D-B7B4-9AAF1F14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3EDA0-F4B0-4DE0-A897-B02ADD68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CCF02-0B15-4819-A8F8-004FAA22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BA75B-CEAA-403D-9358-3E46F63E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0A6DD-9745-439F-874C-72F3DBBC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DE5D1-3255-49E1-9FFE-2092F31D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3CF39-11E7-43CE-9DCA-8F85E716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F4692-680A-4964-8D81-440D6390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A71-B921-4278-ABA5-A564BF6E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F9A-AA15-4CE7-A224-8976602E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86C-14A7-48AA-9539-F910245C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AD5-D7EA-4633-944B-6DF5D2C2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8728-7B2E-48CE-81AE-7F35DD9C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B7C3-7EEC-44C2-8F8E-3312EB145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311F-3972-4F8F-95D0-E5DB5A720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362320" y="6613200"/>
            <a:ext cx="4952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62904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5765-7A88-458F-B2BA-6A3F23A95A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DA9B-C73C-4A7F-A4CF-07D09A55F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planetaskazok.ru/vsuteevskz/pro-begemota" TargetMode="External"/><Relationship Id="rId3" Type="http://schemas.openxmlformats.org/officeDocument/2006/relationships/hyperlink" Target="http://www.planetaskazok.ru/vsuteevskz/pro-begemota" TargetMode="External"/><Relationship Id="rId4" Type="http://schemas.openxmlformats.org/officeDocument/2006/relationships/hyperlink" Target="http://www.planetaskazok.ru/vsuteevskz/pro-begemota" TargetMode="External"/><Relationship Id="rId5" Type="http://schemas.openxmlformats.org/officeDocument/2006/relationships/hyperlink" Target="http://www.planetaskazok.ru/vsuteevskz/pro-begemota" TargetMode="External"/><Relationship Id="rId6" Type="http://schemas.openxmlformats.org/officeDocument/2006/relationships/hyperlink" Target="http://www.planetaskazok.ru/vsuteevskz/pro-begemota" TargetMode="External"/><Relationship Id="rId7" Type="http://schemas.openxmlformats.org/officeDocument/2006/relationships/hyperlink" Target="http://www.planetaskazok.ru/vsuteevskz/pro-begemota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8001000" cy="6400800"/>
          </a:xfrm>
          <a:prstGeom prst="rect">
            <a:avLst/>
          </a:prstGeom>
          <a:ln w="92160">
            <a:solidFill>
              <a:srgbClr val="ffff00"/>
            </a:solidFill>
            <a:miter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Защитите себя и своих близких!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Сделайте прививк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planetaskazok.r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vsuteevskz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ro-begem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4876920" y="1752480"/>
            <a:ext cx="4038480" cy="317520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235440" y="2133720"/>
            <a:ext cx="45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люстрации: Сутеев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840" y="5029200"/>
            <a:ext cx="851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езентацию подготовили ученики 3 Б кл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ОУ СОШ № 7 г.Мончегор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лассный руководитель: Оденица Л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62160" y="1752480"/>
            <a:ext cx="5181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пляже было очень весело. Больше всех веселился Бегемот, плескаясь в тёплой воде под яркими лучами солн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419720" cy="14475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3919680" cy="4419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5318280" y="2475000"/>
            <a:ext cx="329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4876920"/>
            <a:ext cx="380988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да Бегемот вылез из воды на бepe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увидел большое объя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267080" y="4038480"/>
            <a:ext cx="4648320" cy="2635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4267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успел Бегемот прийти домой, как тут же прискакал Кенгуру-почтальо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Вот повестка: вам явиться на прививку. Бегемот не на шутку испуга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Чепуха, - сказал ему друг Марабу. - Уколют - раз! - и всё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572000" y="609480"/>
            <a:ext cx="4334040" cy="58676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3886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риёмной поликлиники Бегемот дрожал от стра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А ты будешь меня за руку держать? - всё время спрашивал он своего друга Мара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Буду, буду... - отвечал Мара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114800" y="457200"/>
            <a:ext cx="4772160" cy="5562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761760" y="2282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ервый раз вижу белого Бегемота! - воскликнул Докт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может быть, он просто боится уко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676520" y="1752480"/>
            <a:ext cx="5638680" cy="48927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800240" y="1522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Это особенный Бегемот, - объяснил Марабу, - он когда как: то серый, то белый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ка Доктор выбирал иголку побольше, специально для бегемотовой кожи, Бегемот исчез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724280" cy="44956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228600" y="480060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бросились искать Бегем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Его нужно найти! Он может заболеть желтух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Бегемот спрятался от преследователей и спокойно пошёл до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32763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другое утро Марабу зашёл к Бегемоту и, увидев его, в ужасе закрича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Что с тобой? Ты совсем жёлтый! Как лимон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рабу немедленно позвонил Докт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657600" y="380880"/>
            <a:ext cx="5248440" cy="60199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Доктор, что делать? Бегемот стал жёлтый-прежёлтый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Но вы же сами говорили - ваш Бегемот особенный: он то серый, то белый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Да нет, Доктор, тогда он просто побелел от страха. -Ах так!.. Это другое дело. Очевидно, у него желтуха. Высылаю «скорую помощь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038480" y="3505320"/>
            <a:ext cx="4800600" cy="31384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228600" y="3809880"/>
            <a:ext cx="380988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зьянки-санитары быстро отнесли на носилках Бегемота в машину «скорой помощи» и увезли в больн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4266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мотрите! - закричал Доктор, - что с Бегемотом? Он был серым, белым, жёлтым, а теперь он совсем красный! Это какой-то необыкновенный Бегемо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ет, Доктор. Это самый обыкновенный Бегемот, - сказал Марабу, - только ему стыдно, что он так боялся привив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3124080" cy="36576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3505320" y="152280"/>
            <a:ext cx="5638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Марабу пришёл в больницу навестить своего больного друга, Бегемот попросил его: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Мне очень скучно лежать: расскажи какую-нибудь сказ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Xopoшo, - сказал Марабу. - «Жил-был Бегемот. Он ужас до чего боялся прививок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19T18:08:5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