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FE78-0882-4B1D-B294-797BDC14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2D27-4DEC-4207-AE65-F9F5EF40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653-B41F-4D62-8D0B-58F5D495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46D8-DF52-4323-B73A-B51A9659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65F8-40AA-4264-8416-4149B39B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8790-FADF-4059-9A5D-2D856EF7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BF21-8097-47F4-9572-8C7EFD2C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FBD8-B4F7-45D3-9CE6-B8DDF1E8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976F-E17B-40B2-8E6B-EAF21CF4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C180-1414-4603-A699-E3FD36B6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F10-6448-490D-AC85-21DEE998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2843-7F14-44DB-8B6C-E26285DC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68AB-6A99-4219-96A7-EA4F984AA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4392360" cy="2376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Путешествие из Уруши </a:t>
            </a: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в город Благовещенс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411280" y="5157720"/>
            <a:ext cx="5205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втор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риянова Ольг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ассный руководитель 6 «а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У СОШ пгт. Уруша Амурской области, 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292720" y="549360"/>
            <a:ext cx="3240000" cy="439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521560" cy="6391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3280" y="6092640"/>
            <a:ext cx="5997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 мы красивые так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69080" cy="6123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Морально настраиваем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29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Народу было много, нас было мало, площадь была  большая, поэтому  мы очень громко на всю площадь кричали сво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название      </a:t>
            </a:r>
            <a:r>
              <a:rPr b="1" lang="en-US" sz="3600" spc="-1" strike="noStrike">
                <a:solidFill>
                  <a:srgbClr val="6600ff"/>
                </a:solidFill>
                <a:latin typeface="Comic Sans MS"/>
              </a:rPr>
              <a:t>«Отряд «Дружный»,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наш деви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«Мы ребята малыш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                   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родом мы из Уруш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Мы работать не леним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             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успевать везде стремимс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Как Тимур, помочь вам ра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                 </a:t>
            </a: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и не требуем награды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Наш командир пошёл сдавать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5110200" cy="6524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292360" y="1773000"/>
            <a:ext cx="4249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н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Заслуж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награ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543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165720"/>
            <a:ext cx="822960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Фото на памя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713800" cy="5185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59500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ак здорово, что все мы здесь сегодня собралис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635280" y="189000"/>
            <a:ext cx="5327640" cy="6480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281952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Нам надо помнить о тех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кто не вернулся с той войны, и кому мы обязаны своей жизнью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68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63813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Живые легенды среди на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Наш тимуровский отряд «Дружный» занял первое место в смотре тимуровских отрядов в Сковородинском районе, и нас наградили поездкой на областной слёт. Правда, администрация Сковородинского района выделила деньги только на три путёвки для детей, но и это уже хорош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Поехали те, кто внёс наиболее весомый вклад в работу отряда: командир отряда Мельник Кристина, Репина Таня и Каримов Шамшинг. А далее вы увидите историю нашего путешествия с самого начала и до конц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Мы поздравляем весь наш отряд с победой в смотре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1160" cy="64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481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слородный коктейль нам не повреди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83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689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61653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Как хорошо на свете жить! Мы едем дом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пользованные материа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41672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тографии из личного альбома Куприяновой О.В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ы взяты с сайт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ida. ucoz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ыкальное сопровож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сня «Дорогою доб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640720" cy="6408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Чтоб силёнок не лишиться, надо сильно подкрепи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68360" y="189000"/>
            <a:ext cx="6680520" cy="6219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2340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аш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Та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лени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оско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о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стремит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80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орошо среди девчонок мне на полочке леж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175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3671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ма, роди меня обрат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08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79280" y="5876640"/>
            <a:ext cx="48243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х, эти девочки меня с ума св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97880" cy="6448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995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петируем на набережной, позади Кит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13560" cy="6418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0435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д выступ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4:59:25Z</dcterms:created>
  <dc:creator>Teacher</dc:creator>
  <dc:description/>
  <dc:language>en-US</dc:language>
  <cp:lastModifiedBy>Teacher</cp:lastModifiedBy>
  <dcterms:modified xsi:type="dcterms:W3CDTF">2010-12-20T15:43:17Z</dcterms:modified>
  <cp:revision>20</cp:revision>
  <dc:subject/>
  <dc:title>Путешествие из Уруши в Благовещенск на слёт тимуровских отрядов</dc:title>
</cp:coreProperties>
</file>