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6A9-CC51-44CA-BEDA-E42E2C13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684-C1D2-4D5D-992D-4FC9DED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1EC-E88E-4BAD-874B-5E66E3BA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963-B6AE-4B80-8F9E-80D127BF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16B-86CA-4107-82DC-460FE02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F88-FD99-4B6B-BAE8-3709A22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D29-BA00-4C33-9698-CFD6EFE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5FC-30B4-49DE-8278-C5E6C3C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F25-65B9-4365-9C62-7E0EF35D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09C-6B73-4F06-A833-154DFBC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2CA-A58A-4496-8104-7449EE1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6C9-1519-4171-B597-4378006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DA0-9581-47DD-83D7-704017FD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4392360" cy="23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утешествие из Уруши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в город Благовеще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1280" y="5157720"/>
            <a:ext cx="52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ный руководитель 6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 пгт. Уруша Амурской области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240000" cy="43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521560" cy="63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6092640"/>
            <a:ext cx="5997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мы красивые та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рально настраива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роду было много, нас было мало, площадь была  большая, поэтому  мы очень громко на всю площадь кричали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звание      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«Отряд «Дружный»,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ш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«Мы ребята малыш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дом мы из Ур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Мы работать не леним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успевать везде стре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Как Тимур, помочь вам 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и не требуем наград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ш командир пошёл сдава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11020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92360" y="1773000"/>
            <a:ext cx="4249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слу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гра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16572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Фото на пам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 здорово, что все мы здесь сегодня собра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7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8195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ам надо помнить о те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то не вернулся с той войны, и кому мы обязаны своей жизн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381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ивые легенды среди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Наш тимуровский отряд «Дружный» занял первое место в смотре тимуровских отрядов в Сковородинском районе, и нас наградили поездкой на областной слёт. Правда, администрация Сковородинского района выделила деньги только на три путёвки для детей, но и это уже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ехали те, кто внёс наиболее весомый вклад в работу отряда: командир отряда Мельник Кристина, Репина Таня и Каримов Шамшинг. А далее вы увидите историю нашего путешествия с самого начала и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Мы поздравляем весь наш отряд с победой в смотр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лородный коктейль нам не повре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хорошо на свете жить! Мы едем до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4167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з личного альбома Куприяновой О.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ы взяты с сай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a. 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ня «Дорогою доб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силёнок не лишиться, надо сильно подкре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80520" cy="62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234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н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ск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трем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среди девчонок мне на полочке ле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7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ма, роди меня обра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5876640"/>
            <a:ext cx="482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х, эти девочки меня с ума с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9788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етируем на набережной, позади К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13560" cy="641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ыступ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4:59:25Z</dcterms:created>
  <dc:creator>Teacher</dc:creator>
  <dc:description/>
  <dc:language>en-US</dc:language>
  <cp:lastModifiedBy>Teacher</cp:lastModifiedBy>
  <dcterms:modified xsi:type="dcterms:W3CDTF">2010-12-20T15:43:17Z</dcterms:modified>
  <cp:revision>20</cp:revision>
  <dc:subject/>
  <dc:title>Путешествие из Уруши в Благовещенск на слёт тимуровских отрядов</dc:title>
</cp:coreProperties>
</file>