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7F58-240E-4EB5-BF25-C44D18D84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FEB3-0A9A-499C-80A1-130426C2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5A54-C635-48AA-B18C-5194588E8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4187-2C4F-4DBC-8C1D-EB4FA2DA4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B796-DA19-48C1-B027-A149C89DF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E695-9141-4A73-BFB3-1B2A1AFB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E24F8-781B-4F79-BDA7-79CD899A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505B-2B3D-4666-842F-518698E9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C369-D229-404F-A5AC-B5A3A7BB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9BC2-FB06-4E21-ADFB-CCB6E759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264F-3EA6-475B-8779-598FA4FF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51C7-D4BC-4275-974B-EE92EE86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9663-AAE7-41B0-8057-54492654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B39F-8386-49BD-86C0-8167F38B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D8128-537E-46EE-BC8D-1879F265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9DBB1-A833-43DF-A10E-023DEC859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52E8A-1249-4CB4-8024-F58E99BBC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ABF0-F2C4-4B0C-A3CB-4CC05D08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8E84-8CC9-4A32-9C96-05F640D9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F623-F933-460C-8BEA-93CA4A11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F742-D15D-4AA0-9934-C767AAB2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46B7-781E-4F51-8EA5-8FC05531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5BA2-5CBD-451A-AC31-A35F400D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C131-F078-4B09-98E7-6A6FBDD2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01CA-32D4-48DC-AC1D-80E691AF92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82CD-68D7-4462-9E74-586627478D7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1/796/2171796/f_11151768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990720"/>
            <a:ext cx="84582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временные образовательные технологии: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ыт применения на уроках гуманитарного цик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3828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пова Александра Валерьев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ель русского языка, литературы и ис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БОУ СОШ п. Солидар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нтеллектуально-творческие игр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ить сообщение «историка» о времени, нашедшем отражение в былине «Илья Муромец и Соловей-разбойни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ить сообщение-путешествие по географическим местам, упоминаемым  в был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ить сообщение «фольклориста» об обряде колядования (свадебном обряд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ить сообщение «историка» о князе Олеге, восстании декабристов, Полтавском сражении и т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ить сообщение «литературоведа» о саге о викинге Орваре Одде, на тему «Пушкин и декабрист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ить сообщение «искусствоведа» об оформлении древнерусских кни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ектно-исследовательская технолог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Образы былинных богатырей в произведениях литературы, живописи, музыкального искусства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Классицизм в русской живописи, архитектуре, музыке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«Говорящие» фамилии в комедии Д.И. Фонвизина «Недоросль»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рагмент проекта «Дом Пушкин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4572000" y="2057400"/>
            <a:ext cx="4572000" cy="25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онкурсная рабо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ченицы 9А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БОУ СОШ п. Солидар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Голубевой Маргар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уководитель Попова А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2012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Картинка 68 из 18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3828960"/>
            <a:ext cx="37782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324000" y="1915920"/>
            <a:ext cx="847224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ассмотреть аспекты биографии поэта, связанные с имениями Михайловское, Тригорское, Болдино; изучить их историю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характеризовать быт дворянской усадьбы пушкинск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о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-304920" y="1125360"/>
            <a:ext cx="9306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Молодой Пушкин довольно легко покинул стены, отчего дома и к великому удивлению многих критиков того времени ни разу в стихах не решился упомянуть ни матери, ни отц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А частое упоминания своего дяди Василия Львовича в скором времени стало откровенной иронией. При всем этом поэт ни в коем случае не был лишен родственных чувств. Своих братьев и сестру Пушкин любил самой нежной любовью всю жизнь, и до конца своих дней самоотверженно помогал им, нередко находясь в стесненных материальных обстоятельствах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755640" y="40464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ом для Пушк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:\Documents and Settings\юля\Рабочий стол\мой пушкин\vlpushkin.jpg"/>
          <p:cNvPicPr/>
          <p:nvPr/>
        </p:nvPicPr>
        <p:blipFill>
          <a:blip r:embed="rId1"/>
          <a:stretch/>
        </p:blipFill>
        <p:spPr>
          <a:xfrm>
            <a:off x="2664000" y="1133640"/>
            <a:ext cx="4108320" cy="44193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1547640" y="57340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асилий Львович Пушк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211280" y="1599840"/>
            <a:ext cx="49323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 Василием Львовичем связано детство А.С. Пушкина, первые шаги великого поэта в поэзии, поездка в 1811 году в Петербург, в Лицей. В дом дяди А.С. Пушкин, возвращенный из михайловской ссылки, приехал 8 сентября 1826 года сразу же после встречи с Николаем I в Чудовом дворце Кремля, да и потом не забывал дядю, навещал ег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2" descr="C:\Documents and Settings\юля\Рабочий стол\Копия мой пушкин\pushkin_04.jpg"/>
          <p:cNvPicPr/>
          <p:nvPr/>
        </p:nvPicPr>
        <p:blipFill>
          <a:blip r:embed="rId1"/>
          <a:stretch/>
        </p:blipFill>
        <p:spPr>
          <a:xfrm>
            <a:off x="993600" y="1341360"/>
            <a:ext cx="29386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-36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 Старой Басманной улице сохранился небольшой деревянный дом с девятью окнами по фасаду. В этом доме с 1824 по 1826 год жил родной дядя Пушкина, Василий Львович Пушкин, известный стихотворец начала XIX века, автор первых манифестов карамзинской школы, староста общества «Арзамас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удьба сводила его с замечательными людьми. Он был дружен со многими известными писателями и поэтами – Н.М. Карамзиным, В.А. Жуковским, К.Н. Батюшковым, П.А. Вяземским. В его гостеприимном доме бывали И.И. Дмитриев, Д.В. Давыдов, А.А. Дельвиг, А. Мицкевич. Родовой москвич, Василий Львович был своего рода достопримечательностью первопрестольной. Его знала вся Москва. И он знал всю Москву, любил родной город, участвовал во всех заметных событиях московской жизни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755640" y="333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ом В.Л. Пушкина на Старой Басма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Если я повелю своему генералу обернуться морской чайкой, и если генерал не выполнит приказа, это будет не его вина, а моя»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нтуан де Сент-Экзюпери «Маленький принц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нципы современного образо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учить познав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учить делать, работать, приобретать компетент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учить жить вместе, сосуществов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спитывать лич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нятийный аппар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хнолог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овокупность приемов, применяемых в каком-либо деле, мастерстве, искусстве (толковый словарь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дагогическая технолог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-упорядоченная совокупность действий, операций и процедур, инструментально обеспечивающих достижение прогнозируемого и диагностируемого результата в изменяющихся условиях образовательно-воспитательного процесса (В.А. Сластенин, Н.Г. Руденко, 199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временные образовательные технолог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УЛЬНЫЕ ТЕХНОЛОГИИ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блемное 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дульное 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ноуровневое 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ХНОЛОГИИ КОНЦЕНТРИРОВАННОГО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огружение»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икловая или «конвейерная» система препода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762120" y="914400"/>
            <a:ext cx="784836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ХНОЛОГИИ КОНТЕКСТНО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упповая работа как технология активно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овые технологи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ЕКТНО-ИССЛЕДОВАТЕЛЬСКИЕ ТЕХНОЛОГ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ХНОЛОГИИ ТЕСТОВОЙ ПРОВЕРКИ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ОННО-КОММУНИКАЦИОННЫЕ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А ИННОВАЦИОННОЙ ОЦЕНКИ «ПОРТФОЛИ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ДОРОВЬЕСБЕРЕГАЮЩИЕ ТЕХНОЛОГ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облемное обуче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ность целеполагания (цели преподавателя и учащихся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нарность (взаимодействие обучающего и обучаемых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блемность (наличие противоречия в учебном материале или в процессе его усвоен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имеры учебных пробле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Андрей Штольц - двойник или антипод Обломова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Обломов – герой или антигерой своего времени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Григорий Печорин – причина страданий других или жертва?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му Иван Грозный является одним из главных героев «Песни про …купца Калашникова?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то виноват в трагедии Катерины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рупповая работа как технология активного обучен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познавательный и профессиональный интере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творческий характер учебно-познавательной деятель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состязатель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 игровой характер проведения занят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) эмоциональное воздействие вышеназванных фактор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еимущества кооп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шение уровня осмысления материа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ст числа нестандартных реш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нос. «То, что дети могут сегодня сделать только вместе, завтра они в состоянии сделать самостоятельно» (Л.С. Выгот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итивное отношение к изучаемому материал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товность не отвлекаться от решаемой зада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0T16:01:38Z</dcterms:created>
  <dc:creator>1</dc:creator>
  <dc:description/>
  <dc:language>en-US</dc:language>
  <cp:lastModifiedBy>1</cp:lastModifiedBy>
  <dcterms:modified xsi:type="dcterms:W3CDTF">2013-04-06T12:51:1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