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E287-089D-484E-96D6-D3F1D9C1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27A-8D12-4CB5-90E8-FA8F5467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28F5-103E-4B7C-8C9B-AC9822F9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3D5E-C81C-44F8-9D4C-40E6E979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5ACD-E70B-453B-8B3F-F6830628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C400-2DE0-4327-B44E-1AB8FA23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B00F-1D65-4031-89E0-2F0F3DEA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4FF1-29A5-49C7-9235-A0AF42A1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96E7-0B18-43DF-996F-019A80E8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D96F-62C4-4A62-939B-6974FB0A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64EA-8DE7-4AA0-BCFE-6161EDDD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C47-A3E3-484C-8A15-F42ECC65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DDC5-8AE9-4020-8F12-EE370FAB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01D5-0493-4BBD-882B-90375033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DE82-99DA-478E-93BC-DB2C5465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C09D-ACCD-4DEF-A4E0-4C7C29A4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8B19-94F7-447A-B277-869C9B77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03AA-8FC6-4AFD-AB10-E03CC619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3A53-A129-4002-A1DC-4CA9A794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D828-6F3B-4E3C-B7E3-22202A7B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1635-6ECB-48E2-A60A-DF5DA5C3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A73-1A08-48D3-B05D-D8C63F93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19B-5DE3-4143-B167-5DDCE89A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82EC-A420-43DD-B581-DFF4AA8A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3B77-A98F-4FD4-A1D7-BDDC50B36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CA02-8AD9-48CC-B0BC-6598B4187C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1/796/2171796/f_1115176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временные образовательные технологии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ыт применения на уроках гуманитарного цик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ова Александра Валерь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русского языка, литературы и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БОУ СОШ п. Солидар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теллектуально-творческие иг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 сообщение «историка» о времени, нашедшем отражение в былине «Илья Муромец и Соловей-разбойни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 сообщение-путешествие по географическим местам, упоминаемым  в был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 сообщение «фольклориста» об обряде колядования (свадебном обряд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 сообщение «историка» о князе Олеге, восстании декабристов, Полтавском сражении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 сообщение «литературоведа» о саге о викинге Орваре Одде, на тему «Пушкин и декабрис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 сообщение «искусствоведа» об оформлении древнерусских кни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ектно-исследовательская технолог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бразы былинных богатырей в произведениях литературы, живописи, музыкального искусства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лассицизм в русской живописи, архитектуре, музыке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«Говорящие» фамилии в комедии Д.И. Фонвизина «Недоросль»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рагмент проекта «Дом Пушки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572000" y="2057400"/>
            <a:ext cx="45720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нкурсная раб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ницы 9А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БОУ СОШ п. Солидар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олубевой Маргар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уководитель Попова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012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Картинка 68 из 18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3828960"/>
            <a:ext cx="37782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24000" y="1915920"/>
            <a:ext cx="847224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ссмотреть аспекты биографии поэта, связанные с имениями Михайловское, Тригорское, Болдино; изучить их историю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характеризовать быт дворянской усадьбы пушкинск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-304920" y="1125360"/>
            <a:ext cx="9306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Молодой Пушкин довольно легко покинул стены, отчего дома и к великому удивлению многих критиков того времени ни разу в стихах не решился упомянуть ни матери, ни отц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А частое упоминания своего дяди Василия Львовича в скором времени стало откровенной иронией. При всем этом поэт ни в коем случае не был лишен родственных чувств. Своих братьев и сестру Пушкин любил самой нежной любовью всю жизнь, и до конца своих дней самоотверженно помогал им, нередко находясь в стесненных материальных обстоятельства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755640" y="404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ом для Пу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юля\Рабочий стол\мой пушкин\vlpushkin.jpg"/>
          <p:cNvPicPr/>
          <p:nvPr/>
        </p:nvPicPr>
        <p:blipFill>
          <a:blip r:embed="rId1"/>
          <a:stretch/>
        </p:blipFill>
        <p:spPr>
          <a:xfrm>
            <a:off x="2664000" y="1133640"/>
            <a:ext cx="4108320" cy="4419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1547640" y="57340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асилий Львович Пушк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211280" y="1599840"/>
            <a:ext cx="4932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 Василием Львовичем связано детство А.С. Пушкина, первые шаги великого поэта в поэзии, поездка в 1811 году в Петербург, в Лицей. В дом дяди А.С. Пушкин, возвращенный из михайловской ссылки, приехал 8 сентября 1826 года сразу же после встречи с Николаем I в Чудовом дворце Кремля, да и потом не забывал дядю, навещал е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C:\Documents and Settings\юля\Рабочий стол\Копия мой пушкин\pushkin_04.jpg"/>
          <p:cNvPicPr/>
          <p:nvPr/>
        </p:nvPicPr>
        <p:blipFill>
          <a:blip r:embed="rId1"/>
          <a:stretch/>
        </p:blipFill>
        <p:spPr>
          <a:xfrm>
            <a:off x="993600" y="1341360"/>
            <a:ext cx="293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Старой Басманной улице сохранился небольшой деревянный дом с девятью окнами по фасаду. В этом доме с 1824 по 1826 год жил родной дядя Пушкина, Василий Львович Пушкин, известный стихотворец начала XIX века, автор первых манифестов карамзинской школы, староста общества «Арзамас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удьба сводила его с замечательными людьми. Он был дружен со многими известными писателями и поэтами – Н.М. Карамзиным, В.А. Жуковским, К.Н. Батюшковым, П.А. Вяземским. В его гостеприимном доме бывали И.И. Дмитриев, Д.В. Давыдов, А.А. Дельвиг, А. Мицкевич. Родовой москвич, Василий Львович был своего рода достопримечательностью первопрестольной. Его знала вся Москва. И он знал всю Москву, любил родной город, участвовал во всех заметных событиях московской жизни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ом В.Л. Пушкина на Старой Басм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Если я повелю своему генералу обернуться морской чайкой, и если генерал не выполнит приказа, это будет не его вина, а моя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туан де Сент-Экзюпери «Маленький принц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нципы современного образ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ить познав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ить делать, работать, приобретать компетент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ить жить вместе, сосуществов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питывать лич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нятийный аппа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вокупность приемов, применяемых в каком-либо деле, мастерстве, искусстве (толковый словар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ическая техн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-упорядоченная совокупность действий, операций и процедур, инструментально обеспечивающих достижение прогнозируемого и диагностируемого результата в изменяющихся условиях образовательно-воспитательного процесса (В.А. Сластенин, Н.Г. Руденко, 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временные образовательные технолог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ЬНЫЕ ТЕХНОЛОГИИ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уль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оуровнев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ХНОЛОГИИ КОНЦЕНТРИРОВАН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гружение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кловая или «конвейерная» система препода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762120" y="914400"/>
            <a:ext cx="784836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И КОНТЕКСТ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овая работа как технология актив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ые технолог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НО-ИССЛЕДОВАТЕЛЬСКИЕ ТЕХН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И ТЕСТОВОЙ ПРОВЕРК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ОННО-КОММУНИКАЦИОНН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 ИННОВАЦИОННОЙ ОЦЕНКИ «ПОРТФОЛИ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блемное обуч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ность целеполагания (цели преподавателя и учащихс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нарность (взаимодействие обучающего и обучаемых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ность (наличие противоречия в учебном материале или в процессе его усво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меры учебных пробле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Андрей Штольц - двойник или антипод Обломова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ломов – герой или антигерой своего времени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ригорий Печорин – причина страданий других или жертва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Иван Грозный является одним из главных героев «Песни про …купца Калашникова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виноват в трагедии Катерин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упповая работа как технология активного обуч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познавательный и профессиональный интере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творческий характер учебно-познавательн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состязатель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игровой характер проведения занят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эмоциональное воздействие вышеназванных фактор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имущества ко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уровня осмысления материа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 числа нестандартных реш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нос. «То, что дети могут сегодня сделать только вместе, завтра они в состоянии сделать самостоятельно» (Л.С. Выгот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итивное отношение к изучаемому материа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товность не отвлекаться от решаемой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6:01:38Z</dcterms:created>
  <dc:creator>1</dc:creator>
  <dc:description/>
  <dc:language>en-US</dc:language>
  <cp:lastModifiedBy>1</cp:lastModifiedBy>
  <dcterms:modified xsi:type="dcterms:W3CDTF">2013-04-06T12:51:1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