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A44-9300-40FA-BD13-36E02D4D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5D8-8365-4DF6-AAB4-E559990E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7D5-9DA9-44E4-AAC4-D3C867DD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A2C-0FE0-47CA-A93F-3B30187C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13B7-6CC4-4CC5-9ED6-37685E13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7BA3-9357-4939-AF41-CC0EC31E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114D-0D29-45CE-AAD2-D32FEC97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1CC5-23BF-409F-925A-E54B8DBF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BD40-1884-4551-AF1F-49861025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7529-7DDE-43CA-82D6-E90BBCFF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F808-6EDA-42C5-B637-E23EAC5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D0E-64D2-4AB9-A529-CB5EC9A1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457A-E1B4-45B4-B525-46009DD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BA14-268F-4963-9D09-BE0EFA8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32D0-222A-4CFC-BE39-2913ECA2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1E20-4DE6-40CE-BF38-60E744CD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BAD9-0C08-431E-BECE-51BE445F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159-D8D7-4624-ACA4-4BCB226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A9A-E3F3-4F83-AC26-2C819941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64F-7F53-456D-8D42-D38208C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A9D-D529-4E4B-B864-EBD240B5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1B3-166F-4E56-8232-D531AD2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13D-1541-40D5-B120-77A5C81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9FB-22D3-487C-B1E1-E4D90AD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9C4-9AE0-4FB4-B090-107756B862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9D8D-7E1A-4460-9D74-4E67E9DEC7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4;&#1077;&#1094;&#1082;&#1080;&#1081;_&#1103;&#1079;&#1099;&#1082;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Средства музыкальной выразительност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инам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намика-различной степени силы звучания, громкости и их измен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1432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908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19120" y="20034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70360" y="35164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87680" y="42354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Штрих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Штрих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3200" spc="-1" strike="noStrike" u="sng">
                <a:solidFill>
                  <a:srgbClr val="1ace9f"/>
                </a:solidFill>
                <a:uFillTx/>
                <a:latin typeface="Verdana"/>
                <a:hlinkClick r:id="rId1"/>
              </a:rPr>
              <a:t>не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de-DE" sz="3200" spc="-1" strike="noStrike">
                <a:solidFill>
                  <a:srgbClr val="ffffff"/>
                </a:solidFill>
                <a:latin typeface="Verdana"/>
              </a:rPr>
              <a:t>Stric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— черта, линия) — способ (приём и метод) исполнения нот, группы нот, образующих зву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68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68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26996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0780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74760" y="20764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83080" y="35877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60840" y="4884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4040" y="4308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а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Лад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это система, связывающая звуки различной высоты, основывающаяся на устойчивых звуках - тонике. Лады в классической мажорно-минорной системе: мажор, минор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6996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57200" y="1355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1840" y="18604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3080" y="35164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7920" y="46688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ри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5680" y="4956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9320" y="39481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елод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ледний лепесток нашего цвет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ело́дия— один голос музыкальной фактуры, который трактуется в теории музыки и непосредственно воспринимается слухом как композиционно-техническое и ладовое целое. Совокупность мелодий, обладающих любым типологическим родством, в теории нередко именуют словом «мелос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ще говоря ,мелодия это певучее последование звуков, принадлежащих к какой-нибудь гамме или ладу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пространённое метафорическое определение: Мелодия — одноголосно выраженная музыкальная мысл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9832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23440" y="1355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47480" y="20764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99080" y="34434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76840" y="49561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6960" y="510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7120" y="41497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0440" y="23637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ело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внимание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аждый знает, с помощью средств музыкальной выразительности можно описать любую мелод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81471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ы примем СМВ за сердцевину цвет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аждый знает, с помощью средств музыкальной выразительности можно описать любую мелод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ы примем СМВ за сердцевину цвет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3429000"/>
            <a:ext cx="2592360" cy="23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ред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узык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рази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мб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вый лепесток – темб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́мб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фр. </a:t>
            </a:r>
            <a:r>
              <a:rPr b="0" i="1" lang="fr-FR" sz="2800" spc="-1" strike="noStrike">
                <a:solidFill>
                  <a:srgbClr val="ffffff"/>
                </a:solidFill>
                <a:latin typeface="Verdana"/>
              </a:rPr>
              <a:t>timbre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 — «колокольчик», «метка», «отличительный знак») — колористическая (обертоновая) окраска звука; По тембрам отличают друг от друга звуки одинаковой высоты и громкости, но исполненные на различных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нструмент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разными голосами, или же на одном инструменте, но разными способами, штрихами и т. п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8852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90480" y="31417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ит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ит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— соотношения длительностей звуков (нот) в их последова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оты могут иметь различную длительность, вследствие чего между ними создаются определенные временные соотношения. Объединяясь в различных вариациях, длительности нот образуют различные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ритмические фигур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из которых складывается общий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ритмический рисуно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музыкального произведения. Этот ритмический рисунок и есть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ит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4124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20160" y="1139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1840" y="19321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м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— скорость следования метрических счетных единиц. Некоторые жанры(марш, вальс) характеризуются определенным темпом. Для точного измерения темпа служит метрон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69960" y="30844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0780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9120" y="20034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54360" y="35164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05:26:47Z</dcterms:created>
  <dc:creator>Лена</dc:creator>
  <dc:description/>
  <dc:language>en-US</dc:language>
  <cp:lastModifiedBy>Лена</cp:lastModifiedBy>
  <dcterms:modified xsi:type="dcterms:W3CDTF">2013-02-18T07:14:44Z</dcterms:modified>
  <cp:revision>2</cp:revision>
  <dc:subject/>
  <dc:title>Средства музыкальной выразительности</dc:title>
</cp:coreProperties>
</file>