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A51B-AB8C-4C40-9EAC-0F682BC8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E282-A58A-4CB3-BFA2-7FCD02A6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E62E-2863-43D9-9ED9-8240D135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5168-1B1E-4B3F-AB42-8BC6486A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8AA1-BA72-425C-8F0F-BA3798BD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32EB-1748-4E6A-BFA6-4E5135A4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ECF5-8C8F-4868-9E75-5A485B09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D92B-09BF-44D3-8793-660F49BF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9B0F-94D0-43BD-A9CF-CA0F941B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6A45-B90A-447F-A627-0E4227CA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9F33-E82A-463C-80F7-73E6968A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69F8-0E77-4F34-8C18-FF4952AE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DDB7-A77A-4587-9919-D81DAF14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0CEC-8111-4B1F-A319-35FEB4FA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E5C7-A0C3-4128-BD9D-A4F30470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5D0E-0124-44B4-A695-10EAA9F8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AAED-3F02-4EC9-8297-5EDEF5CB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01FD-3779-4911-9F60-98C15472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6E4C-5924-4CEA-BF1E-B78DE756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F46A-E5A3-4DF6-8D41-19AAF0F3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18A9-EC91-4B8D-B365-7FAD2558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AED-C5DC-4045-9E77-BC483D07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DFEB-D8EA-4EF8-94EE-2184D30D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AE97-275C-4360-BCD0-87D46005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841E-F40B-442E-94CE-7427794DB74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9C45-CB9A-40E6-85A2-B9BF4669BBC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7;&#1084;&#1077;&#1094;&#1082;&#1080;&#1081;_&#1103;&#1079;&#1099;&#1082;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Средства музыкальной выразительности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динами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инамика-различной степени силы звучания, громкости и их изменения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414320" y="31561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М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79080" y="1211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б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19120" y="20034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ит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70360" y="351648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87680" y="423540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инам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Штрих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Штрих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ru-RU" sz="3200" spc="-1" strike="noStrike" u="sng">
                <a:solidFill>
                  <a:srgbClr val="1ace9f"/>
                </a:solidFill>
                <a:uFillTx/>
                <a:latin typeface="Verdana"/>
                <a:hlinkClick r:id="rId1"/>
              </a:rPr>
              <a:t>нем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i="1" lang="de-DE" sz="3200" spc="-1" strike="noStrike">
                <a:solidFill>
                  <a:srgbClr val="ffffff"/>
                </a:solidFill>
                <a:latin typeface="Verdana"/>
              </a:rPr>
              <a:t>Stric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— черта, линия) — способ (приём и метод) исполнения нот, группы нот, образующих зву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68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68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68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68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269960" y="31561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М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07800" y="1211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б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74760" y="20764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ит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83080" y="35877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60840" y="488484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штр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64040" y="43084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инам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ла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Лад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- это система, связывающая звуки различной высоты, основывающаяся на устойчивых звуках - тонике. Лады в классической мажорно-минорной системе: мажор, минор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269960" y="31561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М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57200" y="13557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б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31840" y="18604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ит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3080" y="351648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17920" y="466884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штрих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5680" y="49561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л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59320" y="394812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инам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мелод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следний лепесток нашего цвет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ело́дия— один голос музыкальной фактуры, который трактуется в теории музыки и непосредственно воспринимается слухом как композиционно-техническое и ладовое целое. Совокупность мелодий, обладающих любым типологическим родством, в теории нередко именуют словом «мелос»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роще говоря ,мелодия это певучее последование звуков, принадлежащих к какой-нибудь гамме или ладу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аспространённое метафорическое определение: Мелодия — одноголосно выраженная музыкальная мысль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2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198320" y="31561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М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23440" y="1355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б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47480" y="207648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ит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99080" y="344340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76840" y="495612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штр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26960" y="51004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л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67120" y="414972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инам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0440" y="23637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ело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Спасибо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з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внимание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5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5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аждый знает, с помощью средств музыкальной выразительности можно описать любую мелодию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280" y="2707920"/>
            <a:ext cx="81471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Мы примем СМВ за сердцевину цветк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Каждый знает, с помощью средств музыкальной выразительности можно описать любую мелодию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Мы примем СМВ за сердцевину цветк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2987640" y="3429000"/>
            <a:ext cx="2592360" cy="2376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ред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узыкаль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ырази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емб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ервый лепесток – темб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Те́мбр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(фр. </a:t>
            </a:r>
            <a:r>
              <a:rPr b="0" i="1" lang="fr-FR" sz="2800" spc="-1" strike="noStrike">
                <a:solidFill>
                  <a:srgbClr val="ffffff"/>
                </a:solidFill>
                <a:latin typeface="Verdana"/>
              </a:rPr>
              <a:t>timbre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 — «колокольчик», «метка», «отличительный знак») — колористическая (обертоновая) окраска звука; По тембрам отличают друг от друга звуки одинаковой высоты и громкости, но исполненные на различных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инструментах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разными голосами, или же на одном инструменте, но разными способами, штрихами и т. п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188520" y="1211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б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90480" y="31417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М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ит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Ритм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— соотношения длительностей звуков (нот) в их последователь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оты могут иметь различную длительность, вследствие чего между ними создаются определенные временные соотношения. Объединяясь в различных вариациях, длительности нот образуют различные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ритмические фигуры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из которых складывается общий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ритмический рисунок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музыкального произведения. Этот ритмический рисунок и есть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ритм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341240" y="31561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М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20160" y="1139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б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1840" y="193212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ит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емп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Темп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— скорость следования метрических счетных единиц. Некоторые жанры(марш, вальс) характеризуются определенным темпом. Для точного измерения темпа служит метрон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269960" y="308448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М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07800" y="1211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б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19120" y="20034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ит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54360" y="351648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тем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05:26:47Z</dcterms:created>
  <dc:creator>Лена</dc:creator>
  <dc:description/>
  <dc:language>en-US</dc:language>
  <cp:lastModifiedBy>Лена</cp:lastModifiedBy>
  <dcterms:modified xsi:type="dcterms:W3CDTF">2013-02-18T07:14:44Z</dcterms:modified>
  <cp:revision>2</cp:revision>
  <dc:subject/>
  <dc:title>Средства музыкальной выразительности</dc:title>
</cp:coreProperties>
</file>