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4DCA3-4E28-4805-8D38-403A937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697D-0B25-41F9-917E-FB5CA344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BFB3-558F-472D-BBD2-C5586725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2001-ED91-4179-8470-71E07E2E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8313-5CD6-4910-BA03-1D0B2893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AE97-790B-4189-B932-CD0C00E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8AE5-711B-4B73-A40D-76428FFE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0B4-FFA4-4999-9961-584873C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18B6-51DB-459D-B82C-5FE052C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EDCF-D351-458D-82B9-3A776BD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60F6-1BAC-4DCA-8F43-378FD920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6ECE-985A-4FFB-8409-6746CD17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3333-C806-45A5-A2AB-6A7E3B7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908F-865B-4FBB-BBE3-D632098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DE6C-D939-4ABD-A8F3-E71FE0EA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C2E5-979A-451B-ABE5-BDAD5CE8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967-E987-4D18-897E-6E22C06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03E2F-5605-406D-AB44-CDFFA0B6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3005-E07F-449A-8DF6-A7016D57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66F7E-4523-4DB0-AAE1-FB07EEC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CF31-3E30-4092-B83F-9A88F445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B02CB-1B18-4F37-AF31-04DB83AF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F533-82D4-43A1-8D31-2B70EE8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BF71-44DC-4157-ACB1-0938122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EAB9-2709-4DBD-8B20-254DB4A2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5CD-0BEA-4748-B30C-DDA5738ED2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enagold.ru/fon/clipart/p/pomid.html" TargetMode="External"/><Relationship Id="rId2" Type="http://schemas.openxmlformats.org/officeDocument/2006/relationships/hyperlink" Target="http://lenagold.ru/fon/clipart/p/pomid.html" TargetMode="External"/><Relationship Id="rId3" Type="http://schemas.openxmlformats.org/officeDocument/2006/relationships/hyperlink" Target="http://lenagold.ru/fon/clipart/p/pomid.html" TargetMode="External"/><Relationship Id="rId4" Type="http://schemas.openxmlformats.org/officeDocument/2006/relationships/hyperlink" Target="http://lenagold.ru/fon/clipart/p/pomid.html" TargetMode="External"/><Relationship Id="rId5" Type="http://schemas.openxmlformats.org/officeDocument/2006/relationships/hyperlink" Target="http://lenagold.ru/fon/clipart/p/pomid.html" TargetMode="External"/><Relationship Id="rId6" Type="http://schemas.openxmlformats.org/officeDocument/2006/relationships/hyperlink" Target="http://lenagold.ru/fon/clipart/p/pomid.html" TargetMode="External"/><Relationship Id="rId7" Type="http://schemas.openxmlformats.org/officeDocument/2006/relationships/hyperlink" Target="http://lenagold.ru/fon/clipart/p/pomid.html" TargetMode="External"/><Relationship Id="rId8" Type="http://schemas.openxmlformats.org/officeDocument/2006/relationships/hyperlink" Target="http://lenagold.ru/fon/clipart/p/pomid.html" TargetMode="External"/><Relationship Id="rId9" Type="http://schemas.openxmlformats.org/officeDocument/2006/relationships/hyperlink" Target="http://lenagold.ru/fon/clipart/p/pomid.html" TargetMode="External"/><Relationship Id="rId10" Type="http://schemas.openxmlformats.org/officeDocument/2006/relationships/hyperlink" Target="http://world.menu.ru/interesting/907-heinz-kak-nas-priuchili-k-ketchupu-7-foto.html" TargetMode="External"/><Relationship Id="rId11" Type="http://schemas.openxmlformats.org/officeDocument/2006/relationships/hyperlink" Target="http://world.menu.ru/interesting/907-heinz-kak-nas-priuchili-k-ketchupu-7-foto.html" TargetMode="External"/><Relationship Id="rId12" Type="http://schemas.openxmlformats.org/officeDocument/2006/relationships/hyperlink" Target="http://world.menu.ru/interesting/907-heinz-kak-nas-priuchili-k-ketchupu-7-foto.html" TargetMode="External"/><Relationship Id="rId13" Type="http://schemas.openxmlformats.org/officeDocument/2006/relationships/hyperlink" Target="http://world.menu.ru/interesting/907-heinz-kak-nas-priuchili-k-ketchupu-7-foto.html" TargetMode="External"/><Relationship Id="rId14" Type="http://schemas.openxmlformats.org/officeDocument/2006/relationships/hyperlink" Target="http://world.menu.ru/interesting/907-heinz-kak-nas-priuchili-k-ketchupu-7-foto.html" TargetMode="External"/><Relationship Id="rId15" Type="http://schemas.openxmlformats.org/officeDocument/2006/relationships/hyperlink" Target="http://world.menu.ru/interesting/907-heinz-kak-nas-priuchili-k-ketchupu-7-foto.html" TargetMode="External"/><Relationship Id="rId16" Type="http://schemas.openxmlformats.org/officeDocument/2006/relationships/hyperlink" Target="http://slavclub.ru/zagadki/ovochifrukti/1537-zagadki_pro_pomidori.html" TargetMode="External"/><Relationship Id="rId17" Type="http://schemas.openxmlformats.org/officeDocument/2006/relationships/hyperlink" Target="http://slavclub.ru/zagadki/ovochifrukti/1537-zagadki_pro_pomidori.html" TargetMode="External"/><Relationship Id="rId18" Type="http://schemas.openxmlformats.org/officeDocument/2006/relationships/hyperlink" Target="http://slavclub.ru/zagadki/ovochifrukti/1537-zagadki_pro_pomidori.html" TargetMode="External"/><Relationship Id="rId19" Type="http://schemas.openxmlformats.org/officeDocument/2006/relationships/hyperlink" Target="http://slavclub.ru/zagadki/ovochifrukti/1537-zagadki_pro_pomidori.html" TargetMode="External"/><Relationship Id="rId20" Type="http://schemas.openxmlformats.org/officeDocument/2006/relationships/hyperlink" Target="http://slavclub.ru/zagadki/ovochifrukti/1537-zagadki_pro_pomidori.html" TargetMode="External"/><Relationship Id="rId21" Type="http://schemas.openxmlformats.org/officeDocument/2006/relationships/hyperlink" Target="http://slavclub.ru/zagadki/ovochifrukti/1537-zagadki_pro_pomidori.html" TargetMode="External"/><Relationship Id="rId22" Type="http://schemas.openxmlformats.org/officeDocument/2006/relationships/hyperlink" Target="http://slavclub.ru/zagadki/ovochifrukti/1537-zagadki_pro_pomidori.html" TargetMode="External"/><Relationship Id="rId23" Type="http://schemas.openxmlformats.org/officeDocument/2006/relationships/hyperlink" Target="http://slavclub.ru/zagadki/ovochifrukti/1537-zagadki_pro_pomidori.html" TargetMode="External"/><Relationship Id="rId24" Type="http://schemas.openxmlformats.org/officeDocument/2006/relationships/image" Target="../media/image11.png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5832360" cy="5432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372360" y="1628640"/>
            <a:ext cx="259236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полнила: Смородинова Елена Эдуардовна, 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ОУ гимназии №1, г. Комсомольск -на – Амуре, Хабаровский кра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59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резентация на тему «ТОМАТ» (помидор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33840" y="4508640"/>
            <a:ext cx="4892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lenagold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fon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6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7"/>
              </a:rPr>
              <a:t>clipart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8"/>
              </a:rPr>
              <a:t>/p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9"/>
              </a:rPr>
              <a:t>pomid.html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869000"/>
            <a:ext cx="3888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1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2"/>
              </a:rPr>
              <a:t>world.menu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3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4"/>
              </a:rPr>
              <a:t>interesting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5"/>
              </a:rPr>
              <a:t>/907-heinz-kak-nas-priuchili-k-ketchupu-7-foto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5545800" y="40464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Garamond"/>
              </a:rPr>
              <a:t>Источник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5805360"/>
            <a:ext cx="41050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7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8"/>
              </a:rPr>
              <a:t>slavclub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19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0"/>
              </a:rPr>
              <a:t>zagadk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1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2"/>
              </a:rPr>
              <a:t>ovochifrukti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Garamond"/>
                <a:hlinkClick r:id="rId23"/>
              </a:rPr>
              <a:t>/1537-zagadki_pro_pomidori.html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4"/>
          <a:stretch/>
        </p:blipFill>
        <p:spPr>
          <a:xfrm>
            <a:off x="108000" y="981000"/>
            <a:ext cx="3703680" cy="4496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708360" y="1341360"/>
            <a:ext cx="52563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advTm="3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0"/>
          <p:cNvPicPr/>
          <p:nvPr/>
        </p:nvPicPr>
        <p:blipFill>
          <a:blip r:embed="rId1"/>
          <a:stretch/>
        </p:blipFill>
        <p:spPr>
          <a:xfrm>
            <a:off x="3492360" y="1268280"/>
            <a:ext cx="5112000" cy="510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17733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ак на нашей грядк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ыросли загад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очные да крупны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от такие кругл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Летом зеленеют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 осени краснею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расный, детки, но не ма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 огороде - не бура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очный лакомый синьор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Угада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2884320" y="189000"/>
            <a:ext cx="41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ознакомьтесь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0011392"/>
          <p:cNvPicPr/>
          <p:nvPr/>
        </p:nvPicPr>
        <p:blipFill>
          <a:blip r:embed="rId1"/>
          <a:stretch/>
        </p:blipFill>
        <p:spPr>
          <a:xfrm>
            <a:off x="3203640" y="1052640"/>
            <a:ext cx="5616360" cy="5221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63640" y="260280"/>
            <a:ext cx="63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аспорт синьора Помидо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2736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Настоящее имя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томат обыкновенны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Семейство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паслёновы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Родственники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картофель, табак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Плоды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помидор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Родина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– Южная Амери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038840" cy="2960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88000" y="1268280"/>
            <a:ext cx="3889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ревние ацтеки назвали этот плод «матль»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ранцузы переделали «матль» в «томат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тальянцы назвали его «помидор». По-итальянски это означает «золотое яблоко» (первыми итальянцы увидели жёлтые помидоры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мцы называли помидор «райское яблоко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ранцузы - «яблоко любви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"/>
          <p:cNvSpPr/>
          <p:nvPr/>
        </p:nvSpPr>
        <p:spPr>
          <a:xfrm>
            <a:off x="3214800" y="264960"/>
            <a:ext cx="29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О названи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0011476"/>
          <p:cNvPicPr/>
          <p:nvPr/>
        </p:nvPicPr>
        <p:blipFill>
          <a:blip r:embed="rId1"/>
          <a:stretch/>
        </p:blipFill>
        <p:spPr>
          <a:xfrm>
            <a:off x="3132000" y="1268280"/>
            <a:ext cx="5651640" cy="5373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476360" y="333360"/>
            <a:ext cx="68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иньор Помидор в Росси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716280"/>
            <a:ext cx="2664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18 веке помидор появился в Ро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вощной культурой растение было признано благодаря русскому учёному-агроному А. Т. Болотов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341360"/>
            <a:ext cx="25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нтересно, что долгое время помидор считался ядовитым и выращивался только для красоты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03280" y="264960"/>
            <a:ext cx="76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амятник синьору Помидору</a:t>
            </a:r>
            <a:r>
              <a:rPr b="1" lang="en-US" sz="2000" spc="-1" strike="noStrike">
                <a:solidFill>
                  <a:srgbClr val="0099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2492280"/>
            <a:ext cx="385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Жители города Каменка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Днепровская на Украин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шили установить памятни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«Слава помидору»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ыращивание томатов является основным занятием жителей  этого город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0560" y="333360"/>
            <a:ext cx="689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амый любимый праздник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иньора Помидора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3095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Ла Томати́на  — ежегодный праздник, который проходи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последнюю неделю августа    в испанском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ороде     Буньол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40 тысяч человек в течение часа кидают друг в друга 100 тонн помидоров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95640" y="1628640"/>
            <a:ext cx="4691160" cy="489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 advTm="3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716360" y="1413000"/>
            <a:ext cx="39610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оматы богаты клетчаткой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 также витаминами A и С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 они  очень вкусные!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х едят свежими, запечёнными, тушёными или обжаренными на грил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250"/>
              </a:spcBef>
              <a:buClr>
                <a:srgbClr val="ffcc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8480" cy="46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76720" y="450864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егодня томат – один из самых популярных овощей в мир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33804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Помидор завоевал весь мир</a:t>
            </a:r>
            <a:r>
              <a:rPr b="0" lang="en-US" sz="1800" spc="-1" strike="noStrike">
                <a:solidFill>
                  <a:srgbClr val="e5e5ff"/>
                </a:solidFill>
                <a:latin typeface="Garamond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870360" cy="397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845080" cy="438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16360" y="47628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з томатов готовят соусы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алаты и другие блюд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которые приобретаю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ятный цвет и аромат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 ещё помидоры консервирую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263160" y="549360"/>
            <a:ext cx="43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Garamond"/>
              </a:rPr>
              <a:t>Синьор Помидор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6:21:12Z</dcterms:created>
  <dc:creator>usr</dc:creator>
  <dc:description/>
  <dc:language>en-US</dc:language>
  <cp:lastModifiedBy>Admin</cp:lastModifiedBy>
  <dcterms:modified xsi:type="dcterms:W3CDTF">2013-03-20T11:46:47Z</dcterms:modified>
  <cp:revision>17</cp:revision>
  <dc:subject/>
  <dc:title>Слайд 1</dc:title>
</cp:coreProperties>
</file>