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E44E-48CA-4FA7-9751-0AE7B11D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13F3-00DA-428F-9623-1E12EA0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93DA-FAEB-4692-B3CA-8AC26F03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D51B-D1D0-4689-8323-12B7C79D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E40F-BC33-4100-947D-83EDA7A1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FFA-D293-455A-B310-CDE70223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4D54-F0B6-4556-A657-0F82A809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A417-B0B5-41AB-884F-C9AA003E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1E38-DC65-4176-AEEA-6B845E2B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FE58-92B4-451E-BF65-D637C2C5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2327-E8A6-4B61-B994-33864EA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DF7A-AF16-4B77-AABB-A1FF0600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54D7-79AC-4A3D-B2CA-59A3FE7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99E0-6955-4EEE-8151-7CF794F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80B5-57EB-4E46-A37A-C8458411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2195-457C-4FDE-B852-070FEFDE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AD07-EFCE-4B25-9A29-E7C884FE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A1D9-C9A4-4FF6-87B8-E931E780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AEF4-598E-4678-8815-56491B5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3403-A2A4-404F-8ACD-0FA2F3F0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E0C2-B369-4F4B-A37E-1F4F5A3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0B89-DBC2-4E16-8B0A-EA01CA0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1659-EF73-4392-825B-585B46AC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F156-8032-456A-8CAC-1FDECB2C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1F2F-922B-479C-99B8-53207AE9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9206-2C6D-491D-AE1A-903EC7103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nagold.ru/fon/clipart/p/pomid.html" TargetMode="External"/><Relationship Id="rId2" Type="http://schemas.openxmlformats.org/officeDocument/2006/relationships/hyperlink" Target="http://lenagold.ru/fon/clipart/p/pomid.html" TargetMode="External"/><Relationship Id="rId3" Type="http://schemas.openxmlformats.org/officeDocument/2006/relationships/hyperlink" Target="http://lenagold.ru/fon/clipart/p/pomid.html" TargetMode="External"/><Relationship Id="rId4" Type="http://schemas.openxmlformats.org/officeDocument/2006/relationships/hyperlink" Target="http://lenagold.ru/fon/clipart/p/pomid.html" TargetMode="External"/><Relationship Id="rId5" Type="http://schemas.openxmlformats.org/officeDocument/2006/relationships/hyperlink" Target="http://lenagold.ru/fon/clipart/p/pomid.html" TargetMode="External"/><Relationship Id="rId6" Type="http://schemas.openxmlformats.org/officeDocument/2006/relationships/hyperlink" Target="http://lenagold.ru/fon/clipart/p/pomid.html" TargetMode="External"/><Relationship Id="rId7" Type="http://schemas.openxmlformats.org/officeDocument/2006/relationships/hyperlink" Target="http://lenagold.ru/fon/clipart/p/pomid.html" TargetMode="External"/><Relationship Id="rId8" Type="http://schemas.openxmlformats.org/officeDocument/2006/relationships/hyperlink" Target="http://lenagold.ru/fon/clipart/p/pomid.html" TargetMode="External"/><Relationship Id="rId9" Type="http://schemas.openxmlformats.org/officeDocument/2006/relationships/hyperlink" Target="http://lenagold.ru/fon/clipart/p/pomid.html" TargetMode="External"/><Relationship Id="rId10" Type="http://schemas.openxmlformats.org/officeDocument/2006/relationships/hyperlink" Target="http://world.menu.ru/interesting/907-heinz-kak-nas-priuchili-k-ketchupu-7-foto.html" TargetMode="External"/><Relationship Id="rId11" Type="http://schemas.openxmlformats.org/officeDocument/2006/relationships/hyperlink" Target="http://world.menu.ru/interesting/907-heinz-kak-nas-priuchili-k-ketchupu-7-foto.html" TargetMode="External"/><Relationship Id="rId12" Type="http://schemas.openxmlformats.org/officeDocument/2006/relationships/hyperlink" Target="http://world.menu.ru/interesting/907-heinz-kak-nas-priuchili-k-ketchupu-7-foto.html" TargetMode="External"/><Relationship Id="rId13" Type="http://schemas.openxmlformats.org/officeDocument/2006/relationships/hyperlink" Target="http://world.menu.ru/interesting/907-heinz-kak-nas-priuchili-k-ketchupu-7-foto.html" TargetMode="External"/><Relationship Id="rId14" Type="http://schemas.openxmlformats.org/officeDocument/2006/relationships/hyperlink" Target="http://world.menu.ru/interesting/907-heinz-kak-nas-priuchili-k-ketchupu-7-foto.html" TargetMode="External"/><Relationship Id="rId15" Type="http://schemas.openxmlformats.org/officeDocument/2006/relationships/hyperlink" Target="http://world.menu.ru/interesting/907-heinz-kak-nas-priuchili-k-ketchupu-7-foto.html" TargetMode="External"/><Relationship Id="rId16" Type="http://schemas.openxmlformats.org/officeDocument/2006/relationships/hyperlink" Target="http://slavclub.ru/zagadki/ovochifrukti/1537-zagadki_pro_pomidori.html" TargetMode="External"/><Relationship Id="rId17" Type="http://schemas.openxmlformats.org/officeDocument/2006/relationships/hyperlink" Target="http://slavclub.ru/zagadki/ovochifrukti/1537-zagadki_pro_pomidori.html" TargetMode="External"/><Relationship Id="rId18" Type="http://schemas.openxmlformats.org/officeDocument/2006/relationships/hyperlink" Target="http://slavclub.ru/zagadki/ovochifrukti/1537-zagadki_pro_pomidori.html" TargetMode="External"/><Relationship Id="rId19" Type="http://schemas.openxmlformats.org/officeDocument/2006/relationships/hyperlink" Target="http://slavclub.ru/zagadki/ovochifrukti/1537-zagadki_pro_pomidori.html" TargetMode="External"/><Relationship Id="rId20" Type="http://schemas.openxmlformats.org/officeDocument/2006/relationships/hyperlink" Target="http://slavclub.ru/zagadki/ovochifrukti/1537-zagadki_pro_pomidori.html" TargetMode="External"/><Relationship Id="rId21" Type="http://schemas.openxmlformats.org/officeDocument/2006/relationships/hyperlink" Target="http://slavclub.ru/zagadki/ovochifrukti/1537-zagadki_pro_pomidori.html" TargetMode="External"/><Relationship Id="rId22" Type="http://schemas.openxmlformats.org/officeDocument/2006/relationships/hyperlink" Target="http://slavclub.ru/zagadki/ovochifrukti/1537-zagadki_pro_pomidori.html" TargetMode="External"/><Relationship Id="rId23" Type="http://schemas.openxmlformats.org/officeDocument/2006/relationships/hyperlink" Target="http://slavclub.ru/zagadki/ovochifrukti/1537-zagadki_pro_pomidori.html" TargetMode="External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5832360" cy="5432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372360" y="1628640"/>
            <a:ext cx="25923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полнила: Смородинова Елена Эдуардовна,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У гимназии №1, г. Комсомольск -на – Амуре, Хабаровский кра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59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резентация на тему «ТОМАТ» (помидор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33840" y="4508640"/>
            <a:ext cx="4892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lenagold.ru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fon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clipart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/p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pomid.html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869000"/>
            <a:ext cx="3888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world.menu.ru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interesting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/907-heinz-kak-nas-priuchili-k-ketchupu-7-foto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5545800" y="4046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Garamond"/>
              </a:rPr>
              <a:t>Источник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5805360"/>
            <a:ext cx="41050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8"/>
              </a:rPr>
              <a:t>slavclub.ru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0"/>
              </a:rPr>
              <a:t>zagadki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1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2"/>
              </a:rPr>
              <a:t>ovochifrukti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3"/>
              </a:rPr>
              <a:t>/1537-zagadki_pro_pomidori.html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4"/>
          <a:stretch/>
        </p:blipFill>
        <p:spPr>
          <a:xfrm>
            <a:off x="108000" y="981000"/>
            <a:ext cx="3703680" cy="4496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708360" y="1341360"/>
            <a:ext cx="52563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3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0"/>
          <p:cNvPicPr/>
          <p:nvPr/>
        </p:nvPicPr>
        <p:blipFill>
          <a:blip r:embed="rId1"/>
          <a:stretch/>
        </p:blipFill>
        <p:spPr>
          <a:xfrm>
            <a:off x="3492360" y="1268280"/>
            <a:ext cx="5112000" cy="5104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17733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ак на нашей грядк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ыросли загад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очные да крупны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от такие кругл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Летом зеленеют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 осени краснею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расный, детки, но не ма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 огороде - не бура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очный лакомый синьо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гадал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2884320" y="1890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Познакомьтесь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0011392"/>
          <p:cNvPicPr/>
          <p:nvPr/>
        </p:nvPicPr>
        <p:blipFill>
          <a:blip r:embed="rId1"/>
          <a:stretch/>
        </p:blipFill>
        <p:spPr>
          <a:xfrm>
            <a:off x="3203640" y="1052640"/>
            <a:ext cx="5616360" cy="5221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63640" y="260280"/>
            <a:ext cx="63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Паспорт синьора Помидо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273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Настоящее имя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томат обыкновенны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Семейство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паслёнов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Родственники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картофель, таба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Плоды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помидо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Родина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Южная Амер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038840" cy="2960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88000" y="1268280"/>
            <a:ext cx="3889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ревние ацтеки назвали этот плод «матль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ранцузы переделали «матль» в «томат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тальянцы назвали его «помидор». По-итальянски это означает «золотое яблоко» (первыми итальянцы увидели жёлтые помидор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мцы называли помидор «райское яблоко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ранцузы - «яблоко любви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3214800" y="26496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О назван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00011476"/>
          <p:cNvPicPr/>
          <p:nvPr/>
        </p:nvPicPr>
        <p:blipFill>
          <a:blip r:embed="rId1"/>
          <a:stretch/>
        </p:blipFill>
        <p:spPr>
          <a:xfrm>
            <a:off x="3132000" y="1268280"/>
            <a:ext cx="5651640" cy="5373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76360" y="333360"/>
            <a:ext cx="68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Синьор Помидор в Росси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716280"/>
            <a:ext cx="266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18 веке помидор появился в Ро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вощной культурой растение было признано благодаря русскому учёному-агроному А. Т. Болотов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341360"/>
            <a:ext cx="25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нтересно, что долгое время помидор считался ядовитым и выращивался только для красоты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03280" y="264960"/>
            <a:ext cx="76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Памятник синьору Помидору</a:t>
            </a:r>
            <a:r>
              <a:rPr b="1" lang="en-US" sz="2000" spc="-1" strike="noStrike">
                <a:solidFill>
                  <a:srgbClr val="0099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492280"/>
            <a:ext cx="38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Жители города Каменка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непровская на Украин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ешили установить памятни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«Слава помидору»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ыращивание томатов является основным занятием жителей  этого гор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0560" y="333360"/>
            <a:ext cx="689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Самый любимый праздник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синьора Помидор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095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а Томати́на  — ежегодный праздник, который проход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последнюю неделю августа    в испанском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ороде     Буньол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0 тысяч человек в течение часа кидают друг в друга 100 тонн помидоров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95640" y="1628640"/>
            <a:ext cx="4691160" cy="489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advTm="3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716360" y="1413000"/>
            <a:ext cx="39610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Томаты богаты клетчаткой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 также витаминами A и С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 они  очень вкусные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х едят свежими, запечёнными, тушёными или обжаренными на грил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8480" cy="46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76720" y="450864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егодня томат – один из самых популярных овощей в мир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33804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Помидор завоевал весь мир</a:t>
            </a:r>
            <a:r>
              <a:rPr b="0" lang="en-US" sz="1800" spc="-1" strike="noStrike">
                <a:solidFill>
                  <a:srgbClr val="e5e5ff"/>
                </a:solidFill>
                <a:latin typeface="Garamond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870360" cy="397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2845080" cy="4387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6360" y="47628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з томатов готовят соусы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алаты и другие блюд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оторые приобретаю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ятный цвет и арома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 ещё помидоры консервирую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263160" y="549360"/>
            <a:ext cx="43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Синьор Помидор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6:21:12Z</dcterms:created>
  <dc:creator>usr</dc:creator>
  <dc:description/>
  <dc:language>en-US</dc:language>
  <cp:lastModifiedBy>Admin</cp:lastModifiedBy>
  <dcterms:modified xsi:type="dcterms:W3CDTF">2013-03-20T11:46:47Z</dcterms:modified>
  <cp:revision>17</cp:revision>
  <dc:subject/>
  <dc:title>Слайд 1</dc:title>
</cp:coreProperties>
</file>