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C0A8-984D-41F0-8873-0B8F01815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9D76-6100-42A4-A11E-81D14C90F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866F-F19D-485B-B481-B0DECEC9F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F8B4-3CC9-4E65-ABCB-ABFD16992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14B1F-1191-4D10-B844-E6F19F570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50B14-C081-4F35-9EB9-CA443028E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DE72C-D616-4739-8191-E1F444897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C5EBC-A377-437C-AA4F-0941070FA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F3DB5-2338-4EB3-8945-6E4226612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111BA-09BB-44DF-901E-8E370F44B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B3C3C-928B-4AB8-A530-5CC33FF7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E656-A67F-4444-BC00-5D3C0051A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7AAC3-FC8F-46CD-8127-71839EBBC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20F03-380F-4612-A02B-8247BF03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865DA-82D5-47EE-A8D7-8C6DB9AE8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2C32F-A180-4CF6-875A-602C280E7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0A944-B1ED-4993-B8C0-16DDE39BB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E131-E04D-4698-A037-BEB89B577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2623-9B39-4DB6-9651-530BDAFA3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1188-4E8C-42A0-ADA1-940AF8B18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4D91-A4C4-4ADE-8B69-1B70DBB87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CDC3-5254-4882-AB08-91373B2A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9025-DAA5-4A33-820B-A659DA2A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28F2-2F37-45D3-ADED-488228BD1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898A3-4D0D-4C0D-A970-195CFF6E700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39382-D210-486A-A325-ADC48FD4999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3270240" y="404640"/>
            <a:ext cx="2862360" cy="2016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2"/>
          <a:stretch/>
        </p:blipFill>
        <p:spPr>
          <a:xfrm>
            <a:off x="6558120" y="4005360"/>
            <a:ext cx="2585880" cy="2852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3"/>
          <a:stretch/>
        </p:blipFill>
        <p:spPr>
          <a:xfrm>
            <a:off x="6669000" y="0"/>
            <a:ext cx="2475000" cy="2708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unitedkingdom_bigben_2002_03_07"/>
          <p:cNvPicPr/>
          <p:nvPr/>
        </p:nvPicPr>
        <p:blipFill>
          <a:blip r:embed="rId4"/>
          <a:stretch/>
        </p:blipFill>
        <p:spPr>
          <a:xfrm>
            <a:off x="3379680" y="4797360"/>
            <a:ext cx="2752920" cy="2060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"/>
          <p:cNvPicPr/>
          <p:nvPr/>
        </p:nvPicPr>
        <p:blipFill>
          <a:blip r:embed="rId5"/>
          <a:stretch/>
        </p:blipFill>
        <p:spPr>
          <a:xfrm>
            <a:off x="3379680" y="2629080"/>
            <a:ext cx="2606760" cy="2168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"/>
          <p:cNvPicPr/>
          <p:nvPr/>
        </p:nvPicPr>
        <p:blipFill>
          <a:blip r:embed="rId6"/>
          <a:stretch/>
        </p:blipFill>
        <p:spPr>
          <a:xfrm>
            <a:off x="274680" y="2254320"/>
            <a:ext cx="2641680" cy="2227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"/>
          <p:cNvPicPr/>
          <p:nvPr/>
        </p:nvPicPr>
        <p:blipFill>
          <a:blip r:embed="rId7"/>
          <a:stretch/>
        </p:blipFill>
        <p:spPr>
          <a:xfrm>
            <a:off x="179280" y="4557600"/>
            <a:ext cx="2895840" cy="2079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1" descr="bridge"/>
          <p:cNvPicPr/>
          <p:nvPr/>
        </p:nvPicPr>
        <p:blipFill>
          <a:blip r:embed="rId8"/>
          <a:stretch/>
        </p:blipFill>
        <p:spPr>
          <a:xfrm>
            <a:off x="108000" y="58680"/>
            <a:ext cx="320364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Тема: «Англия. Обычаи и традиции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pic: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 Britain. Customs and traditions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Цели урока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ормирование лексического навыка через знакомство со страноведческими реалиями страны изучаемого язык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работать употребление новых слов в упражнениях коммуникативного характе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263520" y="189000"/>
            <a:ext cx="856764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Exercises for students</a:t>
            </a:r>
            <a:br>
              <a:rPr sz="2400"/>
            </a:b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Ex.1</a:t>
            </a:r>
            <a:br>
              <a:rPr sz="2400"/>
            </a:b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Match the new words and their definitions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914400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) Mps (member of Parliament)  a) the part of the Parliament in the UK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)The Prime Minister                     consists of politicians who are no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)front benches                          elected by the people but are chosen 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)woolsack                                 by the govern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)The House of Lords                 b) the part of the parliament consists o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liticians who have been elected by th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eop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) the most senior judge in England W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)Lord Chancellor                       who is a member of the government and 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)The House of Commons           charge of the national court syste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) The political leader who is governed by 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)Speaker                                  parlia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) the front row of seats where ministers s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) someone who people have elected to represent them i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 parlia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) special seat for Lord Chancell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) he presides over the House of Comm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Ex.2 Fill in the gaps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end…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de………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ccupied………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ide…………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ponsible……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.election…………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consult………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mbolic…………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eptable….the whole ho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nches belong…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ts……………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) 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)pursu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)be….f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) occa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)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)gene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)b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)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)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)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)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Ex.3</a:t>
            </a:r>
            <a:br>
              <a:rPr sz="2800"/>
            </a:b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Mark these sentences true or false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) The British Parliament consists of the House of Commons and the Queen as its he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) If the House of Commons want to do smth., the House of Lords can’t stop th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)The Queen chooses the Prime Mini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) Every member of the House of Commons is called an M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)The members of the House of Lords debate the bill after it has been passed by the House of Comm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)The Parliament and the monarch have the same role in the govern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02:17Z</dcterms:created>
  <dc:creator>ЛЮБА</dc:creator>
  <dc:description/>
  <dc:language>en-US</dc:language>
  <cp:lastModifiedBy>Люба</cp:lastModifiedBy>
  <dcterms:modified xsi:type="dcterms:W3CDTF">2013-04-07T18:24:26Z</dcterms:modified>
  <cp:revision>9</cp:revision>
  <dc:subject/>
  <dc:title>Слайд 1</dc:title>
</cp:coreProperties>
</file>