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6DE-BBC3-489F-B35D-756B5268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1E9-67D9-468E-A50F-839960ED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270-25B9-45F8-877C-F16F4CB2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C05-9CAF-428B-B3C7-9EF551C5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632E-BED9-4085-9673-F2CC3B2A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DD96-B445-4BC2-AAC7-3A79B3ED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399E-DF8F-4AAA-A252-C044D39B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6300-2D2F-41CB-91D7-3EC2ADB8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1F9B-C8B0-428E-8ABD-75087BB9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E522-C628-44E6-B7FB-2B135557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7F0C-712F-41AC-B1F2-777FC4F2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F73-B661-4D64-A2C4-32372BF5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9C6A-38B1-4F26-9EDE-ED94D4E5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5ED9-9180-4FE8-9360-E10CBF93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AE0A-A383-4818-9715-A2EF379C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6920-75BA-4805-A5EE-B510D5BE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7564-31DC-4BD4-96FB-3CFF1CCC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63D-5B6D-41E9-95BD-A2757666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8B3-E8EA-4449-9127-FB20F643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E58-3CAA-4281-9C1D-269E8590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DBF-A46D-45BB-8C1A-A684A48E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295-12FF-49B9-9BAF-00D7ED77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4A6-AECD-44AF-8E29-4EA2CB1A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B22-4602-438C-96FF-7044C4D9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48EE-3E79-415A-9531-53525E032A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FF79-CA8F-44C6-B675-9BAF41F4A0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270240" y="404640"/>
            <a:ext cx="286236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6558120" y="4005360"/>
            <a:ext cx="2585880" cy="2852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6669000" y="0"/>
            <a:ext cx="2475000" cy="270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unitedkingdom_bigben_2002_03_07"/>
          <p:cNvPicPr/>
          <p:nvPr/>
        </p:nvPicPr>
        <p:blipFill>
          <a:blip r:embed="rId4"/>
          <a:stretch/>
        </p:blipFill>
        <p:spPr>
          <a:xfrm>
            <a:off x="3379680" y="4797360"/>
            <a:ext cx="2752920" cy="2060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5"/>
          <a:stretch/>
        </p:blipFill>
        <p:spPr>
          <a:xfrm>
            <a:off x="3379680" y="2629080"/>
            <a:ext cx="2606760" cy="216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6"/>
          <a:stretch/>
        </p:blipFill>
        <p:spPr>
          <a:xfrm>
            <a:off x="274680" y="2254320"/>
            <a:ext cx="2641680" cy="2227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7"/>
          <a:stretch/>
        </p:blipFill>
        <p:spPr>
          <a:xfrm>
            <a:off x="179280" y="4557600"/>
            <a:ext cx="2895840" cy="2079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bridge"/>
          <p:cNvPicPr/>
          <p:nvPr/>
        </p:nvPicPr>
        <p:blipFill>
          <a:blip r:embed="rId8"/>
          <a:stretch/>
        </p:blipFill>
        <p:spPr>
          <a:xfrm>
            <a:off x="108000" y="58680"/>
            <a:ext cx="32036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ма: «Англия. Обычаи и традиции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Britain. Customs and tradition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и урок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лексического навыка через знакомство со страноведческими реалиями страны изучаемого язы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ботать употребление новых слов в упражнениях коммуникативного характ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63520" y="189000"/>
            <a:ext cx="8567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xercises for students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x.1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Match the new words and their definitions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) Mps (member of Parliament)  a) the part of the Parliament in the UK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)The Prime Minister                     consists of politicians who are no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)front benches                          elected by the people but are chosen 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woolsack                                 by the gover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The House of Lords                 b) the part of the parliament consists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cians who have been elected by 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) the most senior judge in England W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)Lord Chancellor                       who is a member of the government and 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)The House of Commons           charge of the national court 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) The political leader who is governed by 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)Speaker                                  parlia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) the front row of seats where ministers s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) someone who people have elected to represent them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parlia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) special seat for Lord Chancell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) he presides over the House of Comm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Ex.2 Fill in the gap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pied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…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le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election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onsult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olic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ptable….the whole 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ches belong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s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pursu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be….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occ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)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)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)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)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)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Ex.3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rk these sentences true or false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The British Parliament consists of the House of Commons and the Queen as its he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If the House of Commons want to do smth., the House of Lords can’t stop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The Queen chooses the Prime Min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Every member of the House of Commons is called an M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The members of the House of Lords debate the bill after it has been passed by the House of Co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The Parliament and the monarch have the same role in the gover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2:17Z</dcterms:created>
  <dc:creator>ЛЮБА</dc:creator>
  <dc:description/>
  <dc:language>en-US</dc:language>
  <cp:lastModifiedBy>Люба</cp:lastModifiedBy>
  <dcterms:modified xsi:type="dcterms:W3CDTF">2013-04-07T18:24:26Z</dcterms:modified>
  <cp:revision>9</cp:revision>
  <dc:subject/>
  <dc:title>Слайд 1</dc:title>
</cp:coreProperties>
</file>