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2ED-0485-46CE-9FD7-AD3DE8F5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AC3-0C4E-4A82-81E1-4BDE4C8A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9EC-CFDB-4F6C-BAD2-CA74A770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0AF-3E40-4025-9024-F6F3A79A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4CED-36DC-470B-AAB7-D6F61957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4159-61B5-45A0-801D-7FD3AD3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83B2-1D5A-499A-A88D-71E8507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17CF-5523-452D-927C-539A2350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5077-A628-4BB5-B0DB-959BC96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8315-9E0E-455F-A684-84B8F060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B959-B053-4123-92B1-7813AD06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CD18-C618-4BF2-AAED-EC92FAD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FBC0-1950-4AE8-ABCC-161BC33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590-D990-47AF-82D0-D1B25103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A7A9-4E19-4CBA-93F1-AAB3CB06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EC7A-DA62-44A0-8D42-204597DA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502-3E8A-42E4-93B8-1F9D0BAD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EA5-3D8A-43EE-B0B9-AFBB2936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F47A-2B82-4C95-8390-6287997B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2BC-5A1C-432D-8013-7E51ED0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7D3-7E2A-452E-BE05-905F5DC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72A-802C-4B49-9472-909E594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B02-EF3B-4FCB-ABFA-7D17FF0A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E2B-49B3-46C4-B517-AFFE7595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9FD3-CF60-4FBF-A7C6-B9A468B7B9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56D6-2B5F-4349-BB36-56A494C42B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03360" y="1412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ам, героическим защитникам Ленинграда,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ам, участникам прорыва и снятия блокады любимого города,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ам, пережившим страшную 900-дневную блокаду,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Всем ныне живущим и павшим смертью храбрых 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0c0c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8200" y="272880"/>
            <a:ext cx="806760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4000" y="76320"/>
            <a:ext cx="8820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27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762120" y="625320"/>
            <a:ext cx="761976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7280" y="404640"/>
            <a:ext cx="885672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69696"/>
                </a:solidFill>
                <a:latin typeface="Tahoma"/>
              </a:rPr>
              <a:t>22 июня 1941 го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379520" y="1600200"/>
            <a:ext cx="638496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9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34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29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Tahoma"/>
              </a:rPr>
              <a:t>8 </a:t>
            </a:r>
            <a:r>
              <a:rPr b="0" lang="ru-RU" sz="3600" spc="-1" strike="noStrike">
                <a:solidFill>
                  <a:srgbClr val="969696"/>
                </a:solidFill>
                <a:latin typeface="Tahoma"/>
              </a:rPr>
              <a:t>сентября 1941г - 27 января 1944г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715080" cy="44989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848600" y="5952960"/>
            <a:ext cx="47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Tahoma"/>
              </a:rPr>
              <a:t>900 блокадных д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76944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427640" y="260280"/>
            <a:ext cx="4392360" cy="61930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42764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2:17:13Z</dcterms:created>
  <dc:creator>Игорь</dc:creator>
  <dc:description/>
  <dc:language>en-US</dc:language>
  <cp:lastModifiedBy>Игорь</cp:lastModifiedBy>
  <dcterms:modified xsi:type="dcterms:W3CDTF">2013-01-24T16:04:56Z</dcterms:modified>
  <cp:revision>4</cp:revision>
  <dc:subject/>
  <dc:title>Слайд 1</dc:title>
</cp:coreProperties>
</file>