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7A6-85BD-4094-BA99-E2A0D480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4C2C-B452-4EEA-91E7-1799B4AB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ED7-7B42-4C29-9F1F-26D55ACC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3BE4-606A-4C34-98B8-3ABA9FAC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73D8-EAC1-46FC-990F-FF68B9AF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E379-9DDB-4DAE-8BD7-9CC7DDB2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6283-6D8F-4976-B0C3-BA37A97C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BB4D-6D94-4A0B-A162-FEFFA85F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1E9C-5FAA-4BB5-963E-4EC2F406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E952-4018-45BC-A8EB-2724B468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286C-642F-46E9-B30D-4414C85B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CA7-7517-4FD1-868D-BFA43B40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419B-24CD-42B9-8EB9-440C70E3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1D28-E4AE-4287-A235-F47B3819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A93E-2E22-4D32-B4A9-AA1CA070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5247-B54F-40FE-B22B-959CB37F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1839-7557-484C-B27F-1D04B116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BFDA-C365-4D45-9C51-3C0AB335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4786-0878-43BD-AA1D-BB7B97B5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486-218D-4FAF-96C4-8B4C55D5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3EB3-6750-430E-B134-4D0044B5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0D2D-0FD2-4184-ACDF-94ADFDA3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EB9-4117-4FB1-ADA2-3D9D0336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65B-B087-43D9-BE67-F2C93542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BFA8-1851-48DE-9703-1B228468CD3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4D8B-FBF3-4252-8314-8E93E9036EC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03360" y="1412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Вам, героическим защитникам Ленинграда, 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Вам, участникам прорыва и снятия блокады любимого города,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Вам, пережившим страшную 900-дневную блокаду, 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Всем ныне живущим и павшим смертью храбрых 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38200" y="272880"/>
            <a:ext cx="8067600" cy="57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24000" y="76320"/>
            <a:ext cx="882000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127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62120" y="625320"/>
            <a:ext cx="761976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803240" y="0"/>
            <a:ext cx="495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287280" y="404640"/>
            <a:ext cx="8856720" cy="58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9696"/>
                </a:solidFill>
                <a:latin typeface="Tahoma"/>
              </a:rPr>
              <a:t>22 июня 1941 г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379520" y="1600200"/>
            <a:ext cx="63849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98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34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29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Tahoma"/>
              </a:rPr>
              <a:t>8 </a:t>
            </a:r>
            <a:r>
              <a:rPr b="0" lang="ru-RU" sz="3600" spc="-1" strike="noStrike">
                <a:solidFill>
                  <a:srgbClr val="969696"/>
                </a:solidFill>
                <a:latin typeface="Tahoma"/>
              </a:rPr>
              <a:t>сентября 1941г - 27 января 1944г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715080" cy="44989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848600" y="5952960"/>
            <a:ext cx="47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Tahoma"/>
              </a:rPr>
              <a:t>900 блокадных дн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483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6944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4392360" cy="61930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442764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2:17:13Z</dcterms:created>
  <dc:creator>Игорь</dc:creator>
  <dc:description/>
  <dc:language>en-US</dc:language>
  <cp:lastModifiedBy>Игорь</cp:lastModifiedBy>
  <dcterms:modified xsi:type="dcterms:W3CDTF">2013-01-24T16:04:56Z</dcterms:modified>
  <cp:revision>4</cp:revision>
  <dc:subject/>
  <dc:title>Слайд 1</dc:title>
</cp:coreProperties>
</file>