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>
    <p:sldRg st="1" end="1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3F31-5382-4A0D-8DA2-744EC8DEF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C0D4-F8F5-4D86-8339-2674245D9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2C9FFA-FDBF-4DE3-B157-12D2714AF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437D57-4D07-4CA5-B925-DECB56F37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CFF120-CDD6-4997-B5EC-75546E761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D9C164-0E8B-4AA8-AC95-1C5518E8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966A05-C9CA-45FE-8EB0-7CC0A3CF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717FC1-D725-4058-A52D-5681AFB5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16F84B-E231-4272-9796-F0DA6BE83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D8A2CF-8829-48EF-B8E4-70E1BBC94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BAB795-9733-41F6-81CB-915D8C502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649B-274C-426D-AA3A-3DA50005C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DA87-CF94-4A92-BA1B-91AA1B467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00B54-2153-4CB4-A326-C10EC7AB2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93D16-346A-4919-B1B5-4CA32D709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96B72-AA10-4914-BF05-7E9538EEA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FBB0B-F84F-4FEE-8F83-A9C6B70E3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70152-9B57-487B-9CA2-3942BBFA7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5BC0E-9A59-4C48-8534-D80950B3B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6751E-7295-4F13-B99A-9EEB635C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C356-435B-4C28-A58F-9FC77FAA7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2E37C-BF5B-43AC-B96B-D639CB80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AB6F4-07B0-4908-BB8B-E3720C5E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9D96D-4255-469E-87C7-ACE3992A9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40F32-3686-4104-986E-54D3CDAEF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90D76-B2BF-4C5E-8D91-3E869DB1F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504FC-6D31-4D26-97DF-919A615DD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16BC6-D696-4220-B3D7-78F285765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41182-12FE-45F6-9305-CB142A633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BACE1-08AB-487C-88F5-0EDD23832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29625-563A-4123-94F5-B47D0F7CA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4F6D-AA46-48F5-97CA-D15BA9614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0A8BB-EDCD-4968-BF4C-5F07F671C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88F00-D08C-499F-ADE6-7E07E642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49788-E1E1-4A29-852D-353CB0C0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4C19E-854E-4868-8280-D72ED17C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C1C99-D752-4980-819E-5E26772CE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05AB2-9740-4182-A7B6-1BEDF7B24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72B69-8DD0-4C66-8353-2A276F62E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4ADB2-F450-4E26-8C8B-4E5ABC137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FB805-E799-4B51-8C4D-A9804E2A2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1A8C6-6124-44C2-A79A-AE9E0061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35B9-3FA0-4342-9C9E-0D156C174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65C91-53F9-4EBD-AA73-F5394D572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8B5EE-5A53-4B4A-BAD8-C8C7CD67C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51547-C826-47DA-BC02-7CE31FEE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94B1B-1A9A-4393-830B-8EDF1025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4F774-217C-49D0-BCA9-6918B21C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0747E-AB79-4E13-B3AA-E99131B1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8DD16-0075-4878-9150-FDEA35328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CD090-CE60-4F77-8F46-243693C08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BDB12-FAB0-47E2-95C7-55DF36404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537FF-9FD7-4D15-B855-09FE59B5C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83B2-4EBD-4890-AA35-6695A449B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499E5-F71F-400E-B86D-2011CF0E7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3C6E4-5A0F-49D2-99F4-3168D434A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CDFAF-1F9A-454F-8E18-BF4634B63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31BFE-B173-4275-8E26-AA4A74FC7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3D3BB-55B7-47F6-9AB7-75D7AFF39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9484C-1AB1-41A5-A4AA-C70130B3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F6685-6A70-4F38-8B3C-6A2CCFA5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C956C-ED0F-44E6-B2E1-CCEDDB1A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4144A-09B3-4087-82F2-F859A8FD4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6ECF6-0F92-4C50-A86E-D5338794F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E9AC-940E-4CA4-8B79-91CA9E8E5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408E7-F767-4490-8C85-4E1833EBB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6E857-CD36-4023-BD32-84C6720EE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438F2-832A-4ED2-953B-128B4C2F8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88C01-52D3-4A18-A702-DAB8A8F7B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5D8EA-63F2-4447-84D4-9D8932FD6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E98B9-8589-4D0E-8704-AAD906381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D739E-9788-4E5C-9170-48773EA9C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062D8-F02C-4415-96DD-BDC5560F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08651-7977-47FC-8262-CD06F97C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E4994-D93A-4920-A094-560CCFBC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8DBB-CA6E-4036-9EA8-E060224F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9BEAF-0597-4647-AC67-021A1C51B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996DC-157F-484D-BCD0-C7D778648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12C35C-34A8-4B6C-98BB-F59CCD5E0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61B124-3A20-4A18-80E5-8AB580E5C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80E0D8-C1E5-4BAC-BC90-47ED9DE9D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37A73-BF78-4F1F-A185-8E46E5642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91EB14-9B0D-4105-A949-5AE654EBD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E077E4-154D-4150-AB83-92B5A42BC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27401-F9E2-4F49-8372-B7EA0DFA2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02489-A8C2-4D16-ADEE-32011623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64E6-FC87-430A-996D-7CAAA626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70349-3701-465A-A6D6-190EE27D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C08DF8-A7E6-45CE-B108-DDCCAE2A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1DCA69-057E-4CE8-BD1F-A5250327D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6A260-4BCD-4F16-9A75-07E866CDE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57A211-4E0C-4D30-8A51-E63CEFA1E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4F177E-E129-4D9C-AAEC-36F168E91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044BD6-9723-498B-94D4-4CDFCD233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3238C4-5CD0-4F31-9B1F-69E3352CF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9B646A-4638-4D3B-94E3-B5463B8AD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862139-0ED1-4078-B46B-C6A22D51E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4B8C-2F07-4AC1-9973-48CD897C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52AD86-A51C-4768-ABE4-A2CD7DA6F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356E61-5143-4DD3-9C5E-C82A72E5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36C1F-4CFF-467E-919B-093C2492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698E1E-AEF1-460A-BE08-DA8B1093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8B6430-E5C6-4410-A1AF-E8B1EEB8A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E000EB-4C77-4AF0-B57A-9F01C8A42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F40BE-70A9-45AB-B90E-AD4E17007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527901-6D9C-4BBF-A30B-608551B86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5912D0-52EE-432F-AEA8-E6FB0C15B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1C73C1-18E3-42FD-BEEE-B7FC671A5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e0e0e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7f7f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d8d8d8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8d8d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1d1d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7f7f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CC9A9-2D6B-4710-A86B-DE881B4D14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ffaf2">
              <a:alpha val="33000"/>
            </a:srgbClr>
          </a:solidFill>
          <a:ln cap="rnd" w="3240">
            <a:solidFill>
              <a:srgbClr val="dac2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5d5"/>
            </a:solidFill>
            <a:miter/>
          </a:ln>
          <a:effectLst>
            <a:outerShdw dist="12600" dir="5400000" blurRad="0" rotWithShape="0">
              <a:srgbClr val="b4a487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9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a7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D79ED-4CDE-42B6-A3E4-F2736AF676FB}" type="slidenum">
              <a:rPr b="0" lang="en-US" sz="1200" spc="-1" strike="noStrike">
                <a:solidFill>
                  <a:srgbClr val="bca7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26a5c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55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57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f7f7f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d8d8d8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9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e8e8e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8d8d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1d1d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0e0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88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f0f0f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0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f7f7f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06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3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14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aea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F24FA-4E42-4FE1-98BA-D16EC3C811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ffaf2">
              <a:alpha val="33000"/>
            </a:srgbClr>
          </a:solidFill>
          <a:ln cap="rnd" w="3240">
            <a:solidFill>
              <a:srgbClr val="dac2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5d5"/>
            </a:solidFill>
            <a:miter/>
          </a:ln>
          <a:effectLst>
            <a:outerShdw dist="12600" dir="5400000" blurRad="0" rotWithShape="0">
              <a:srgbClr val="b4a487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62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26a5c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267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82a0b9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a7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CC849-8711-460A-9213-40F937854F7A}" type="slidenum">
              <a:rPr b="0" lang="en-US" sz="1200" spc="-1" strike="noStrike">
                <a:solidFill>
                  <a:srgbClr val="bca7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26a5c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314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82a0b9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a7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B66E1-8D02-41F5-86F2-A05DC201E8B9}" type="slidenum">
              <a:rPr b="0" lang="en-US" sz="1200" spc="-1" strike="noStrike">
                <a:solidFill>
                  <a:srgbClr val="bca7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a7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B621C-422B-421D-8845-5CF19218A620}" type="slidenum">
              <a:rPr b="0" lang="en-US" sz="1200" spc="-1" strike="noStrike">
                <a:solidFill>
                  <a:srgbClr val="bca7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26a5c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a7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EF792-614C-4DBC-A781-CB080680B74D}" type="slidenum">
              <a:rPr b="0" lang="en-US" sz="1200" spc="-1" strike="noStrike">
                <a:solidFill>
                  <a:srgbClr val="bca7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a7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45EE6-832D-49E9-83FF-32D097B72FFF}" type="slidenum">
              <a:rPr b="0" lang="en-US" sz="1200" spc="-1" strike="noStrike">
                <a:solidFill>
                  <a:srgbClr val="bca7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3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484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5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3d9a7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dc3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94b6d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dd804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a7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8275D-85AC-40A2-8020-3399BB46C1CA}" type="slidenum">
              <a:rPr b="0" lang="en-US" sz="1200" spc="-1" strike="noStrike">
                <a:solidFill>
                  <a:srgbClr val="bca7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785520" y="1999800"/>
            <a:ext cx="8358120" cy="4071960"/>
          </a:xfrm>
          <a:prstGeom prst="rect">
            <a:avLst/>
          </a:prstGeom>
          <a:gradFill rotWithShape="0">
            <a:gsLst>
              <a:gs pos="0">
                <a:srgbClr val="94b6d2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7c5d50"/>
                </a:solidFill>
                <a:latin typeface="Corbel"/>
              </a:rPr>
              <a:t>Презентация к уроку русского языка в 7 классе по теме:</a:t>
            </a:r>
            <a:br>
              <a:rPr sz="4400"/>
            </a:br>
            <a:r>
              <a:rPr b="1" i="1" lang="en-US" sz="4400" spc="-1" strike="noStrike">
                <a:solidFill>
                  <a:srgbClr val="7c5d50"/>
                </a:solidFill>
                <a:latin typeface="Corbel"/>
              </a:rPr>
              <a:t>«Обобщение и систематизация сведений о деепричастии»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p:transition spd="med"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c5d50"/>
                </a:solidFill>
                <a:latin typeface="Corbel"/>
              </a:rPr>
              <a:t>Работа с разноуровневыми перфокартами.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46836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а 3-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а 4-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а 5-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Отметьте слитные написания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  преследовали (не)удачи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(не)видя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(не)умолкающий шёпот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  (не)ощущая холод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(не)возмущаясь       (не)замечая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  ничему (не)рад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(не)веря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(не) тёплая,а холодная                   (не)преодолимая преград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(не) доумевая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овсе(не)ласковое                            очень (не)простая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(не)произнося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(не)рассчитывая                                (не)зелёные листья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(не)стихая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(не) навидя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   (не ) согретая солнцем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(не) навидя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ичему(не) радуясь                          отнюдь (не) счастливая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(не)узнав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(не)удержавшиеся на ветках        (не) забывая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(не)радуясь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(не)знающая тепла                           (не) успокоившись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(не) взлюбив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икому (не)нужен                             (не) утешительные вести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(не)чувствуя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(не)проницаемая стена                   (не) доумевая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(не)замечая    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(не)утолимая печаль                        (не) сбывшиеся мечты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c5d50"/>
                </a:solidFill>
                <a:latin typeface="Corbel"/>
              </a:rPr>
              <a:t>Игра «Отыщите деепричастия»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553" name=""/>
          <p:cNvGraphicFramePr/>
          <p:nvPr/>
        </p:nvGraphicFramePr>
        <p:xfrm>
          <a:off x="1714680" y="1714680"/>
          <a:ext cx="5881680" cy="4557600"/>
        </p:xfrm>
        <a:graphic>
          <a:graphicData uri="http://schemas.openxmlformats.org/drawingml/2006/table">
            <a:tbl>
              <a:tblPr/>
              <a:tblGrid>
                <a:gridCol w="1817640"/>
                <a:gridCol w="2031840"/>
                <a:gridCol w="2032200"/>
              </a:tblGrid>
              <a:tr h="13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7030a0"/>
                          </a:solidFill>
                          <a:latin typeface="Corbel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7030a0"/>
                          </a:solidFill>
                          <a:latin typeface="Corbel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    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  </a:t>
                      </a:r>
                      <a:r>
                        <a:rPr b="1" lang="en-US" sz="3600" spc="-1" strike="noStrike">
                          <a:solidFill>
                            <a:srgbClr val="7030a0"/>
                          </a:solidFill>
                          <a:latin typeface="Corbe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     </a:t>
                      </a:r>
                      <a:r>
                        <a:rPr b="1" lang="en-US" sz="3600" spc="-1" strike="noStrike">
                          <a:solidFill>
                            <a:srgbClr val="7030a0"/>
                          </a:solidFill>
                          <a:latin typeface="Corbel"/>
                        </a:rPr>
                        <a:t>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 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   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  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    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 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   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    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</p:spTree>
  </p:cSld>
  <p:transition spd="med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«Наше ясное солнышко 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10" descr=""/>
          <p:cNvPicPr/>
          <p:nvPr/>
        </p:nvPicPr>
        <p:blipFill>
          <a:blip r:embed="rId1"/>
          <a:stretch/>
        </p:blipFill>
        <p:spPr>
          <a:xfrm>
            <a:off x="0" y="1557360"/>
            <a:ext cx="4716360" cy="436068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Я сказочник, былинник, гусляр живописи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удожник говорил, что вся его жизнь – в картин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7c5d50"/>
                </a:solidFill>
                <a:latin typeface="Corbel"/>
              </a:rPr>
              <a:t> </a:t>
            </a:r>
            <a:br>
              <a:rPr sz="2500"/>
            </a:br>
            <a:br>
              <a:rPr sz="2500"/>
            </a:br>
            <a:r>
              <a:rPr b="0" lang="ru-RU" sz="2500" spc="-1" strike="noStrike">
                <a:solidFill>
                  <a:srgbClr val="7c5d50"/>
                </a:solidFill>
                <a:latin typeface="Corbel"/>
              </a:rPr>
              <a:t> </a:t>
            </a:r>
            <a:r>
              <a:rPr b="0" lang="ru-RU" sz="2500" spc="-1" strike="noStrike">
                <a:solidFill>
                  <a:srgbClr val="7c5d50"/>
                </a:solidFill>
                <a:latin typeface="Corbel"/>
              </a:rPr>
              <a:t>Картина В.Васнецова «Аленушка»</a:t>
            </a:r>
            <a:endParaRPr b="0" lang="en-US" sz="25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534" name="Picture 4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3889440" cy="452592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 txBox="1"/>
          <p:nvPr/>
        </p:nvSpPr>
        <p:spPr>
          <a:xfrm>
            <a:off x="4284720" y="1523520"/>
            <a:ext cx="446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оет как песня картина и уводит нас в царство волшебно отжившей природы, в которой сказки рождались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dd8047"/>
                </a:solidFill>
                <a:latin typeface="Corbel"/>
              </a:rPr>
              <a:t>За раздольем нив,где зреет рожь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dd8047"/>
                </a:solidFill>
                <a:latin typeface="Corbel"/>
              </a:rPr>
              <a:t>На пеньке у омута лесного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dd8047"/>
                </a:solidFill>
                <a:latin typeface="Corbel"/>
              </a:rPr>
              <a:t>Песенку Аленушка </a:t>
            </a:r>
            <a:r>
              <a:rPr b="1" i="1" lang="ru-RU" sz="2000" spc="-1" strike="noStrike">
                <a:solidFill>
                  <a:srgbClr val="dd8047"/>
                </a:solidFill>
                <a:latin typeface="Arial"/>
              </a:rPr>
              <a:t> поёт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c5d50"/>
                </a:solidFill>
                <a:latin typeface="Corbel"/>
              </a:rPr>
              <a:t>Замените подчеркнутые глаголы деепричастиями. Как изменится пунктуация предложений? Подчеркните деепричастные обороты, расставьте знаки препинания.</a:t>
            </a: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Картина В.М. Васнецова «Аленушка» производит грустное впечатление,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rbel"/>
              </a:rPr>
              <a:t>заставляет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задуматься о горькой судьбе одинокого человека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rbel"/>
              </a:rPr>
              <a:t>Уронила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голову на руки, отрешено смотрит вдаль бедная девушка. Переживания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rbel"/>
              </a:rPr>
              <a:t>сжимают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сер_це,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туманят ее безрадостный взгляд. Неласково шумят деревья,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rbel"/>
              </a:rPr>
              <a:t>превратились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 плотную стену.  Серое небо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rbel"/>
              </a:rPr>
              <a:t>навевает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тревожные мысли, окутывает холодом. Глубокое озеро тоскливо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rbel"/>
              </a:rPr>
              <a:t>чернеет,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пугает неизвестностью. Золотые листья окружают Алёнушку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rbel"/>
              </a:rPr>
              <a:t>напоминают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несбывшихся мечтах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Кажется, что осенняя природа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rbel"/>
              </a:rPr>
              <a:t>чувствует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настроение девушки, стремится утешить печальную красавицу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7c5d50"/>
                </a:solidFill>
                <a:latin typeface="Corbel"/>
              </a:rPr>
              <a:t>Ключ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Картина В.М. Васнецова «Аленушка» производит грустное впечатление,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rbel"/>
              </a:rPr>
              <a:t>заставляя  задуматься о горькой судьбе одинокого человека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orbel"/>
              </a:rPr>
              <a:t>Уронив голову на руки,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отрешено смотрит вдаль бедная девушка. Переживания,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rbel"/>
              </a:rPr>
              <a:t>сжимав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orbel"/>
              </a:rPr>
              <a:t>сер_це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,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туманят ее безрадостный взгляд. Неласково шумят деревья,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rbel"/>
              </a:rPr>
              <a:t>превратившись в плотную стену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.  Серое небо,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rbel"/>
              </a:rPr>
              <a:t>навевая тревожные мысли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, окутывает холодом. Глубокое озеро ,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rbel"/>
              </a:rPr>
              <a:t>тоскливо чернея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, пугает неизвестностью. Золотые листья окружают Алёнушку,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rbel"/>
              </a:rPr>
              <a:t>напоминая о несбывшихся мечтах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Кажется, что осенняя природа чувствует настроение девушки, стремится утешить печальную красавицу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en-US" sz="2200" spc="-1" strike="noStrike">
                <a:solidFill>
                  <a:srgbClr val="7c5d50"/>
                </a:solidFill>
                <a:latin typeface="Corbel"/>
              </a:rPr>
              <a:t>Выборочно-распределительный диктант</a:t>
            </a:r>
            <a:br>
              <a:rPr sz="2200"/>
            </a:br>
            <a:r>
              <a:rPr b="0" lang="en-US" sz="2200" spc="-1" strike="noStrike">
                <a:solidFill>
                  <a:srgbClr val="7c5d50"/>
                </a:solidFill>
                <a:latin typeface="Corbel"/>
              </a:rPr>
              <a:t>Цель: закрепить умения определять вид деепричастия.</a:t>
            </a: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Задание: сравнить деепричастия из 1 и 2 предложений. Чем они отличаются? Заполните таблицу ,определяя вид деепричастий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Отражаясь в воде, пригорюнившись, качая вершинами , убежав от всех, устремив взгляд, облетая с деревьев, ощущая тревогу, прислушиваясь к шорохам, погрузившись в раздумь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сидя на камне, опустив голову, глядя в воду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1357200" y="3860640"/>
          <a:ext cx="6886800" cy="2232000"/>
        </p:xfrm>
        <a:graphic>
          <a:graphicData uri="http://schemas.openxmlformats.org/drawingml/2006/table">
            <a:tbl>
              <a:tblPr/>
              <a:tblGrid>
                <a:gridCol w="3214800"/>
                <a:gridCol w="3672000"/>
              </a:tblGrid>
              <a:tr h="79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еепричастия совершенного ви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еепричастия несовершенного ви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c5d50"/>
                </a:solidFill>
                <a:latin typeface="Corbel"/>
              </a:rPr>
              <a:t>Работа в группах.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Найдите в тексте деепричастия,  которые обозначают добавочные действия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1-по  аналогии с человеческими качествам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2-по движению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3-по зрительным впечатлениям   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полните своими примерами,  составьте с придуманными словами  предложения, характеризующие девушку.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c5d50"/>
                </a:solidFill>
                <a:latin typeface="Corbel"/>
              </a:rPr>
              <a:t>Исправьте грамматические ошибки.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одсказка: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действие, выраженное деепричастием , должно относиться к тому же лицу, к  которому относится и действие, выраженное глаголом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1 Глядя вдаль, у неё возникают грустные мысл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2 Думая о прошлом ,в её воспоминании оживают счастливые дн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3 Рассматривая картину , чувствуется отношение художника  к одинокой Алёнушке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Задание повышенной трудности : распространите предложения деепричастными оборотами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рирода грустит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Лес окружает Алёнушку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Тёмная вода успокаивает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c5d50"/>
                </a:solidFill>
                <a:latin typeface="Corbel"/>
              </a:rPr>
              <a:t>Игра  «Наведи порядок»                                                                                                             </a:t>
            </a:r>
            <a:r>
              <a:rPr b="0" lang="en-US" sz="2400" spc="-1" strike="noStrike">
                <a:solidFill>
                  <a:srgbClr val="7c5d5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7c5d50"/>
                </a:solidFill>
                <a:latin typeface="Corbel"/>
              </a:rPr>
              <a:t>	</a:t>
            </a:r>
            <a:r>
              <a:rPr b="0" lang="en-US" sz="1800" spc="-1" strike="noStrike">
                <a:solidFill>
                  <a:srgbClr val="7c5d50"/>
                </a:solidFill>
                <a:latin typeface="Corbel"/>
              </a:rPr>
              <a:t>Восстановите предложения, соединив правильно их части </a:t>
            </a: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500040" y="15717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Отражаясь, берёзы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Уронив голову на руки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Напоминая о несбывшихся мечтах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Переживания ,сжимая сердце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648320" y="1356840"/>
            <a:ext cx="403848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туманят её безрадостный взгляд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золотые листья окружают Алёнушку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отрешённо смотрит вдаль бедная девушк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зеленели в пруду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94b6d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07:00:50Z</dcterms:created>
  <dc:creator>пользователь</dc:creator>
  <dc:description/>
  <dc:language>en-US</dc:language>
  <cp:lastModifiedBy>кибирева</cp:lastModifiedBy>
  <dcterms:modified xsi:type="dcterms:W3CDTF">2013-04-07T10:54:23Z</dcterms:modified>
  <cp:revision>61</cp:revision>
  <dc:subject/>
  <dc:title>Слайд 1</dc:title>
</cp:coreProperties>
</file>