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B7E-C20A-482E-AA10-97184D78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0A4-A1A6-4BC3-9620-27BAF0E9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230CC-17B7-470E-85C4-730492CD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D8FC7-D6DB-411E-9626-2DB80CFB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A2EA5-51AC-4CB9-B0FC-9DB8B2DE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74439-65FA-4197-84D0-7054DB37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03E4E-C878-4215-A649-8FEB6D9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86E67-30CF-4E69-8310-1FF22B57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A0E11-1A3E-43C3-B285-F715DFA2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CBBFC-99E7-49C0-AEDC-959432E5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D5AA3-330D-4116-BD4F-0DD253A0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48A-4A35-4C79-8CE5-CD445E3F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1AB-E305-4530-8DB9-87704576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D938-CEB4-43C3-9676-0887AD78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F51C-29F8-4E8E-ABDE-C7A26F6A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0AF2-DC96-41E9-B401-D2714A3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6C51-774B-4FED-98F1-46A6B76A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4AC6-E08E-4265-A0DB-6DEA44B0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5422-562C-4A42-84CE-EA6996D3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C0F5-E499-4401-8966-B8C83CBD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1E8-31EB-4865-BB86-473FFE5F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BD21-CEDA-46E1-A348-6AD19790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FEA5-8FFB-4B1D-A735-35ADB2E9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46D3-3C04-4667-89FA-20053710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7DF8-85DB-4347-AA96-9CF7E450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BF21-5E4A-431D-9D54-C9B594A5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38E5D-864A-478E-B8DC-B9D024CC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4D6C-D009-4259-9ADB-2D47768A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0180-A176-46AF-BEFE-AACC7304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0776-6EA6-45A7-A9D0-C1B4142A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3005-1156-44AF-A85C-6A8C9E09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A44-66E8-45ED-8A26-E8F3C9AD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BFA75-0F57-4488-ADCF-6B56474A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D20AD-42F1-48E4-A31D-F826C28D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B90E-3BFD-4273-BEA7-11EB525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227B-E456-45C8-96E1-FC49138E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0B6A-48B9-461A-926F-F6D75E08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6514-0060-412D-BECF-8FB99D44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CDF21-24A6-4CCC-BCBD-FB894E4E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2FE46-DB01-456B-B1DB-7B60AC07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ED9C7-12BB-4DF1-BA2D-4451DB27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BAB5C-E69E-4A72-AB04-1A9B840E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773-A06F-4021-A86E-8A17A0B9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EEE81-BFF2-429B-AB82-47456BA2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2401-12CC-4BA5-A395-B963C200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6853-0E1A-4905-A51E-F0004ECE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F5562-3AD9-49D3-B7F3-E86874F2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BBA59-8316-4E42-A090-6BA5370C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6526B-72E9-464A-9FF1-4DBD63FB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BB04-EB7F-4820-99BC-F512740D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50457-6840-4A8E-915F-AD929DB9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C7AD-C00A-43A5-B9FE-463CE205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133F-D36C-49C2-B845-44858415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841-1CF5-438A-9C89-562FCF85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93A24-6882-4C5E-8810-73EF4FFE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35E17-1F8D-4C29-BC4C-9BAA786C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41CD-1A36-46AE-821B-9874CC09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A399F-0689-403F-9020-12825411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72888-C94B-4497-B32D-813C5B5D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7C215-9002-45DE-AFF9-91806532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0EE54-4052-4AB4-B891-4F5E1CE1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FBF1-90B7-4EDE-B31B-DF4E874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E4F2E-1B00-4E4C-83A3-C27A0421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ADCF-D7EA-498F-A4C7-1B7BEBC4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D3A-5F6D-4F5B-A4DB-F96257E8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10441-B3FF-43E9-A28A-40C506D1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B7E2C-290E-4BB7-B1A5-C9388B5A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59B6D-06EA-4CEA-9665-F054B75B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4868E-031F-4221-8B5E-ED786F77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AB4F6-C137-438D-845B-221C6A8D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5C43-4039-4E9D-9733-243BCF3E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934D0-8BC6-41F6-9911-BEEF41F7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71E6A-6C0E-435C-B335-642E042B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80683-2071-4A1C-9C83-C4DC53E7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DFC7C-D8A8-42D7-9E16-BD7FA565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7FC-F371-4F4D-9809-DBFF500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E7D9F-AC66-49E8-A232-7DE7BE7F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24AB8-D020-4622-B6FC-A6A8BA5D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7264A-6D66-4164-A25D-CF8E2D7D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61C63-8C93-4B33-B832-BD4EF503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A0EAE-D5D5-4B18-940E-F3A9200F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719A3-FEB8-49FA-B3A4-6BBC7147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FAA81-BCAB-491A-8560-A509FBD1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E54BB-0BD2-49AC-A966-F5F8D927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55350-ACEB-4121-A621-22430FF9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8BE81-3C8A-4AF2-B78F-9660BFE6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145-2877-4ED3-9775-B974989D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8FB7-515D-47CE-BB59-7CB7AAA8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A1945-881D-48E7-9429-1B8D2F8A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20738-70AE-4A5F-860F-1D4993A3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0150D-C031-4E66-99DB-6CFD4A63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ED2E8-5B80-4362-BAAA-2F566B4B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EE80F-C990-464B-AFFD-7516E0B3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75A19-C7A7-4BBC-B7EB-D3BBBB6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0A1A4-B07F-400F-AD34-4CB6D227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0239A-F26B-4216-9175-1FF22DBC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B179A-D6F0-4330-8F63-D13ECBDD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CF9-C7C5-4B89-B604-55FF24F1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84991-F38A-4C79-ADA9-D0C451D7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86E9C-32B1-4C22-9DCB-7DBC410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F05EA-A64B-4556-A4A4-ECA08634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BBB87-4B01-4272-8399-3726B1BA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958D2-6DA3-4610-97AD-54239E1A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77A98-C6B6-468C-8C1A-0069CA39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A00AD-4ED5-4B9F-B567-E749A920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D4102-F238-4AE5-BB56-4FB09FD3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CEA1E-A9DC-4C69-A7FD-C9690767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8B9CF-7D36-49B6-A723-074B04AE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D3AD-970A-4654-B3EB-B2D152BC7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af2">
              <a:alpha val="33000"/>
            </a:srgbClr>
          </a:solidFill>
          <a:ln cap="rnd" w="3240">
            <a:solidFill>
              <a:srgbClr val="dac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5d5"/>
            </a:solidFill>
            <a:miter/>
          </a:ln>
          <a:effectLst>
            <a:outerShdw dist="12600" dir="5400000" blurRad="0" rotWithShape="0">
              <a:srgbClr val="b4a487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4B79-7841-4AFF-8C1A-17CE4EBA2649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5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0366-EAF2-4EC3-83F7-7A3E28257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af2">
              <a:alpha val="33000"/>
            </a:srgbClr>
          </a:solidFill>
          <a:ln cap="rnd" w="3240">
            <a:solidFill>
              <a:srgbClr val="dac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5d5"/>
            </a:solidFill>
            <a:miter/>
          </a:ln>
          <a:effectLst>
            <a:outerShdw dist="12600" dir="5400000" blurRad="0" rotWithShape="0">
              <a:srgbClr val="b4a487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6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267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82a0b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DC35-C13C-40C6-9649-DADB47902777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314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82a0b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7FAE-AAF8-4CE4-A7E9-F43F8256F53C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FE30-1C08-46BF-9695-67A256722E19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D643-FC22-445D-805A-B04B5AA9C922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8C0F-6C43-4CB7-A113-13C6EF064E83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8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3d9a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dc3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E84B-5182-4DA0-81E6-1FD8BD65CDC2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85520" y="1999800"/>
            <a:ext cx="8358120" cy="4071960"/>
          </a:xfrm>
          <a:prstGeom prst="rect">
            <a:avLst/>
          </a:prstGeom>
          <a:gradFill rotWithShape="0">
            <a:gsLst>
              <a:gs pos="0">
                <a:srgbClr val="94b6d2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c5d50"/>
                </a:solidFill>
                <a:latin typeface="Corbel"/>
              </a:rPr>
              <a:t>Презентация к уроку русского языка в 7 классе по теме:</a:t>
            </a:r>
            <a:br>
              <a:rPr sz="4400"/>
            </a:br>
            <a:r>
              <a:rPr b="1" i="1" lang="en-US" sz="4400" spc="-1" strike="noStrike">
                <a:solidFill>
                  <a:srgbClr val="7c5d50"/>
                </a:solidFill>
                <a:latin typeface="Corbel"/>
              </a:rPr>
              <a:t>«Обобщение и систематизация сведений о деепричастии»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5d50"/>
                </a:solidFill>
                <a:latin typeface="Corbel"/>
              </a:rPr>
              <a:t>Работа с разноуровневыми перфокартами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68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3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4-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5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метьте слитные написа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преследовали (не)удач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вид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умолкающий шёпот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(не)ощущая хол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возмущаясь       (не)замеча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ничему (не)ра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вер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 тёплая,а холодная                   (не)преодолимая прегра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 доумева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овсе(не)ласковое                            очень (не)проста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произнос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рассчитывая                                (не)зелёные лист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стиха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 навид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(не ) согретая солнце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 навид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ичему(не) радуясь                          отнюдь (не) счастлива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узнав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удержавшиеся на ветках        (не) забыва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радуяс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знающая тепла                           (не) успокоившис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 взлюбив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икому (не)нужен                             (не) утешительные вест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чувству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проницаемая стена                   (не) доумева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замечая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утолимая печаль                        (не) сбывшиеся меч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Игра «Отыщите деепричастия»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714680" y="1714680"/>
          <a:ext cx="5881680" cy="4557600"/>
        </p:xfrm>
        <a:graphic>
          <a:graphicData uri="http://schemas.openxmlformats.org/drawingml/2006/table">
            <a:tbl>
              <a:tblPr/>
              <a:tblGrid>
                <a:gridCol w="1817640"/>
                <a:gridCol w="2031840"/>
                <a:gridCol w="2032200"/>
              </a:tblGrid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 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    </a:t>
                      </a: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«Наше ясное солнышко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0" descr=""/>
          <p:cNvPicPr/>
          <p:nvPr/>
        </p:nvPicPr>
        <p:blipFill>
          <a:blip r:embed="rId1"/>
          <a:stretch/>
        </p:blipFill>
        <p:spPr>
          <a:xfrm>
            <a:off x="0" y="1557360"/>
            <a:ext cx="4716360" cy="436068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Я сказочник, былинник, гусляр живописи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ник говорил, что вся его жизнь – в карти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5d50"/>
                </a:solidFill>
                <a:latin typeface="Corbel"/>
              </a:rPr>
              <a:t> 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7c5d5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7c5d50"/>
                </a:solidFill>
                <a:latin typeface="Corbel"/>
              </a:rPr>
              <a:t>Картина В.Васнецова «Аленушка»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889440" cy="45259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4284720" y="1523520"/>
            <a:ext cx="446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ет как песня картина и уводит нас в царство волшебно отжившей природы, в которой сказки рождалис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8047"/>
                </a:solidFill>
                <a:latin typeface="Corbel"/>
              </a:rPr>
              <a:t>За раздольем нив,где зреет рожь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8047"/>
                </a:solidFill>
                <a:latin typeface="Corbel"/>
              </a:rPr>
              <a:t>На пеньке у омута лесног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8047"/>
                </a:solidFill>
                <a:latin typeface="Corbel"/>
              </a:rPr>
              <a:t>Песенку Аленушка </a:t>
            </a:r>
            <a:r>
              <a:rPr b="1" i="1" lang="ru-RU" sz="2000" spc="-1" strike="noStrike">
                <a:solidFill>
                  <a:srgbClr val="dd8047"/>
                </a:solidFill>
                <a:latin typeface="Arial"/>
              </a:rPr>
              <a:t> поё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c5d50"/>
                </a:solidFill>
                <a:latin typeface="Corbel"/>
              </a:rPr>
              <a:t>Замените подчеркнутые глаголы деепричастиями. Как изменится пунктуация предложений? Подчеркните деепричастные обороты, расставьте знаки препинания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ртина В.М. Васнецова «Аленушка» производит грустное впечатление,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заставляет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задуматься о горькой судьбе одинокого человек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Уронил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лову на руки, отрешено смотрит вдаль бедная девушка. Пережи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сжимают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ер_це,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уманят ее безрадостный взгляд. Неласково шумят деревья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превратились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плотную стену.  Серое неб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навевает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тревожные мысли, окутывает холодом. Глубокое озеро тосклив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чернеет,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угает неизвестностью. Золотые листья окружают Алёнушку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напоминают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несбывшихся меч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жется, что осенняя природ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чувствует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настроение девушки, стремится утешить печальную красавиц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c5d50"/>
                </a:solidFill>
                <a:latin typeface="Corbel"/>
              </a:rPr>
              <a:t>Ключ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ртина В.М. Васнецова «Аленушка» производит грустное впечатление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заставляя  задуматься о горькой судьбе одинокого человек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Уронив голову на руки,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решено смотрит вдаль бедная девушка. Переживания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сжимав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сер_це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уманят ее безрадостный взгляд. Неласково шумят деревья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превратившись в плотную стену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 Серое небо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навевая тревожные мысл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окутывает холодом. Глубокое озеро ,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тоскливо черне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пугает неизвестностью. Золотые листья окружают Алёнушку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напоминая о несбывшихся меч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жется, что осенняя природа чувствует настроение девушки, стремится утешить печальную красавиц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7c5d50"/>
                </a:solidFill>
                <a:latin typeface="Corbel"/>
              </a:rPr>
              <a:t>Выборочно-распределительный диктант</a:t>
            </a:r>
            <a:br>
              <a:rPr sz="2200"/>
            </a:br>
            <a:r>
              <a:rPr b="0" lang="en-US" sz="2200" spc="-1" strike="noStrike">
                <a:solidFill>
                  <a:srgbClr val="7c5d50"/>
                </a:solidFill>
                <a:latin typeface="Corbel"/>
              </a:rPr>
              <a:t>Цель: закрепить умения определять вид деепричастия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Задание: сравнить деепричастия из 1 и 2 предложений. Чем они отличаются? Заполните таблицу ,определяя вид деепричаст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Отражаясь в воде, пригорюнившись, качая вершинами , убежав от всех, устремив взгляд, облетая с деревьев, ощущая тревогу, прислушиваясь к шорохам, погрузившись в раздумь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сидя на камне, опустив голову, глядя в вод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357200" y="3860640"/>
          <a:ext cx="6886800" cy="2232000"/>
        </p:xfrm>
        <a:graphic>
          <a:graphicData uri="http://schemas.openxmlformats.org/drawingml/2006/table">
            <a:tbl>
              <a:tblPr/>
              <a:tblGrid>
                <a:gridCol w="3214800"/>
                <a:gridCol w="3672000"/>
              </a:tblGrid>
              <a:tr h="79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епричастия совершенного 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епричастия несовершенного 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Работа в группах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Найдите в тексте деепричастия,  которые обозначают добавочные действ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1-по  аналогии с человеческими качествам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-по движени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3-по зрительным впечатлениям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ите своими примерами,  составьте с придуманными словами  предложения, характеризующие девушку.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Исправьте грамматические ошибки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сказка: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йствие, выраженное деепричастием , должно относиться к тому же лицу, к  которому относится и действие, выраженное глагол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 Глядя вдаль, у неё возникают грустные мысл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 Думая о прошлом ,в её воспоминании оживают счастливые д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 Рассматривая картину , чувствуется отношение художника  к одинокой Алёнушк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дание повышенной трудности : распространите предложения деепричастными оборотам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рода грусти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с окружает Алёнуш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ёмная вода успокаива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Игра  «Наведи порядок»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7c5d50"/>
                </a:solidFill>
                <a:latin typeface="Corbel"/>
              </a:rPr>
              <a:t>Восстановите предложения, соединив правильно их части 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000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Отражаясь, берёз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Уронив голову на рук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Напоминая о несбывшихся мечтах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Переживания ,сжимая сердц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64832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уманят её безрадостный взгляд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олотые листья окружают Алёнуш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трешённо смотрит вдаль бедная девуш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еленели в пруд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7:00:50Z</dcterms:created>
  <dc:creator>пользователь</dc:creator>
  <dc:description/>
  <dc:language>en-US</dc:language>
  <cp:lastModifiedBy>кибирева</cp:lastModifiedBy>
  <dcterms:modified xsi:type="dcterms:W3CDTF">2013-04-07T10:54:23Z</dcterms:modified>
  <cp:revision>61</cp:revision>
  <dc:subject/>
  <dc:title>Слайд 1</dc:title>
</cp:coreProperties>
</file>