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gif" ContentType="image/gif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5F8-A2CD-4DFD-83FE-3577E486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A1E-8D1B-4783-8D85-B2C18BC1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72F-2A72-40C5-A80D-FD4F4DF2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E1C-67F8-4C57-A501-3388389C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6DE-FD84-454E-BF2F-326C2D7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C00-E27A-4DD3-8BF2-A7FEF481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46D-2F5B-4C57-90E6-D4B75189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BEF-B5D9-4643-BDCF-0DAEBCA5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FBD-9B93-4DEC-B3D8-970AE761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CF7-7159-428A-9E77-0C14D1E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684-5585-468D-A4F6-5B19C034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D2A-FA2D-40E8-AD65-10E038B3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4097-20BE-4E3D-A6E5-FE9BFF58E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rod.turizm.ru/germany/curort21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adikal.ru/action.aspx" TargetMode="External"/><Relationship Id="rId2" Type="http://schemas.openxmlformats.org/officeDocument/2006/relationships/hyperlink" Target="http://www.radikal.ru/action.aspx" TargetMode="External"/><Relationship Id="rId3" Type="http://schemas.openxmlformats.org/officeDocument/2006/relationships/hyperlink" Target="http://www.radikal.ru/action.aspx" TargetMode="External"/><Relationship Id="rId4" Type="http://schemas.openxmlformats.org/officeDocument/2006/relationships/hyperlink" Target="http://www.radikal.ru/action.aspx" TargetMode="External"/><Relationship Id="rId5" Type="http://schemas.openxmlformats.org/officeDocument/2006/relationships/hyperlink" Target="http://www.radikal.ru/action.aspx" TargetMode="External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Blackadder ITC"/>
              </a:rPr>
              <a:t>Der</a:t>
            </a:r>
            <a:r>
              <a:rPr b="1" lang="ru-RU" sz="7200" spc="-1" strike="noStrike">
                <a:solidFill>
                  <a:srgbClr val="660066"/>
                </a:solidFill>
                <a:latin typeface="Blackadder ITC"/>
              </a:rPr>
              <a:t> Valentinsta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Walentina Andreew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Klas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Kaschino 14.02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14 февpаля - День всех влюбленных"/>
          <p:cNvPicPr/>
          <p:nvPr/>
        </p:nvPicPr>
        <p:blipFill>
          <a:blip r:embed="rId1"/>
          <a:stretch/>
        </p:blipFill>
        <p:spPr>
          <a:xfrm rot="20125200">
            <a:off x="6818400" y="536040"/>
            <a:ext cx="1693800" cy="197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ed483944f3d7e30bad67e75201dd4110"/>
          <p:cNvPicPr/>
          <p:nvPr/>
        </p:nvPicPr>
        <p:blipFill>
          <a:blip r:embed="rId2"/>
          <a:stretch/>
        </p:blipFill>
        <p:spPr>
          <a:xfrm rot="1182000">
            <a:off x="533160" y="38052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4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i?id=207761797-30-72&amp;n=21"/>
          <p:cNvPicPr/>
          <p:nvPr/>
        </p:nvPicPr>
        <p:blipFill>
          <a:blip r:embed="rId3"/>
          <a:stretch/>
        </p:blipFill>
        <p:spPr>
          <a:xfrm>
            <a:off x="304920" y="4038480"/>
            <a:ext cx="4267080" cy="2367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45040" y="0"/>
            <a:ext cx="6365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ПРОЕКТ УРОКА ПО НЕМЕЦКОМУ ЯЗЫК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550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2362320" y="1613880"/>
            <a:ext cx="4495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cc"/>
                </a:solidFill>
                <a:latin typeface="French Script MT"/>
              </a:rPr>
              <a:t>Für mich bist du die Welt! Alles Gute zum Valentinstag!</a:t>
            </a:r>
            <a:r>
              <a:rPr b="1" lang="ru-RU" sz="4400" spc="-1" strike="noStrike">
                <a:solidFill>
                  <a:srgbClr val="0000cc"/>
                </a:solidFill>
                <a:latin typeface="French Script MT"/>
              </a:rPr>
              <a:t>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Lucida Calligraphy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Lucida Calligraphy"/>
              </a:rPr>
              <a:t>                      </a:t>
            </a:r>
            <a:r>
              <a:rPr b="1" lang="de-DE" sz="2400" spc="-1" strike="noStrike">
                <a:solidFill>
                  <a:srgbClr val="009999"/>
                </a:solidFill>
                <a:latin typeface="Lucida Calligraphy"/>
              </a:rPr>
              <a:t>Li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Lucida Calligraphy"/>
              </a:rPr>
              <a:t>Es ist ein Gluck zu wissen, dass du bi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Lucida Calligraphy"/>
              </a:rPr>
              <a:t>Von dir zu träumen hohe Wonne i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Lucida Calligraphy"/>
              </a:rPr>
              <a:t>Nach dir sich sehnen macht zum Traum die Zei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Lucida Calligraphy"/>
              </a:rPr>
              <a:t>Bei dir zu sein, ist ganze Seligk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Lucida Calligraphy"/>
              </a:rPr>
              <a:t>(Otto Julius Bierba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Calligraphy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Lucida Calligraphy"/>
              </a:rPr>
              <a:t>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Lucida Calligraphy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Счастье знать, что ты е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О тебе мечтать – блажен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Тебя жаждать превращает время в сказ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Быть с тобой – насла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(Отто Юлиус Бирбаум)</a:t>
            </a:r>
            <a:r>
              <a:rPr b="0" lang="ru-RU" sz="20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val6"/>
          <p:cNvPicPr/>
          <p:nvPr/>
        </p:nvPicPr>
        <p:blipFill>
          <a:blip r:embed="rId1"/>
          <a:stretch/>
        </p:blipFill>
        <p:spPr>
          <a:xfrm>
            <a:off x="6684840" y="0"/>
            <a:ext cx="2459160" cy="315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02_hearts_63648"/>
          <p:cNvPicPr/>
          <p:nvPr/>
        </p:nvPicPr>
        <p:blipFill>
          <a:blip r:embed="rId2"/>
          <a:stretch/>
        </p:blipFill>
        <p:spPr>
          <a:xfrm>
            <a:off x="5334120" y="3809880"/>
            <a:ext cx="3429000" cy="274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val-n-10"/>
          <p:cNvPicPr/>
          <p:nvPr/>
        </p:nvPicPr>
        <p:blipFill>
          <a:blip r:embed="rId3"/>
          <a:stretch/>
        </p:blipFill>
        <p:spPr>
          <a:xfrm>
            <a:off x="0" y="5867280"/>
            <a:ext cx="1701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Сердц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3"/>
          <p:cNvSpPr/>
          <p:nvPr/>
        </p:nvSpPr>
        <p:spPr>
          <a:xfrm>
            <a:off x="609480" y="106668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Wer liebt,wird immer stär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Stefan Zwe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Die wahre Liebe hält die Augen 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Bod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Wer liebt,hat alle Taschen voller Hofn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0"/>
          <p:cNvSpPr/>
          <p:nvPr/>
        </p:nvSpPr>
        <p:spPr>
          <a:xfrm>
            <a:off x="2286000" y="24224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1" descr="21+"/>
          <p:cNvPicPr/>
          <p:nvPr/>
        </p:nvPicPr>
        <p:blipFill>
          <a:blip r:embed="rId1"/>
          <a:stretch/>
        </p:blipFill>
        <p:spPr>
          <a:xfrm>
            <a:off x="0" y="0"/>
            <a:ext cx="9144000" cy="729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val15"/>
          <p:cNvPicPr/>
          <p:nvPr/>
        </p:nvPicPr>
        <p:blipFill>
          <a:blip r:embed="rId2"/>
          <a:stretch/>
        </p:blipFill>
        <p:spPr>
          <a:xfrm>
            <a:off x="7848720" y="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Сердечки "/>
          <p:cNvPicPr/>
          <p:nvPr/>
        </p:nvPicPr>
        <p:blipFill>
          <a:blip r:embed="rId3"/>
          <a:stretch/>
        </p:blipFill>
        <p:spPr>
          <a:xfrm>
            <a:off x="3886200" y="2743200"/>
            <a:ext cx="18288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Остров в виде сердца посреди Макленбургской озерной равнины всего в 100 км севернее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ерлина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. </a:t>
            </a:r>
            <a:br>
              <a:rPr sz="2000"/>
            </a:b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На острове площадью 40 000 кв. м проживает только семейная пара Карге.Сам остров, которому природа придала такую необычную форму, можно объехать всего за 15 минут. Гости, прибывшие в это волшебное место, наслаждаются уединенност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70553921_6"/>
          <p:cNvPicPr/>
          <p:nvPr/>
        </p:nvPicPr>
        <p:blipFill>
          <a:blip r:embed="rId2"/>
          <a:stretch/>
        </p:blipFill>
        <p:spPr>
          <a:xfrm>
            <a:off x="4354560" y="228600"/>
            <a:ext cx="4789440" cy="594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getImage (2)"/>
          <p:cNvPicPr/>
          <p:nvPr/>
        </p:nvPicPr>
        <p:blipFill>
          <a:blip r:embed="rId3"/>
          <a:stretch/>
        </p:blipFill>
        <p:spPr>
          <a:xfrm>
            <a:off x="2743200" y="5257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исок источников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Deutsch, Rontakte 10 – 11“ – G.I. Woronina, I.W. Karelina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utsch 10 – I.L. Bim, L.W. Sadomowa, M. A. Ljitaew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radikal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ction.aspx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исунок1.png, ссылка http://s61.radikal.ru/i171/1101/cb/fafb471a96f7.jpg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537098.jpg, ссылка http://i033.radikal.ru/1101/9f/5b042126bedf.jpg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ris5.GIF, ссылка http://i048.radikal.ru/1101/84/8dca6beffa84.gif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537025.jpg, ссылка http://i040.radikal.ru/1101/d7/4655fb2e2ce6.jpg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СЕРДЦЕ С КРЫЛЬЯМИ"/>
          <p:cNvPicPr/>
          <p:nvPr/>
        </p:nvPicPr>
        <p:blipFill>
          <a:blip r:embed="rId6"/>
          <a:stretch/>
        </p:blipFill>
        <p:spPr>
          <a:xfrm>
            <a:off x="1143000" y="3733920"/>
            <a:ext cx="63244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ZaRd</cp:lastModifiedBy>
  <dcterms:modified xsi:type="dcterms:W3CDTF">2013-04-07T15:14:0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