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4.gif" ContentType="image/gif"/>
  <Override PartName="/ppt/media/image2.jpeg" ContentType="image/jpeg"/>
  <Override PartName="/ppt/media/image3.jpeg" ContentType="image/jpeg"/>
  <Override PartName="/ppt/media/image1.jpeg" ContentType="image/jpeg"/>
  <Override PartName="/ppt/media/image4.gif" ContentType="image/gif"/>
  <Override PartName="/ppt/media/image6.jpeg" ContentType="image/jpeg"/>
  <Override PartName="/ppt/media/image7.jpeg" ContentType="image/jpeg"/>
  <Override PartName="/ppt/media/image5.png" ContentType="image/png"/>
  <Override PartName="/ppt/media/image8.jpeg" ContentType="image/jpeg"/>
  <Override PartName="/ppt/media/image13.jpeg" ContentType="image/jpeg"/>
  <Override PartName="/ppt/media/image9.jpeg" ContentType="image/jpeg"/>
  <Override PartName="/ppt/media/image12.jpeg" ContentType="image/jpeg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2C18-9697-4027-BA92-FF27F79A2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A561-B65F-45B4-83ED-AA52D9BD7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3F53-1755-4F9C-B3EB-830771DAB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46C2-D635-4084-A33E-BE05DCA06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E051-D23B-4A26-9AFA-D5C294049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6866-BA33-4D06-9D29-4971A7FE6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8AFA-01F7-4166-B746-22A2D8288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3FC9-7831-466E-BD6D-CB31122E5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0104-66DC-47CE-9D86-3805A30CE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C52E-FAC4-4D7B-8DC9-9D761CEA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3907-F410-4778-9490-95709FC8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27F0-5C9C-4766-A07C-56C343E4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CDAC1-B0C1-4D7A-9DE9-1F074A3016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gorod.turizm.ru/germany/curort210.html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radikal.ru/action.aspx" TargetMode="External"/><Relationship Id="rId2" Type="http://schemas.openxmlformats.org/officeDocument/2006/relationships/hyperlink" Target="http://www.radikal.ru/action.aspx" TargetMode="External"/><Relationship Id="rId3" Type="http://schemas.openxmlformats.org/officeDocument/2006/relationships/hyperlink" Target="http://www.radikal.ru/action.aspx" TargetMode="External"/><Relationship Id="rId4" Type="http://schemas.openxmlformats.org/officeDocument/2006/relationships/hyperlink" Target="http://www.radikal.ru/action.aspx" TargetMode="External"/><Relationship Id="rId5" Type="http://schemas.openxmlformats.org/officeDocument/2006/relationships/hyperlink" Target="http://www.radikal.ru/action.aspx" TargetMode="External"/><Relationship Id="rId6" Type="http://schemas.openxmlformats.org/officeDocument/2006/relationships/image" Target="../media/image14.gi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0066"/>
                </a:solidFill>
                <a:latin typeface="Blackadder ITC"/>
              </a:rPr>
              <a:t>Der</a:t>
            </a:r>
            <a:r>
              <a:rPr b="1" lang="ru-RU" sz="7200" spc="-1" strike="noStrike">
                <a:solidFill>
                  <a:srgbClr val="660066"/>
                </a:solidFill>
                <a:latin typeface="Blackadder ITC"/>
              </a:rPr>
              <a:t> Valentinsta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4952880"/>
            <a:ext cx="76960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Walentina Andreew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Klasse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Kaschino 14.02.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14 февpаля - День всех влюбленных"/>
          <p:cNvPicPr/>
          <p:nvPr/>
        </p:nvPicPr>
        <p:blipFill>
          <a:blip r:embed="rId1"/>
          <a:stretch/>
        </p:blipFill>
        <p:spPr>
          <a:xfrm rot="20125200">
            <a:off x="6818400" y="536040"/>
            <a:ext cx="1693800" cy="1970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ed483944f3d7e30bad67e75201dd4110"/>
          <p:cNvPicPr/>
          <p:nvPr/>
        </p:nvPicPr>
        <p:blipFill>
          <a:blip r:embed="rId2"/>
          <a:stretch/>
        </p:blipFill>
        <p:spPr>
          <a:xfrm rot="1182000">
            <a:off x="533160" y="380520"/>
            <a:ext cx="1752480" cy="175284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4"/>
          <p:cNvSpPr/>
          <p:nvPr/>
        </p:nvSpPr>
        <p:spPr>
          <a:xfrm>
            <a:off x="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6" descr="i?id=207761797-30-72&amp;n=21"/>
          <p:cNvPicPr/>
          <p:nvPr/>
        </p:nvPicPr>
        <p:blipFill>
          <a:blip r:embed="rId3"/>
          <a:stretch/>
        </p:blipFill>
        <p:spPr>
          <a:xfrm>
            <a:off x="304920" y="4038480"/>
            <a:ext cx="4267080" cy="2367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445040" y="0"/>
            <a:ext cx="63651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ПРОЕКТ УРОКА ПО НЕМЕЦКОМУ ЯЗЫК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5502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6"/>
          <p:cNvSpPr/>
          <p:nvPr/>
        </p:nvSpPr>
        <p:spPr>
          <a:xfrm>
            <a:off x="2362320" y="1613880"/>
            <a:ext cx="44956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cc"/>
                </a:solidFill>
                <a:latin typeface="French Script MT"/>
              </a:rPr>
              <a:t>Für mich bist du die Welt! Alles Gute zum Valentinstag!</a:t>
            </a:r>
            <a:r>
              <a:rPr b="1" lang="ru-RU" sz="4400" spc="-1" strike="noStrike">
                <a:solidFill>
                  <a:srgbClr val="0000cc"/>
                </a:solidFill>
                <a:latin typeface="French Script MT"/>
              </a:rPr>
              <a:t> 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632448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Lucida Calligraphy"/>
              </a:rPr>
              <a:t>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99"/>
                </a:solidFill>
                <a:latin typeface="Lucida Calligraphy"/>
              </a:rPr>
              <a:t>                      </a:t>
            </a:r>
            <a:r>
              <a:rPr b="1" lang="de-DE" sz="2400" spc="-1" strike="noStrike">
                <a:solidFill>
                  <a:srgbClr val="009999"/>
                </a:solidFill>
                <a:latin typeface="Lucida Calligraphy"/>
              </a:rPr>
              <a:t>Lie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9999"/>
                </a:solidFill>
                <a:latin typeface="Lucida Calligraphy"/>
              </a:rPr>
              <a:t>Es ist ein Gluck zu wissen, dass du bis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9999"/>
                </a:solidFill>
                <a:latin typeface="Lucida Calligraphy"/>
              </a:rPr>
              <a:t>Von dir zu träumen hohe Wonne is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9999"/>
                </a:solidFill>
                <a:latin typeface="Lucida Calligraphy"/>
              </a:rPr>
              <a:t>Nach dir sich sehnen macht zum Traum die Zei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9999"/>
                </a:solidFill>
                <a:latin typeface="Lucida Calligraphy"/>
              </a:rPr>
              <a:t>Bei dir zu sein, ist ganze Seligke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Lucida Calligraphy"/>
              </a:rPr>
              <a:t>(Otto Julius Bierba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Calligraphy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Lucida Calligraphy"/>
              </a:rPr>
              <a:t>                        </a:t>
            </a:r>
            <a:r>
              <a:rPr b="1" lang="ru-RU" sz="2000" spc="-1" strike="noStrike">
                <a:solidFill>
                  <a:srgbClr val="cc0000"/>
                </a:solidFill>
                <a:latin typeface="Lucida Calligraphy"/>
              </a:rPr>
              <a:t>Любов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Lucida Calligraphy"/>
              </a:rPr>
              <a:t> </a:t>
            </a:r>
            <a:r>
              <a:rPr b="0" lang="ru-RU" sz="2000" spc="-1" strike="noStrike">
                <a:solidFill>
                  <a:srgbClr val="cc0000"/>
                </a:solidFill>
                <a:latin typeface="Lucida Calligraphy"/>
              </a:rPr>
              <a:t>Счастье знать, что ты ес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Lucida Calligraphy"/>
              </a:rPr>
              <a:t>О тебе мечтать – блаженств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Lucida Calligraphy"/>
              </a:rPr>
              <a:t>Тебя жаждать превращает время в сказк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Lucida Calligraphy"/>
              </a:rPr>
              <a:t>Быть с тобой – наслажд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Lucida Calligraphy"/>
              </a:rPr>
              <a:t>(Отто Юлиус Бирбаум)</a:t>
            </a:r>
            <a:r>
              <a:rPr b="0" lang="ru-RU" sz="2000" spc="-1" strike="noStrike">
                <a:solidFill>
                  <a:srgbClr val="000000"/>
                </a:solidFill>
                <a:latin typeface="Lucida Calligraphy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val6"/>
          <p:cNvPicPr/>
          <p:nvPr/>
        </p:nvPicPr>
        <p:blipFill>
          <a:blip r:embed="rId1"/>
          <a:stretch/>
        </p:blipFill>
        <p:spPr>
          <a:xfrm>
            <a:off x="6684840" y="0"/>
            <a:ext cx="2459160" cy="3152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02_hearts_63648"/>
          <p:cNvPicPr/>
          <p:nvPr/>
        </p:nvPicPr>
        <p:blipFill>
          <a:blip r:embed="rId2"/>
          <a:stretch/>
        </p:blipFill>
        <p:spPr>
          <a:xfrm>
            <a:off x="5334120" y="3809880"/>
            <a:ext cx="3429000" cy="2741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val-n-10"/>
          <p:cNvPicPr/>
          <p:nvPr/>
        </p:nvPicPr>
        <p:blipFill>
          <a:blip r:embed="rId3"/>
          <a:stretch/>
        </p:blipFill>
        <p:spPr>
          <a:xfrm>
            <a:off x="0" y="5867280"/>
            <a:ext cx="1701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2" descr="Сердц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23"/>
          <p:cNvSpPr/>
          <p:nvPr/>
        </p:nvSpPr>
        <p:spPr>
          <a:xfrm>
            <a:off x="609480" y="1066680"/>
            <a:ext cx="8153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olas"/>
              </a:rPr>
              <a:t>Wer liebt,wird immer stärk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olas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Consolas"/>
              </a:rPr>
              <a:t>Stefan Zwe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olas"/>
              </a:rPr>
              <a:t>Die wahre Liebe hält die Augen off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olas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Consolas"/>
              </a:rPr>
              <a:t>Bod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olas"/>
              </a:rPr>
              <a:t>Wer liebt,hat alle Taschen voller Hofnu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0"/>
          <p:cNvSpPr/>
          <p:nvPr/>
        </p:nvSpPr>
        <p:spPr>
          <a:xfrm>
            <a:off x="2286000" y="242244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1" descr="21+"/>
          <p:cNvPicPr/>
          <p:nvPr/>
        </p:nvPicPr>
        <p:blipFill>
          <a:blip r:embed="rId1"/>
          <a:stretch/>
        </p:blipFill>
        <p:spPr>
          <a:xfrm>
            <a:off x="0" y="0"/>
            <a:ext cx="9144000" cy="7294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2" descr="val15"/>
          <p:cNvPicPr/>
          <p:nvPr/>
        </p:nvPicPr>
        <p:blipFill>
          <a:blip r:embed="rId2"/>
          <a:stretch/>
        </p:blipFill>
        <p:spPr>
          <a:xfrm>
            <a:off x="7848720" y="0"/>
            <a:ext cx="914400" cy="762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3" descr="Сердечки "/>
          <p:cNvPicPr/>
          <p:nvPr/>
        </p:nvPicPr>
        <p:blipFill>
          <a:blip r:embed="rId3"/>
          <a:stretch/>
        </p:blipFill>
        <p:spPr>
          <a:xfrm>
            <a:off x="3886200" y="2743200"/>
            <a:ext cx="182880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04560" y="160020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Остров в виде сердца посреди Макленбургской озерной равнины всего в 100 км севернее 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Берлина</a:t>
            </a: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. </a:t>
            </a:r>
            <a:br>
              <a:rPr sz="2000"/>
            </a:b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На острове площадью 40 000 кв. м проживает только семейная пара Карге.Сам остров, которому природа придала такую необычную форму, можно объехать всего за 15 минут. Гости, прибывшие в это волшебное место, наслаждаются уединенностью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70553921_6"/>
          <p:cNvPicPr/>
          <p:nvPr/>
        </p:nvPicPr>
        <p:blipFill>
          <a:blip r:embed="rId2"/>
          <a:stretch/>
        </p:blipFill>
        <p:spPr>
          <a:xfrm>
            <a:off x="4354560" y="228600"/>
            <a:ext cx="4789440" cy="5943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getImage (2)"/>
          <p:cNvPicPr/>
          <p:nvPr/>
        </p:nvPicPr>
        <p:blipFill>
          <a:blip r:embed="rId3"/>
          <a:stretch/>
        </p:blipFill>
        <p:spPr>
          <a:xfrm>
            <a:off x="2743200" y="52578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писок источников: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„Deutsch, Rontakte 10 – 11“ – G.I. Woronina, I.W. Karelina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utsch 10 – I.L. Bim, L.W. Sadomowa, M. A. Ljitaewa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radikal.ru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action.aspx</a:t>
            </a: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: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Рисунок1.png, ссылка http://s61.radikal.ru/i171/1101/cb/fafb471a96f7.jpg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537098.jpg, ссылка http://i033.radikal.ru/1101/9f/5b042126bedf.jpg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ris5.GIF, ссылка http://i048.radikal.ru/1101/84/8dca6beffa84.gif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537025.jpg, ссылка http://i040.radikal.ru/1101/d7/4655fb2e2ce6.jpg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СЕРДЦЕ С КРЫЛЬЯМИ"/>
          <p:cNvPicPr/>
          <p:nvPr/>
        </p:nvPicPr>
        <p:blipFill>
          <a:blip r:embed="rId6"/>
          <a:stretch/>
        </p:blipFill>
        <p:spPr>
          <a:xfrm>
            <a:off x="1143000" y="3733920"/>
            <a:ext cx="632448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ZaRd</cp:lastModifiedBy>
  <dcterms:modified xsi:type="dcterms:W3CDTF">2013-04-07T15:14:08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