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24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C34CE-308C-459F-9376-54EC7206795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3B5AF-8250-4C41-848E-51AB2570FA2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919C-179B-4585-A018-1BD4164D4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3A06-B4C5-4D25-84AB-890F80F26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8587-529C-4E19-A9B3-F23994A4B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751D-BCED-4241-B154-CDEAFACD7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B2232-2048-496D-80B7-2414CD40C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0CD69-5EFB-4D41-A5BA-FF4B9F937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8A3C8-55EC-42E1-889E-6931DC3D7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80996-C71A-4A19-8E20-6CCC4FC2B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06900-3963-442A-ACF9-B50C3F73A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EE714-5DCB-43C2-9792-625BB2656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F1075-69E6-438D-A439-5DC894DDD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3744-4717-42F4-A8CC-F5D70F902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1C658-EA8F-45A6-AD51-E8F77916D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9FA57-25DE-4B12-ABDE-64287B26F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FB01F-C684-4F1F-BA58-9385195E2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9A8BD-07EE-42F4-9E5C-214E26C3C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1BCC4-AD53-4EA2-9960-E2BF7272F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04146A-B0FB-4EFC-BC91-F379F8337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C26844-6AD7-4C91-80D7-7CAC0EF57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96EAE8-2619-4425-9DF5-A9BC332CF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E13163-7A4B-4D78-9C8F-1B93E7100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F5AFEA-2ACF-493B-BD86-CBC635878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6B2B-D92D-4BAE-AB0D-216A99EA8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D2996B-345B-424D-850C-53652CC40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E992B0-7BCB-47C9-BBF2-7D47BE0B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19D7A1-3503-46A9-ACAE-FED4B210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FC9DC9-9C85-4E7D-91B0-32FB80F1C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3B91A9-C467-4785-B3C8-B00CCBAAA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8E50BD-E3E4-4103-A18E-0F77DE433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EF6448-6DED-44A6-9AF4-83E6D645F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4079DA-9055-4E36-8642-BA8EE6480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14C589-8578-4AB4-8B30-349BCA626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90B050-74E8-4742-83F9-857122A5F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E322-7A00-4082-81FD-DAAEB3BE6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5B65C8-F050-49BB-946F-A51305BF2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A046C4-553A-4EC2-8284-D9B702438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BA8A10-F070-485B-94E0-E41501EC9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0AD369-C0F4-4191-B0DA-40EC0FA7B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BB69D6-5B4F-44A0-B209-FE8031553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3F4C37-3A92-43CA-B221-03BA1AF3F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6F34ED-2929-4B8B-8566-2D79A20D4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0121B2-C6AE-4F68-97B6-4A6DF37C3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713CE5-CC39-4210-9735-8208E7212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6CB61D-B7F1-40EA-A62F-737F177B5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BF89-BC28-4B05-B111-D332E7301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694557-8D69-4F7C-B224-753D1F904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E560EE-7DB2-428D-BA05-FFC565F76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98BC6B-2FB0-4D5E-8133-E338C9240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2A9DAA-0E40-4093-A631-1B614280C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A402C2-19F0-4886-B793-773ACCDB6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3962D7-A0DF-456C-A3DD-3E500843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FA5ECC-7105-4661-8A6C-FDA8A6922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5B4789-6834-4A2E-B44F-AF57D6F01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4A768F-CCA3-46B4-B9C5-9716FDE2D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ABFA3D-8C52-4220-9ABB-E2A99D6A2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4444-2E4C-4FD7-A75E-E5D7AC8E8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4FCCDE-9903-42A1-BA53-105A6F9B0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DB3327-96E1-4980-8BAF-8AD5741FF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DB4683-112A-45F2-BDA8-1BE33C35D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119DB1-516F-4C19-80EA-079879E0C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EED760-5253-4043-86EE-68CA17623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4BF88B-5D83-444A-A01C-647617996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54FE98-E745-4168-962A-C408FB387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D29281-666C-4469-BE12-5B3BED09B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CB28F2-8231-4DD0-B570-37195E87D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9A7FB0-D96B-4568-A53E-D14686111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A460-2BDD-47C3-B390-7E7DA9602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A93BF0-E6C7-46DB-9ECC-0CB094A3D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07AC90-6AD7-46DE-BFCC-E68FE3AB2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7178CA-D7DA-4F95-B6A4-77871BBBE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A13B5F-3958-4EAB-9197-05C3148A6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4B8629-AA86-4624-A91C-4135AC721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F21C37-6D03-4322-BFDC-A8A9FFC35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D7CABF-7F81-419D-B417-519000497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5EB6DF-C73A-48B5-A623-915D04EC1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624913-445E-4907-8589-43A7A577F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0B28A4-B5E4-404B-B109-E023E09E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D896-CE00-4ECA-B234-F25E17B1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C80146-CBB0-4E93-89BC-123D399A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934760-CE23-479D-9A89-04A3C50E3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67A0DD-41CF-4656-890A-70B96F6BB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BA0F15-452B-4F4A-8C6F-2C945A247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3FD442-242A-41A4-933A-D33359823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5D6533-2C10-45DB-8757-B0BED9D87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698585-7765-4FF9-BCA9-CBFC04515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851A45-54CD-45BF-9E90-3766D2096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FB2E33-8037-49F3-A227-99B19D353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DAE963-9818-4615-9806-4ED790B3C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1C83-3120-47D0-8C39-7AF388754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3747EC-FB10-42A2-AE97-E1A98317C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6302C1-2AA7-4710-9633-255EB8EB3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AE1C74-22CF-433C-A49C-933EF238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9B8ADC-3434-4201-803C-C51346FA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58A064-FB28-4EDE-BDFC-CFA9A3DA0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27162E-17A8-4945-94BA-44FC89F55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E6EB45-F46E-4510-A97C-30CCB1D0B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C1404-B8A5-4DE2-856E-78630F08627C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57F73-F96C-47DD-99D9-3958DC1B3052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DAAA8-9B2B-4A01-9640-A2D112735A72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92DBC-510A-4BF3-BC63-C9029FD83ADA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C5991-F32A-46F7-892E-67E822F82F4F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68A42-8581-4897-939D-CAB9B377C38E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60919-1EB1-47A7-811F-CFBB34F2E3D2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52A8F-980D-431F-8C26-E9BFEE429251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851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Palatino Linotype"/>
              </a:rPr>
              <a:t>МУНИЦИПАЛЬНАЯ ОБРАЗОВАТЕЛЬНАЯ СРЕДНЯЯ ШКОЛА № 1</a:t>
            </a:r>
            <a:endParaRPr b="0" lang="en-US" sz="28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533160" y="1752480"/>
            <a:ext cx="785484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600" spc="-1" strike="noStrike">
                <a:solidFill>
                  <a:srgbClr val="558bb8"/>
                </a:solidFill>
                <a:latin typeface="Palatino Linotype"/>
              </a:rPr>
              <a:t> </a:t>
            </a:r>
            <a:r>
              <a:rPr b="0" i="1" lang="ru-RU" sz="5000" spc="-1" strike="noStrike">
                <a:solidFill>
                  <a:srgbClr val="558bb8"/>
                </a:solidFill>
                <a:latin typeface="Palatino Linotype"/>
              </a:rPr>
              <a:t>Социальный проект </a:t>
            </a:r>
            <a:endParaRPr b="0" lang="en-US" sz="5000" spc="-1" strike="noStrike">
              <a:solidFill>
                <a:srgbClr val="ffffff"/>
              </a:solidFill>
              <a:latin typeface="Tw Cen MT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000" spc="-1" strike="noStrike">
                <a:solidFill>
                  <a:srgbClr val="558bb8"/>
                </a:solidFill>
                <a:latin typeface="Palatino Linotype"/>
              </a:rPr>
              <a:t>« Я хочу быть здоровым»</a:t>
            </a:r>
            <a:endParaRPr b="0" lang="en-US" sz="50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558bb8"/>
                </a:solidFill>
                <a:latin typeface="Palatino Linotype"/>
              </a:rPr>
              <a:t>Учитель 3 «Г» класса </a:t>
            </a: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558bb8"/>
                </a:solidFill>
                <a:latin typeface="Palatino Linotype"/>
              </a:rPr>
              <a:t>Удовенко Лидия Ивановна</a:t>
            </a: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w Cen MT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558bb8"/>
                </a:solidFill>
                <a:latin typeface="Palatino Linotype"/>
              </a:rPr>
              <a:t>г.Белоярский 2011</a:t>
            </a:r>
            <a:endParaRPr b="0" lang="en-US" sz="2500" spc="-1" strike="noStrike">
              <a:solidFill>
                <a:srgbClr val="ffffff"/>
              </a:solidFill>
              <a:latin typeface="Tw Cen MT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Calibri"/>
              </a:rPr>
              <a:t>Секреты здорового питания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81" name="Picture 2" descr="C:\Documents and Settings\Пользователь\Рабочий стол\яблоки.jpg"/>
          <p:cNvPicPr/>
          <p:nvPr/>
        </p:nvPicPr>
        <p:blipFill>
          <a:blip r:embed="rId1"/>
          <a:stretch/>
        </p:blipFill>
        <p:spPr>
          <a:xfrm>
            <a:off x="838080" y="1676520"/>
            <a:ext cx="3098880" cy="23241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3" descr="C:\Documents and Settings\Пользователь\Рабочий стол\Тыква.jpg"/>
          <p:cNvPicPr/>
          <p:nvPr/>
        </p:nvPicPr>
        <p:blipFill>
          <a:blip r:embed="rId2"/>
          <a:stretch/>
        </p:blipFill>
        <p:spPr>
          <a:xfrm>
            <a:off x="4876920" y="160020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4" descr="C:\Documents and Settings\Пользователь\Рабочий стол\капуста.jpg"/>
          <p:cNvPicPr/>
          <p:nvPr/>
        </p:nvPicPr>
        <p:blipFill>
          <a:blip r:embed="rId3"/>
          <a:stretch/>
        </p:blipFill>
        <p:spPr>
          <a:xfrm>
            <a:off x="838080" y="4191120"/>
            <a:ext cx="3149640" cy="23619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5" descr="C:\Documents and Settings\Пользователь\Рабочий стол\лук чеснок.jpg"/>
          <p:cNvPicPr/>
          <p:nvPr/>
        </p:nvPicPr>
        <p:blipFill>
          <a:blip r:embed="rId4"/>
          <a:stretch/>
        </p:blipFill>
        <p:spPr>
          <a:xfrm>
            <a:off x="4800600" y="4191120"/>
            <a:ext cx="3394080" cy="24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Calibri"/>
              </a:rPr>
              <a:t>Практикумы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86" name="Picture 2" descr="C:\Documents and Settings\Пользователь\Рабочий стол\100_1397.JPG"/>
          <p:cNvPicPr/>
          <p:nvPr/>
        </p:nvPicPr>
        <p:blipFill>
          <a:blip r:embed="rId1"/>
          <a:stretch/>
        </p:blipFill>
        <p:spPr>
          <a:xfrm>
            <a:off x="5257800" y="12952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3" descr="C:\Documents and Settings\Пользователь\Рабочий стол\100_1391.JPG"/>
          <p:cNvPicPr/>
          <p:nvPr/>
        </p:nvPicPr>
        <p:blipFill>
          <a:blip r:embed="rId2"/>
          <a:stretch/>
        </p:blipFill>
        <p:spPr>
          <a:xfrm>
            <a:off x="1219320" y="1371600"/>
            <a:ext cx="3200400" cy="24004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4" descr="C:\Documents and Settings\Пользователь\Рабочий стол\100_1387.JPG"/>
          <p:cNvPicPr/>
          <p:nvPr/>
        </p:nvPicPr>
        <p:blipFill>
          <a:blip r:embed="rId3"/>
          <a:stretch/>
        </p:blipFill>
        <p:spPr>
          <a:xfrm>
            <a:off x="5257800" y="3962520"/>
            <a:ext cx="3230640" cy="24224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5" descr="C:\Users\Мария\Pictures\img029.jpg"/>
          <p:cNvPicPr/>
          <p:nvPr/>
        </p:nvPicPr>
        <p:blipFill>
          <a:blip r:embed="rId4"/>
          <a:stretch/>
        </p:blipFill>
        <p:spPr>
          <a:xfrm>
            <a:off x="1066680" y="4038480"/>
            <a:ext cx="348480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2" descr="C:\Users\Мария\Pictures\img026.jpg"/>
          <p:cNvPicPr/>
          <p:nvPr/>
        </p:nvPicPr>
        <p:blipFill>
          <a:blip r:embed="rId1"/>
          <a:stretch/>
        </p:blipFill>
        <p:spPr>
          <a:xfrm>
            <a:off x="304920" y="3429000"/>
            <a:ext cx="4438440" cy="29192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3" descr="C:\Users\Мария\Pictures\img027.jpg"/>
          <p:cNvPicPr/>
          <p:nvPr/>
        </p:nvPicPr>
        <p:blipFill>
          <a:blip r:embed="rId2"/>
          <a:stretch/>
        </p:blipFill>
        <p:spPr>
          <a:xfrm>
            <a:off x="4800600" y="380880"/>
            <a:ext cx="4149720" cy="274320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4" descr="C:\Users\Мария\Pictures\img028.jpg"/>
          <p:cNvPicPr/>
          <p:nvPr/>
        </p:nvPicPr>
        <p:blipFill>
          <a:blip r:embed="rId3"/>
          <a:stretch/>
        </p:blipFill>
        <p:spPr>
          <a:xfrm>
            <a:off x="304920" y="360360"/>
            <a:ext cx="4267080" cy="27925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2" descr="C:\Documents and Settings\Пользователь\Рабочий стол\IMG_2109.jpg"/>
          <p:cNvPicPr/>
          <p:nvPr/>
        </p:nvPicPr>
        <p:blipFill>
          <a:blip r:embed="rId4"/>
          <a:stretch/>
        </p:blipFill>
        <p:spPr>
          <a:xfrm>
            <a:off x="4800600" y="3429000"/>
            <a:ext cx="39639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5f55"/>
                </a:solidFill>
                <a:latin typeface="Calibri"/>
              </a:rPr>
              <a:t>Выпустили стенгазету. </a:t>
            </a:r>
            <a:br>
              <a:rPr sz="4000"/>
            </a:br>
            <a:r>
              <a:rPr b="0" i="1" lang="ru-RU" sz="4000" spc="-1" strike="noStrike">
                <a:solidFill>
                  <a:srgbClr val="0070c0"/>
                </a:solidFill>
                <a:latin typeface="Calibri"/>
              </a:rPr>
              <a:t>Конкурс рисунков о спорте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95" name="Picture 3" descr="E:\Лида\фото\Фото для проекта\Копия IMG_2298.jpg"/>
          <p:cNvPicPr/>
          <p:nvPr/>
        </p:nvPicPr>
        <p:blipFill>
          <a:blip r:embed="rId1"/>
          <a:stretch/>
        </p:blipFill>
        <p:spPr>
          <a:xfrm>
            <a:off x="152280" y="3048120"/>
            <a:ext cx="4496040" cy="337176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4" descr="E:\Лида\фото\Фото для проекта\IMG_2175.jpg"/>
          <p:cNvPicPr/>
          <p:nvPr/>
        </p:nvPicPr>
        <p:blipFill>
          <a:blip r:embed="rId2"/>
          <a:stretch/>
        </p:blipFill>
        <p:spPr>
          <a:xfrm>
            <a:off x="4630680" y="1523880"/>
            <a:ext cx="416556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9" name="Picture 2" descr="C:\Users\Мария\Pictures\img032.jpg"/>
          <p:cNvPicPr/>
          <p:nvPr/>
        </p:nvPicPr>
        <p:blipFill>
          <a:blip r:embed="rId1"/>
          <a:stretch/>
        </p:blipFill>
        <p:spPr>
          <a:xfrm>
            <a:off x="304920" y="3352680"/>
            <a:ext cx="4225680" cy="288612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3" descr="C:\Users\Мария\Pictures\img031.jpg"/>
          <p:cNvPicPr/>
          <p:nvPr/>
        </p:nvPicPr>
        <p:blipFill>
          <a:blip r:embed="rId2"/>
          <a:stretch/>
        </p:blipFill>
        <p:spPr>
          <a:xfrm>
            <a:off x="304920" y="304920"/>
            <a:ext cx="4152960" cy="277308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4" descr="C:\Users\Мария\Pictures\img030.jpg"/>
          <p:cNvPicPr/>
          <p:nvPr/>
        </p:nvPicPr>
        <p:blipFill>
          <a:blip r:embed="rId3"/>
          <a:stretch/>
        </p:blipFill>
        <p:spPr>
          <a:xfrm>
            <a:off x="4572000" y="304920"/>
            <a:ext cx="4191120" cy="27460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5" descr="C:\Users\Мария\Pictures\img029.jpg"/>
          <p:cNvPicPr/>
          <p:nvPr/>
        </p:nvPicPr>
        <p:blipFill>
          <a:blip r:embed="rId4"/>
          <a:stretch/>
        </p:blipFill>
        <p:spPr>
          <a:xfrm>
            <a:off x="4572000" y="3352680"/>
            <a:ext cx="434340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38088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ff0000"/>
                </a:solidFill>
                <a:latin typeface="Calibri"/>
              </a:rPr>
              <a:t>5. Проведение бесед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70c0"/>
                </a:solidFill>
                <a:latin typeface="Calibri"/>
              </a:rPr>
              <a:t>Здоровьесберегающая  парта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i="1" lang="ru-RU" sz="2900" spc="-1" strike="noStrike">
                <a:solidFill>
                  <a:srgbClr val="0070c0"/>
                </a:solidFill>
                <a:latin typeface="Calibri"/>
              </a:rPr>
              <a:t>Как закаляться правильно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04" name="Рисунок 3" descr="После 2-4 недель систематических обтираний перейти к обливанию водой"/>
          <p:cNvPicPr/>
          <p:nvPr/>
        </p:nvPicPr>
        <p:blipFill>
          <a:blip r:embed="rId1"/>
          <a:stretch/>
        </p:blipFill>
        <p:spPr>
          <a:xfrm>
            <a:off x="5410080" y="2666880"/>
            <a:ext cx="3200400" cy="35481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2" descr="C:\Documents and Settings\Пользователь\Рабочий стол\IMG_2111.jpg"/>
          <p:cNvPicPr/>
          <p:nvPr/>
        </p:nvPicPr>
        <p:blipFill>
          <a:blip r:embed="rId2"/>
          <a:stretch/>
        </p:blipFill>
        <p:spPr>
          <a:xfrm>
            <a:off x="457200" y="2743200"/>
            <a:ext cx="37591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Итог работы: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-5144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ff0000"/>
                </a:solidFill>
                <a:latin typeface="Calibri"/>
              </a:rPr>
              <a:t>Дети соблюдают правила личной гигиены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77800" indent="-5144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ff0000"/>
                </a:solidFill>
                <a:latin typeface="Calibri"/>
              </a:rPr>
              <a:t>Каждым учащимся составлен свой режим дня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77800" indent="-5144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ff0000"/>
                </a:solidFill>
                <a:latin typeface="Calibri"/>
              </a:rPr>
              <a:t>Количество детей, посещающих спортивные кружки, увеличилось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77800" indent="-5144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0" name="Picture 3" descr="C:\Users\Мария\Pictures\img035.jpg"/>
          <p:cNvPicPr/>
          <p:nvPr/>
        </p:nvPicPr>
        <p:blipFill>
          <a:blip r:embed="rId1"/>
          <a:stretch/>
        </p:blipFill>
        <p:spPr>
          <a:xfrm>
            <a:off x="1066680" y="2133720"/>
            <a:ext cx="693432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610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c000"/>
                </a:solidFill>
                <a:latin typeface="Calibri"/>
              </a:rPr>
              <a:t>Цель проекта:</a:t>
            </a:r>
            <a:br>
              <a:rPr sz="4800"/>
            </a:br>
            <a:endParaRPr b="0" lang="en-US" sz="4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Показать значимость здорового образа жизни.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Задачи: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53352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развивать представление о здоровом образе жизни;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воспитывать  потребность в сохранении своего здоровья;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развивать умение вести правильный образ жизни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9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9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9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b0f0"/>
                </a:solidFill>
                <a:latin typeface="Calibri"/>
              </a:rPr>
              <a:t>Ожидаемый результат: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64" name="Содержимое 2" descr=""/>
          <p:cNvPicPr/>
          <p:nvPr/>
        </p:nvPicPr>
        <p:blipFill>
          <a:blip r:embed="rId1"/>
          <a:stretch/>
        </p:blipFill>
        <p:spPr>
          <a:xfrm>
            <a:off x="291960" y="1285920"/>
            <a:ext cx="840132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70c0"/>
                </a:solidFill>
                <a:latin typeface="Calibri"/>
              </a:rPr>
              <a:t>Пути реализации к поставленным задачам:</a:t>
            </a:r>
            <a:endParaRPr b="0" lang="en-US" sz="2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1. Собирали пословицы поговорки о здоровье и спорте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7" name="Picture 2" descr=""/>
          <p:cNvPicPr/>
          <p:nvPr/>
        </p:nvPicPr>
        <p:blipFill>
          <a:blip r:embed="rId1"/>
          <a:stretch/>
        </p:blipFill>
        <p:spPr>
          <a:xfrm>
            <a:off x="5105520" y="2895480"/>
            <a:ext cx="3498840" cy="26244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3" descr=""/>
          <p:cNvPicPr/>
          <p:nvPr/>
        </p:nvPicPr>
        <p:blipFill>
          <a:blip r:embed="rId2"/>
          <a:stretch/>
        </p:blipFill>
        <p:spPr>
          <a:xfrm>
            <a:off x="380880" y="2895480"/>
            <a:ext cx="4038840" cy="26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457200" y="609120"/>
            <a:ext cx="8229600" cy="584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0000"/>
                </a:solidFill>
                <a:latin typeface="Calibri"/>
              </a:rPr>
              <a:t>2.Разучивали  подвижные  игры 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0" name="Picture 2" descr="F:\фото 2011\100KM320\100_1588.JPG"/>
          <p:cNvPicPr/>
          <p:nvPr/>
        </p:nvPicPr>
        <p:blipFill>
          <a:blip r:embed="rId1"/>
          <a:stretch/>
        </p:blipFill>
        <p:spPr>
          <a:xfrm>
            <a:off x="2209680" y="1655640"/>
            <a:ext cx="5668920" cy="42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1219320" y="1012320"/>
            <a:ext cx="8229600" cy="584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0000"/>
                </a:solidFill>
                <a:latin typeface="Calibri"/>
              </a:rPr>
              <a:t>3. Готовили сообщение для первоклассников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b0f0"/>
                </a:solidFill>
                <a:latin typeface="Calibri"/>
              </a:rPr>
              <a:t>«Предметы личной гигиены»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2" name="Picture 2" descr="C:\Documents and Settings\Пользователь\Рабочий стол\100_1418.JPG"/>
          <p:cNvPicPr/>
          <p:nvPr/>
        </p:nvPicPr>
        <p:blipFill>
          <a:blip r:embed="rId1"/>
          <a:stretch/>
        </p:blipFill>
        <p:spPr>
          <a:xfrm>
            <a:off x="1371600" y="19051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9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609120"/>
            <a:ext cx="8229600" cy="584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70c0"/>
                </a:solidFill>
                <a:latin typeface="Calibri"/>
              </a:rPr>
              <a:t>4. Раскрыли секреты закаливания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0000"/>
                </a:solidFill>
                <a:latin typeface="Calibri"/>
              </a:rPr>
              <a:t>• </a:t>
            </a:r>
            <a:r>
              <a:rPr b="0" lang="ru-RU" sz="2900" spc="-1" strike="noStrike">
                <a:solidFill>
                  <a:srgbClr val="ff0000"/>
                </a:solidFill>
                <a:latin typeface="Calibri"/>
              </a:rPr>
              <a:t>Ежедневно делать зарядку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0000"/>
                </a:solidFill>
                <a:latin typeface="Calibri"/>
              </a:rPr>
              <a:t>• </a:t>
            </a:r>
            <a:r>
              <a:rPr b="0" lang="ru-RU" sz="2900" spc="-1" strike="noStrike">
                <a:solidFill>
                  <a:srgbClr val="ff0000"/>
                </a:solidFill>
                <a:latin typeface="Calibri"/>
              </a:rPr>
              <a:t>Одеваться по погоде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0000"/>
                </a:solidFill>
                <a:latin typeface="Calibri"/>
              </a:rPr>
              <a:t>• </a:t>
            </a:r>
            <a:r>
              <a:rPr b="0" lang="ru-RU" sz="2900" spc="-1" strike="noStrike">
                <a:solidFill>
                  <a:srgbClr val="ff0000"/>
                </a:solidFill>
                <a:latin typeface="Calibri"/>
              </a:rPr>
              <a:t>Играть в подвижные игры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0000"/>
                </a:solidFill>
                <a:latin typeface="Calibri"/>
              </a:rPr>
              <a:t>• </a:t>
            </a:r>
            <a:r>
              <a:rPr b="0" lang="ru-RU" sz="2900" spc="-1" strike="noStrike">
                <a:solidFill>
                  <a:srgbClr val="ff0000"/>
                </a:solidFill>
                <a:latin typeface="Calibri"/>
              </a:rPr>
              <a:t>Заниматься спортом: кататься на лыжах, на коньках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Calibri"/>
              </a:rPr>
              <a:t>Зелёная аптека вокруг нас.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6" name="Picture 2" descr="C:\Documents and Settings\Пользователь\Рабочий стол\мать  и мап.jpg"/>
          <p:cNvPicPr/>
          <p:nvPr/>
        </p:nvPicPr>
        <p:blipFill>
          <a:blip r:embed="rId1"/>
          <a:stretch/>
        </p:blipFill>
        <p:spPr>
          <a:xfrm>
            <a:off x="5410080" y="1600200"/>
            <a:ext cx="2944800" cy="19940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3" descr="C:\Documents and Settings\Пользователь\Рабочий стол\крапива.jpg"/>
          <p:cNvPicPr/>
          <p:nvPr/>
        </p:nvPicPr>
        <p:blipFill>
          <a:blip r:embed="rId2"/>
          <a:stretch/>
        </p:blipFill>
        <p:spPr>
          <a:xfrm>
            <a:off x="1219320" y="1600200"/>
            <a:ext cx="3043080" cy="183816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4" descr="C:\Documents and Settings\Пользователь\Рабочий стол\ромашка.jpg"/>
          <p:cNvPicPr/>
          <p:nvPr/>
        </p:nvPicPr>
        <p:blipFill>
          <a:blip r:embed="rId3"/>
          <a:stretch/>
        </p:blipFill>
        <p:spPr>
          <a:xfrm>
            <a:off x="1600200" y="3657600"/>
            <a:ext cx="2438280" cy="26337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5" descr="C:\Documents and Settings\Пользователь\Рабочий стол\Черёмуха, сорт - Гранатовая Гроздь.JPG"/>
          <p:cNvPicPr/>
          <p:nvPr/>
        </p:nvPicPr>
        <p:blipFill>
          <a:blip r:embed="rId4"/>
          <a:stretch/>
        </p:blipFill>
        <p:spPr>
          <a:xfrm>
            <a:off x="5486400" y="3962520"/>
            <a:ext cx="299412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11:56:41Z</dcterms:created>
  <dc:creator>Мария</dc:creator>
  <dc:description/>
  <dc:language>en-US</dc:language>
  <cp:lastModifiedBy>Пользователь</cp:lastModifiedBy>
  <dcterms:modified xsi:type="dcterms:W3CDTF">2012-11-14T17:03:07Z</dcterms:modified>
  <cp:revision>50</cp:revision>
  <dc:subject/>
  <dc:title>Муниципальная образовательная средняя школа № 1</dc:title>
</cp:coreProperties>
</file>