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44F8-8A98-48C0-BAC2-0697088F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C918-E516-4924-AFE1-78045FA3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BC84-8672-4477-BB4B-3EBEAF75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C4B6-0A2A-48DA-8903-C5D0EF34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D62-3609-442A-B7B0-A69D24B3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787F-9D93-4A66-B830-FF375962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EB6-A4B6-42E1-B0B1-94E53CC4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DE9E-3C5D-4A28-9A77-5D1BA91C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2E12-1B00-4B38-AF7B-F9A9668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C1C2-CE6C-47F9-B033-2183A7B7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B1F7-AF6D-450B-BBC7-5ED9A88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0772-71EC-40CF-88E4-475D0F8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33EE-7602-4A0B-8C99-1E6E543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3906-E602-490F-96E8-DF645E2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4D2E-2860-4814-A658-6D6F49D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7B98-66F6-49EE-A5A0-CA7F907B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74CE-72E2-4EE0-9C3F-D12303D2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74B5-73D1-4A92-92C3-74D1B560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1D3A-34C8-4FE2-81BB-E56DD251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99C0-7EF6-4A3C-AFE0-28A5F6D8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EC00-40C3-4B8A-8104-D0B1780B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5D2E-6A35-40CE-8704-03C9C74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F948-8434-461C-A400-BCC7915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B6B1-27AF-40D5-A074-850BDC7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1126-ADAD-4ABD-8257-8EDE670A5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27F-ADDD-47D3-8491-2689B7940E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Arial"/>
              </a:rPr>
              <a:t>Графы.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следовательская раб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бучающегося 6 «а»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Крылова Павл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Сосуд ёмкостью  8 литров наполнен водой, имеется ещё два пустых сосуда ёмкостью 5 и 3 литра. Как с помощью этих сосудов отмерить ровно один литр воды?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Эту задачу можно решать несколькими спосо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С помощью рассу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Перельём воду из 8 литрового  сосуда в 3-х литров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Затем из 3-х литрового перельём в 5-ти литровый сос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з 8-ми литрового сосуда, в котором осталось 5 литров воды, снова перельём воду в 3-х литров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з 3-х литрового сосуда добавим в 5-ти литровый сосуд, в котором уже есть 3 литра воды, ещё 2 ли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Таким образом в 3-х литровом сосуде осталось 1 литр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. С помощью схематического рисунка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738440" y="1600200"/>
            <a:ext cx="5667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 помощью таблицы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 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л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 л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Я решил рассмотреть решение этой задачи с помощью графа.</a:t>
            </a:r>
            <a:br>
              <a:rPr sz="28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Вершины графа-это три числа, которые показывают, в каких сосудах сколько литров воды находится( 1 число – количество воды в 8 литровом сосуде, 2 число – в 5 литровом, 3 число – в 3 литрово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По решению видно, что задача решается двумя способами, но самый короткий в четыре ша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4643280" y="764640"/>
            <a:ext cx="4321440" cy="60930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5796000" y="1341360"/>
            <a:ext cx="1800360" cy="43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, 0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43280" y="2205000"/>
            <a:ext cx="1150920" cy="50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, 5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96360" y="2133720"/>
            <a:ext cx="1079280" cy="50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, 0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43280" y="3068640"/>
            <a:ext cx="1081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, 2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43280" y="3933720"/>
            <a:ext cx="1152720" cy="505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, 2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43280" y="4724280"/>
            <a:ext cx="1152720" cy="576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, 0,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43280" y="5516640"/>
            <a:ext cx="122400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, 5,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96360" y="2997360"/>
            <a:ext cx="1079280" cy="50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, 3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596360" y="3860640"/>
            <a:ext cx="1081080" cy="57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, 3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667640" y="4797360"/>
            <a:ext cx="1008000" cy="576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, 5,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084720" y="2997360"/>
            <a:ext cx="1151280" cy="647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, 5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5219280" y="1773360"/>
            <a:ext cx="1297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020000" y="1773360"/>
            <a:ext cx="108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4836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19640" y="530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292720" y="270828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17236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172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101080" y="44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876720" y="2637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нтересные задачи, весёлые головоломки всё это графы. Хороший способ провести время и занять друзей. Изучая тему графы я не тратил время зря, а наоборот с польз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и решении задач с помощью графов, мы имеем возможность предусмотреть все возможные варианты  решения задачи и выбрать наиболее рациональ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щё в начальной школе мы не раз встречались с задачами, в которых нужно было рассматривать различные комбинации и сочетания. Например, используя цифры 3;5;8;2; составить всевозможные двузначные числа. Мы решали эту задачу с помощью перебора различных вариантов (35;38;32;82;58;и т.д.). А на занятиях математического кружка нам показали, как можно выполнить это задание с помощью граф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25040" cy="53244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619280" y="242100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64000" y="242100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08720" y="249228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249228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8728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400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5600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53000"/>
            <a:ext cx="28728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8000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472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4653000"/>
            <a:ext cx="28908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92720" y="4653000"/>
            <a:ext cx="28728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2436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636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8800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9308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2472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95672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31708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332000" y="3284640"/>
            <a:ext cx="50328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763640" y="3357720"/>
            <a:ext cx="287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24000" y="3357720"/>
            <a:ext cx="1443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40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40000" y="3284640"/>
            <a:ext cx="36036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419280" y="3357720"/>
            <a:ext cx="4316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924000" y="3357720"/>
            <a:ext cx="142920" cy="136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11640" y="3357720"/>
            <a:ext cx="21600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6000" y="3213000"/>
            <a:ext cx="50328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35640" y="3357720"/>
            <a:ext cx="2887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867280" y="342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3429000"/>
            <a:ext cx="216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00720" y="3284640"/>
            <a:ext cx="43200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236000" y="3284640"/>
            <a:ext cx="5047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667280" y="3429000"/>
            <a:ext cx="28908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101080" y="342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3284640"/>
            <a:ext cx="14256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4348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78136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02080" y="510552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;   35;    38;   32;    53;    55;    58;  52;   83;  85;   88;  82;  23;  24; 28; 22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52200" y="268272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 чис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9640" y="4195800"/>
            <a:ext cx="3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 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История возникновения графо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 одной из версий впервые графы были изобретены в Англии и Германии одновременно в конце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начале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I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ека. В Англии они использовались для решений математических задач, а в Германии они использовались совсем по другому назначению, как мера оплаты. На фермы накладывались графы, но оплачивать их надо было не деньгами, а тем, что производили этих ферм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 другой версии графы возникли в России в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lll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веке. Использовались они только для решения математических задач. Крупнейший математик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lll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века Леонард Эйлер стал заниматься графами.  Он первый с помощью графов  описывал решение головоломок и математических развлекательных задач. Широкое развитие теория графов получила с 50-х г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века в связи с развитием кибернетики и вычислительной техн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то такое графы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фы это геометрические фигуры, состоящие из точек, которые называют вершинами, и соединяющих их отрезков, которые называются рёбрами графа. При этом с помощью вершин изображают элементы некоторого множества (предметов, людей, числовых и буквенных кодов и т.п.), а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щью рёбер определенные связи между этими предме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удобства иллюстрации условия задачи с помощью графа его вершины-точки могут быть заменены кружками или прямоугольниками, а рёбра-отрезки - любыми лини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206064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12000" y="191628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00720" y="2852640"/>
            <a:ext cx="287280" cy="289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3213000"/>
            <a:ext cx="28872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64000" y="2349360"/>
            <a:ext cx="144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508720" y="2060280"/>
            <a:ext cx="503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27640" y="220500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24360" y="306864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08720" y="227664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651280" y="2205000"/>
            <a:ext cx="433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640" y="4508640"/>
            <a:ext cx="73080" cy="72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51640" y="5373720"/>
            <a:ext cx="7272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4149720"/>
            <a:ext cx="7164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77080" y="5013360"/>
            <a:ext cx="7128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380360" y="5516640"/>
            <a:ext cx="71280" cy="7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581360"/>
            <a:ext cx="21564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508720" y="414936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724360" y="501300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24360" y="5445000"/>
            <a:ext cx="172728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2928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353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29640" y="47451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7400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3436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Генеалогическое древо,  также является примером графа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5516640"/>
            <a:ext cx="2592360" cy="21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35280" y="4221000"/>
            <a:ext cx="1368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р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35640" y="4221000"/>
            <a:ext cx="144000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ть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71640" y="3068640"/>
            <a:ext cx="10792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16360" y="3068640"/>
            <a:ext cx="1150920" cy="358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3068640"/>
            <a:ext cx="1224000" cy="358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г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32720" y="3068640"/>
            <a:ext cx="122400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555640" y="4581360"/>
            <a:ext cx="1368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643280" y="4581360"/>
            <a:ext cx="165744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1402920" y="3429000"/>
            <a:ext cx="86508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627280" y="3429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508720" y="342900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300720" y="3429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При взгляде на географическую карту сразу бросается в глаза сеть железных и автомобильных дорог. Это типичный граф: кружки обозначают станции-вершины, а соединяющие их пути – рёбра.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116000" y="1490760"/>
            <a:ext cx="7153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Рассмотрим пример применения графа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аф   изображает схему дорог между селами М; А; Б; В; Г. Здесь каждые две вершины соединены между собой ребром. Такой граф называется полным. Числа на рисунке обозначают расстояния между селами по этим дорогам. Пусть в селе М находится почта и почтальон, который должен развести в остальные сёла письма. Существуют много разных маршрутов. Как выбрать наикратчайши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0" y="1557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27640" y="551664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76720" y="4869000"/>
            <a:ext cx="35892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19640" y="306864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667640" y="249228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85080" y="4221000"/>
            <a:ext cx="35892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435640" y="5157720"/>
            <a:ext cx="792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508360" y="34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516720" y="4508640"/>
            <a:ext cx="144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443640" y="2852640"/>
            <a:ext cx="136836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292720" y="3429000"/>
            <a:ext cx="7128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435640" y="2852280"/>
            <a:ext cx="237636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508720" y="4436640"/>
            <a:ext cx="23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580000" y="2708280"/>
            <a:ext cx="2087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80000" y="3284640"/>
            <a:ext cx="2305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885080" y="2852640"/>
            <a:ext cx="1429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72580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73640" y="505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388200" y="464184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360" y="405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94360" y="2754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010360" y="340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05280" y="369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02360" y="3114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34000" y="347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49640" y="3114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Проще всего проанализировать все варианты. Сделать это можно только с помощью нового графа, на котором будут видны все   возможные маршруты. Вершина М вверху - начало маршрутов.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964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56000" y="1844640"/>
            <a:ext cx="287280" cy="289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35280" y="2565360"/>
            <a:ext cx="21564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3284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92360" y="256536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9640" y="2637000"/>
            <a:ext cx="216000" cy="215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20000" y="2637000"/>
            <a:ext cx="216000" cy="215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800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56000" y="328464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132000" y="328464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08360" y="3284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28472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88000" y="328464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328464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672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164360" y="328464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885080" y="3284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00000" y="393372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33200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9564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8436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7164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5928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4800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5280" y="3933720"/>
            <a:ext cx="1429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24360" y="3933720"/>
            <a:ext cx="1429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4036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427640" y="3933720"/>
            <a:ext cx="1429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43280" y="393372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3236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148360" y="393372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2436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1200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0072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5964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94836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23600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9636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02800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0000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33200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9564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436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71640" y="4508640"/>
            <a:ext cx="1447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5928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1964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708360" y="4508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95640" y="4508640"/>
            <a:ext cx="1447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84720" y="4508640"/>
            <a:ext cx="1429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00720" y="4508640"/>
            <a:ext cx="14436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16360" y="4508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932360" y="4508640"/>
            <a:ext cx="1429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4836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6400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51640" y="4508640"/>
            <a:ext cx="14436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1200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00720" y="4508640"/>
            <a:ext cx="1429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94836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236000" y="4508640"/>
            <a:ext cx="1425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5672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40328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63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95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48436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71640" y="501336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5928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4800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35280" y="501336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2436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21164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00720" y="5013360"/>
            <a:ext cx="1425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78800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0364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19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3564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51640" y="5013360"/>
            <a:ext cx="1425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1200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59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3600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59636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95672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050560" y="1989000"/>
            <a:ext cx="22338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708360" y="2133720"/>
            <a:ext cx="7192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2133720"/>
            <a:ext cx="720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1989000"/>
            <a:ext cx="230364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332000" y="2781360"/>
            <a:ext cx="5032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79640" y="285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24000" y="2781360"/>
            <a:ext cx="432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2781360"/>
            <a:ext cx="288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285264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80000" y="2781360"/>
            <a:ext cx="57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858920" y="285264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8720" y="2852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85264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164360" y="292428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308720" y="2781360"/>
            <a:ext cx="576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971280" y="342900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5892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907640" y="3429000"/>
            <a:ext cx="7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050920" y="342900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2556000" y="3500280"/>
            <a:ext cx="71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00360" y="342900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131640" y="3429000"/>
            <a:ext cx="7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76720" y="342900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708000" y="3429000"/>
            <a:ext cx="7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5128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21128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42764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16000" y="342900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32360" y="342900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21928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3564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79564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12000" y="3429000"/>
            <a:ext cx="72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37200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65964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01964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30872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740720" y="342900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02800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71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7164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40328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0328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835280" y="4076640"/>
            <a:ext cx="7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3528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6836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26836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5600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56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4328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4328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3200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32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19640" y="4076640"/>
            <a:ext cx="7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419640" y="4653000"/>
            <a:ext cx="72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0836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708000" y="465300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9564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995280" y="465300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11640" y="4076640"/>
            <a:ext cx="144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284720" y="465300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00720" y="4076640"/>
            <a:ext cx="71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71636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8000" y="465300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03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0364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19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19640" y="458136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435280" y="407664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43564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572400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2436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8472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08472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7236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43640" y="465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7236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659280" y="407664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65964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02000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0872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30872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667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6764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027640" y="407664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6676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166760" y="32130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95480" y="32590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68200" y="328464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11840" y="44370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1840" y="44370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75120" y="449892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913280" y="443700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70120" y="5324400"/>
            <a:ext cx="73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            42        44           50       37     37      41      37     36        37      45       50     41    45   </a:t>
            </a: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28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37    37       42     </a:t>
            </a: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 28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36     41        44        41         30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47640" y="2205000"/>
            <a:ext cx="350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7                                  10                       6                               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356840" y="2852640"/>
            <a:ext cx="643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7         11        5                                  7            6         13                                11        6        9                                       5        13             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57160" y="3571920"/>
            <a:ext cx="751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6         13               6       9            13    9          11     5        11    9          5     9         7      5        7     13        5       13        7         11       7        6             11      6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57880" y="4221000"/>
            <a:ext cx="73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9              9           13            13      6         6       9           9        5        5      11    11   13      13  5        5       7          7         6          6         11      11         7           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56080" y="4653000"/>
            <a:ext cx="746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4              6            4              10     6        10       4         6        4         7        6      7      4      10    4      7      10         7        6         10        6        7          10         7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6:15:50Z</dcterms:created>
  <dc:creator>123</dc:creator>
  <dc:description/>
  <dc:language>en-US</dc:language>
  <cp:lastModifiedBy>123</cp:lastModifiedBy>
  <dcterms:modified xsi:type="dcterms:W3CDTF">2010-03-28T04:48:54Z</dcterms:modified>
  <cp:revision>18</cp:revision>
  <dc:subject/>
  <dc:title>Графы.    </dc:title>
</cp:coreProperties>
</file>