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8A0F-58C6-4DC9-9C55-D2CF89EF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4ED2-DC86-4221-B9C5-F46FD2E1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1F1D-FE6B-464A-B12A-DCA2494E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A1F4-D635-4BF1-BD15-EA96A749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88ED-901C-4131-949C-03EFD44B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BF7C-362F-4556-A7B0-896E0B93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8F5C-962D-424B-A2E3-B6EBC984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85DF-E84B-4D21-9486-2AD24D70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BE90-4F16-46A0-8920-BE197891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9AFF-7DF5-4ED7-8F29-1062D562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6BB9-6B29-4F04-9F0B-4F1EA5B0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2166-0B36-4037-9468-A0242841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22B8-8CED-415E-9900-52FB2C8F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4C8F-33D1-43C6-8989-5B3DD125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C855-9F00-403E-B690-BB8B89AE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83E9-D426-4627-8369-01D0D700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E411-7EB2-4497-8717-E1EC0804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B758-B1BD-4C90-88FA-B8538317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62FC-EF0F-4C63-86B4-7124DB4F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C9FB0-6485-487F-A344-E661F853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2E11-8387-47BA-B3F4-6614A15E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CB59-DC78-41F8-9188-26AB1562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844B-342A-4F13-A6AB-24F7C713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E028B-613B-4263-9D00-1FE8641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552F-3AAB-49D8-A708-1D4F79F57F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9CE-A18A-4200-8457-47E4F6EAB7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Arial"/>
              </a:rPr>
              <a:t>Графы.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сследовательская рабо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обучающегося 6 «а»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Крылова Павл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Сосуд ёмкостью  8 литров наполнен водой, имеется ещё два пустых сосуда ёмкостью 5 и 3 литра. Как с помощью этих сосудов отмерить ровно один литр воды?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Эту задачу можно решать несколькими способ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С помощью рассу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Перельём воду из 8 литрового  сосуда в 3-х литров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Затем из 3-х литрового перельём в 5-ти литровый сос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Из 8-ми литрового сосуда, в котором осталось 5 литров воды, снова перельём воду в 3-х литров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Из 3-х литрового сосуда добавим в 5-ти литровый сосуд, в котором уже есть 3 литра воды, ещё 2 ли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Таким образом в 3-х литровом сосуде осталось 1 литр 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. С помощью схематического рисунка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738440" y="1600200"/>
            <a:ext cx="5667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 помощью таблицы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833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8 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3 л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5 л.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Я решил рассмотреть решение этой задачи с помощью графа.</a:t>
            </a:r>
            <a:br>
              <a:rPr sz="2800"/>
            </a:b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Arial"/>
              </a:rPr>
              <a:t>Вершины графа-это три числа, которые показывают, в каких сосудах сколько литров воды находится( 1 число – количество воды в 8 литровом сосуде, 2 число – в 5 литровом, 3 число – в 3 литрово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По решению видно, что задача решается двумя способами, но самый короткий в четыре ша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3"/>
          <a:stretch/>
        </p:blipFill>
        <p:spPr>
          <a:xfrm>
            <a:off x="4643280" y="764640"/>
            <a:ext cx="4321440" cy="60930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5796000" y="1341360"/>
            <a:ext cx="1800360" cy="43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, 0,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643280" y="2205000"/>
            <a:ext cx="1150920" cy="50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, 5,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96360" y="2133720"/>
            <a:ext cx="1079280" cy="50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, 0,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43280" y="3068640"/>
            <a:ext cx="108108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, 2,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43280" y="3933720"/>
            <a:ext cx="1152720" cy="505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, 2,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43280" y="4724280"/>
            <a:ext cx="1152720" cy="576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, 0,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643280" y="5516640"/>
            <a:ext cx="1224000" cy="503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, 5,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596360" y="2997360"/>
            <a:ext cx="1079280" cy="50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, 3,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596360" y="3860640"/>
            <a:ext cx="1081080" cy="574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, 3,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667640" y="4797360"/>
            <a:ext cx="1008000" cy="576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, 5,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084720" y="2997360"/>
            <a:ext cx="1151280" cy="647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, 5,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5219280" y="1773360"/>
            <a:ext cx="12970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020000" y="1773360"/>
            <a:ext cx="1081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14836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148360" y="443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219640" y="530064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292720" y="270828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17236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172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101080" y="44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6876720" y="2637000"/>
            <a:ext cx="1079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Интересные задачи, весёлые головоломки всё это графы. Хороший способ провести время и занять друзей. Изучая тему графы я не тратил время зря, а наоборот с польз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ри решении задач с помощью графов, мы имеем возможность предусмотреть все возможные варианты  решения задачи и выбрать наиболее рациональн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щё в начальной школе мы не раз встречались с задачами, в которых нужно было рассматривать различные комбинации и сочетания. Например, используя цифры 3;5;8;2; составить всевозможные двузначные числа. Мы решали эту задачу с помощью перебора различных вариантов (35;38;32;82;58;и т.д.). А на занятиях математического кружка нам показали, как можно выполнить это задание с помощью граф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7925040" cy="53244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619280" y="2421000"/>
            <a:ext cx="91440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64000" y="2421000"/>
            <a:ext cx="91440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08720" y="2492280"/>
            <a:ext cx="91440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524720" y="2492280"/>
            <a:ext cx="914400" cy="9144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187280" y="465300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619280" y="465300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2400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56000" y="465300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4653000"/>
            <a:ext cx="287280" cy="2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78000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8472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16360" y="4653000"/>
            <a:ext cx="289080" cy="2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292720" y="4653000"/>
            <a:ext cx="287280" cy="2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24360" y="465300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56360" y="465300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588000" y="465300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09308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24720" y="465300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956720" y="4653000"/>
            <a:ext cx="2872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317080" y="465300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332000" y="3284640"/>
            <a:ext cx="50328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763640" y="3357720"/>
            <a:ext cx="2872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24000" y="3357720"/>
            <a:ext cx="1443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340000" y="33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40000" y="3284640"/>
            <a:ext cx="36036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419280" y="3357720"/>
            <a:ext cx="43164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924000" y="3357720"/>
            <a:ext cx="142920" cy="136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211640" y="3357720"/>
            <a:ext cx="21600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56000" y="3213000"/>
            <a:ext cx="50328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435640" y="3357720"/>
            <a:ext cx="28872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867280" y="342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3429000"/>
            <a:ext cx="21600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300720" y="3284640"/>
            <a:ext cx="43200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7236000" y="3284640"/>
            <a:ext cx="50472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667280" y="3429000"/>
            <a:ext cx="28908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101080" y="3429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317080" y="3284640"/>
            <a:ext cx="14256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43480" y="265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78136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02080" y="510552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;   35;    38;   32;    53;    55;    58;  52;   83;  85;   88;  82;  23;  24; 28; 22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52200" y="268272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 чис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09640" y="4195800"/>
            <a:ext cx="39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 ч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История возникновения графов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 одной из версий впервые графы были изобретены в Англии и Германии одновременно в конце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V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начале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VI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ека. В Англии они использовались для решений математических задач, а в Германии они использовались совсем по другому назначению, как мера оплаты. На фермы накладывались графы, но оплачивать их надо было не деньгами, а тем, что производили этих ферм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 другой версии графы возникли в России в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Vlll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веке. Использовались они только для решения математических задач. Крупнейший математик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Vlll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века Леонард Эйлер стал заниматься графами.  Он первый с помощью графов  описывал решение головоломок и математических развлекательных задач. Широкое развитие теория графов получила с 50-х г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века в связи с развитием кибернетики и вычислительной техни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то такое графы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рафы это геометрические фигуры, состоящие из точек, которые называют вершинами, и соединяющих их отрезков, которые называются рёбрами графа. При этом с помощью вершин изображают элементы некоторого множества (предметов, людей, числовых и буквенных кодов и т.п.), а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мощью рёбер определенные связи между этими предме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удобства иллюстрации условия задачи с помощью графа его вершины-точки могут быть заменены кружками или прямоугольниками, а рёбра-отрезки - любыми линия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19640" y="2060640"/>
            <a:ext cx="28908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12000" y="1916280"/>
            <a:ext cx="288720" cy="288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300720" y="2852640"/>
            <a:ext cx="287280" cy="289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35640" y="3213000"/>
            <a:ext cx="288720" cy="287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64000" y="2349360"/>
            <a:ext cx="14472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508720" y="2060280"/>
            <a:ext cx="50328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27640" y="2205000"/>
            <a:ext cx="216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724360" y="3068640"/>
            <a:ext cx="57636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508720" y="2276640"/>
            <a:ext cx="792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651280" y="2205000"/>
            <a:ext cx="4330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35640" y="4508640"/>
            <a:ext cx="73080" cy="72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651640" y="5373720"/>
            <a:ext cx="72720" cy="71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4149720"/>
            <a:ext cx="71640" cy="71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77080" y="5013360"/>
            <a:ext cx="71280" cy="712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380360" y="5516640"/>
            <a:ext cx="71280" cy="73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581360"/>
            <a:ext cx="21564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508720" y="414936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5724360" y="501300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724360" y="5445000"/>
            <a:ext cx="172728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129280" y="43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35328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29640" y="474516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74000" y="524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434360" y="53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Генеалогическое древо,  также является примером графа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5516640"/>
            <a:ext cx="2592360" cy="2174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35280" y="4221000"/>
            <a:ext cx="136836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ор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35640" y="4221000"/>
            <a:ext cx="144000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тья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71640" y="3068640"/>
            <a:ext cx="107928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16360" y="3068640"/>
            <a:ext cx="1150920" cy="358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003640" y="3068640"/>
            <a:ext cx="1224000" cy="358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г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732720" y="3068640"/>
            <a:ext cx="1224000" cy="360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а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555640" y="4581360"/>
            <a:ext cx="1368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4643280" y="4581360"/>
            <a:ext cx="165744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1402920" y="3429000"/>
            <a:ext cx="86508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627280" y="3429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5508720" y="3429000"/>
            <a:ext cx="50328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300720" y="3429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При взгляде на географическую карту сразу бросается в глаза сеть железных и автомобильных дорог. Это типичный граф: кружки обозначают станции-вершины, а соединяющие их пути – рёбра.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116000" y="1490760"/>
            <a:ext cx="7153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Рассмотрим пример применения графа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раф   изображает схему дорог между селами М; А; Б; В; Г. Здесь каждые две вершины соединены между собой ребром. Такой граф называется полным. Числа на рисунке обозначают расстояния между селами по этим дорогам. Пусть в селе М находится почта и почтальон, который должен развести в остальные сёла письма. Существуют много разных маршрутов. Как выбрать наикратчайший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0" y="15573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227640" y="5516640"/>
            <a:ext cx="36036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076720" y="4869000"/>
            <a:ext cx="35892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219640" y="3068640"/>
            <a:ext cx="36036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667640" y="2492280"/>
            <a:ext cx="36036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885080" y="4221000"/>
            <a:ext cx="358920" cy="360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435640" y="5157720"/>
            <a:ext cx="79200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508360" y="34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516720" y="4508640"/>
            <a:ext cx="144000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443640" y="2852640"/>
            <a:ext cx="1368360" cy="26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292720" y="3429000"/>
            <a:ext cx="7128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435640" y="2852280"/>
            <a:ext cx="2376360" cy="20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508720" y="4436640"/>
            <a:ext cx="237636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5580000" y="2708280"/>
            <a:ext cx="2087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80000" y="3284640"/>
            <a:ext cx="23050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885080" y="2852640"/>
            <a:ext cx="14292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725800" y="537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73640" y="5059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388200" y="4641840"/>
            <a:ext cx="18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360" y="4051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994360" y="2754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010360" y="3403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05280" y="3691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002360" y="3114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434000" y="347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849640" y="3114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Проще всего проанализировать все варианты. Сделать это можно только с помощью нового графа, на котором будут видны все   возможные маршруты. Вершина М вверху - начало маршрутов.</a:t>
            </a: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964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356000" y="1844640"/>
            <a:ext cx="287280" cy="28908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835280" y="2565360"/>
            <a:ext cx="21564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3284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92360" y="256536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9640" y="2637000"/>
            <a:ext cx="216000" cy="215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20000" y="2637000"/>
            <a:ext cx="216000" cy="21564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8000" y="328464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56000" y="328464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132000" y="3284640"/>
            <a:ext cx="1447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708360" y="3284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284720" y="328464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88000" y="328464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92720" y="328464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67280" y="3284640"/>
            <a:ext cx="1447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6720" y="328464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164360" y="328464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885080" y="3284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00000" y="3933720"/>
            <a:ext cx="1447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33200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9564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484360" y="3933720"/>
            <a:ext cx="1447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771640" y="3933720"/>
            <a:ext cx="1447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05928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4800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35280" y="3933720"/>
            <a:ext cx="1429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24360" y="3933720"/>
            <a:ext cx="1429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14036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427640" y="3933720"/>
            <a:ext cx="1429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43280" y="3933720"/>
            <a:ext cx="1447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3236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148360" y="3933720"/>
            <a:ext cx="14292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43564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724360" y="3933720"/>
            <a:ext cx="1447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01200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30072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59640" y="3933720"/>
            <a:ext cx="144360" cy="1429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948360" y="3933720"/>
            <a:ext cx="14472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23600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9636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028000" y="3933720"/>
            <a:ext cx="144360" cy="144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0000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33200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76364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19564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48436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771640" y="4508640"/>
            <a:ext cx="1447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05928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41964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708360" y="4508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995640" y="4508640"/>
            <a:ext cx="1447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284720" y="4508640"/>
            <a:ext cx="1429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00720" y="4508640"/>
            <a:ext cx="14436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16360" y="450864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932360" y="4508640"/>
            <a:ext cx="1429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14836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6400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651640" y="4508640"/>
            <a:ext cx="14436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1200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300720" y="4508640"/>
            <a:ext cx="142920" cy="1425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948360" y="450864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236000" y="4508640"/>
            <a:ext cx="1425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56720" y="450864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40328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6364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9564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48436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771640" y="501336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05928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4800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35280" y="501336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92436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21164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00720" y="5013360"/>
            <a:ext cx="1425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78800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00364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1964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435640" y="5013360"/>
            <a:ext cx="1429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51640" y="5013360"/>
            <a:ext cx="1425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01200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0072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65964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948360" y="5013360"/>
            <a:ext cx="14472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23600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59636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956720" y="5013360"/>
            <a:ext cx="144360" cy="144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050560" y="1989000"/>
            <a:ext cx="223380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3708360" y="2133720"/>
            <a:ext cx="71928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2133720"/>
            <a:ext cx="720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716360" y="1989000"/>
            <a:ext cx="2303640" cy="6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332000" y="2781360"/>
            <a:ext cx="50328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79640" y="2852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24000" y="2781360"/>
            <a:ext cx="43200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2781360"/>
            <a:ext cx="28872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285264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780000" y="2781360"/>
            <a:ext cx="57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4858920" y="285264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4000" y="2924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08720" y="2852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6588000" y="2852640"/>
            <a:ext cx="43200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164360" y="292428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308720" y="2781360"/>
            <a:ext cx="57636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971280" y="3429000"/>
            <a:ext cx="215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25892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907640" y="3429000"/>
            <a:ext cx="7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050920" y="342900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2556000" y="3500280"/>
            <a:ext cx="7128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700360" y="342900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131640" y="3429000"/>
            <a:ext cx="7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76720" y="342900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708000" y="3429000"/>
            <a:ext cx="7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5128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421128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427640" y="3429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716000" y="342900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32360" y="342900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21928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35640" y="3429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79564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012000" y="3429000"/>
            <a:ext cx="72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637200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659640" y="3429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019640" y="342900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30872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740720" y="342900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028000" y="3429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71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7164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40328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403280" y="465300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835280" y="4076640"/>
            <a:ext cx="72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83528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6836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26836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55600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56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4328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4328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13200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132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419640" y="4076640"/>
            <a:ext cx="72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419640" y="4653000"/>
            <a:ext cx="7272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08360" y="4076640"/>
            <a:ext cx="71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708000" y="465300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95640" y="4076640"/>
            <a:ext cx="71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3995280" y="465300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211640" y="4076640"/>
            <a:ext cx="144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4284720" y="465300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500720" y="4076640"/>
            <a:ext cx="71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716360" y="4076640"/>
            <a:ext cx="71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8000" y="4653000"/>
            <a:ext cx="7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03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03640" y="465300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19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19640" y="4581360"/>
            <a:ext cx="7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5435280" y="4076640"/>
            <a:ext cx="7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435640" y="465300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5724000" y="4076640"/>
            <a:ext cx="7164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2436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08472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08472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37236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443640" y="4653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37236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659280" y="4076640"/>
            <a:ext cx="7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659640" y="4653000"/>
            <a:ext cx="73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02000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30872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30872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667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66764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027640" y="4076640"/>
            <a:ext cx="730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000" y="4653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166760" y="3187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166760" y="32130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095480" y="32590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68200" y="3284640"/>
            <a:ext cx="2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911840" y="44370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911840" y="44370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75120" y="4498920"/>
            <a:ext cx="18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913280" y="4437000"/>
            <a:ext cx="24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70120" y="5324400"/>
            <a:ext cx="737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30             42        44           50       37     37      41      37     36        37      45       50     41    45   </a:t>
            </a: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28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37    37       42     </a:t>
            </a:r>
            <a:r>
              <a:rPr b="0" lang="en-US" sz="800" spc="-1" strike="noStrike">
                <a:solidFill>
                  <a:srgbClr val="ff3300"/>
                </a:solidFill>
                <a:latin typeface="Arial"/>
              </a:rPr>
              <a:t> 28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36     41        44        41         30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47640" y="2205000"/>
            <a:ext cx="350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7                                  10                       6                               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356840" y="2852640"/>
            <a:ext cx="643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7         11        5                                  7            6         13                                11        6        9                                       5        13             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57160" y="3571920"/>
            <a:ext cx="751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6         13               6       9            13    9          11     5        11    9          5     9         7      5        7     13        5       13        7         11       7        6             11      6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57880" y="4221000"/>
            <a:ext cx="739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9              9           13            13      6         6       9           9        5        5      11    11   13      13  5        5       7          7         6          6         11      11         7           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56080" y="4653000"/>
            <a:ext cx="746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4              6            4              10     6        10       4         6        4         7        6      7      4      10    4      7      10         7        6         10        6        7          10         7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6:15:50Z</dcterms:created>
  <dc:creator>123</dc:creator>
  <dc:description/>
  <dc:language>en-US</dc:language>
  <cp:lastModifiedBy>123</cp:lastModifiedBy>
  <dcterms:modified xsi:type="dcterms:W3CDTF">2010-03-28T04:48:54Z</dcterms:modified>
  <cp:revision>18</cp:revision>
  <dc:subject/>
  <dc:title>Графы.    </dc:title>
</cp:coreProperties>
</file>