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B621-F011-4958-A742-6FC30FF33B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4374-9BF7-4C8A-96C0-57738E069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5973-3999-497D-A62B-4C068A30E0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CF2-B062-4C1E-AEEC-23DBD4A7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968-5148-4CFC-B162-D58D48AA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017-500F-41D4-84DF-E444D6E3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740-7783-4867-B174-F5B5989E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FD21-DD5E-46FF-B2E0-88DCAD08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8882-D962-4633-8365-F5FC0733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E85A-D9C0-466F-9BBB-79D0444D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291C-15DD-454F-8252-4522E630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8513-04E8-4CD4-BC36-3F5B7968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F42E-1CB8-4F8A-A92A-21F1A1D2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E9C-2216-4471-8AA4-332F59C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2B9-2AB1-4145-A94A-F9B0328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BDBE-BADF-431D-9632-5F5087BC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5998-D383-4C5C-A503-EEB09B1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439E-C82C-46FC-91F9-C1BB90B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F35A-A246-4698-B1DB-AB9D9804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0035-3446-4921-A05E-E7350B55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BFCB-1199-4108-819A-4AF6B94D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38721-A56D-426D-9728-F36FCF02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A701-2684-402B-A001-67ED610A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EE6D-782B-4874-9514-EF7C1FC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EFF3-292C-4663-912A-848509E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4EF-0B5F-4F80-BDA3-A59367DA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F64F-8087-4FD8-9E92-F09718BF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4CE77-C6BF-4886-9179-E9443D9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E99E-DA3A-4357-9F41-6363DBD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1FF0-A9E3-4687-94DF-3012D2E6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7F2F-1C80-44DD-84E0-62A7FD2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F3B8-344A-49A3-993A-79EE8C9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C3745-B7C8-4FBB-8B5F-B889B7F2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D447-5A75-478F-82BF-6BB2D269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93459-5A1F-4390-947D-4DE12C02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EEA0-6AC3-42A9-A93E-088A3FF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1D7-6CE0-475F-A44A-4DCE494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0642-CE51-4D5C-938C-16713CD6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8EBE-23A1-47AC-95B5-53209F8E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5E09B-3A11-41D4-A8FF-FB2A0103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6B6EF-75F1-4016-93E5-8C1CA8E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9704-E764-45B3-9125-AFA2F23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26E8-2853-42E8-8414-97096C3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E53B-F3DE-49F1-B46B-0F2027E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C5C8-1270-4869-9E22-7522E8B2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0E49-207D-46FE-86D7-3A931AEF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86E2-1E1A-404D-A956-F55271F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D9F5-B0F7-4366-B0D8-9C16467F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6F83-5933-4C6E-AA94-7ECEDE2C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D7CF-683D-4E18-8B32-BFA7F422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C99A7-62E8-44C4-80EF-FC87F05E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6898-57ED-4DD7-9B04-31731B2A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51366-C1AF-47F2-A30B-D96460E7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A809-9B87-4E3D-AB0A-2BB4962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40F6-3943-4700-ACE6-C0784D6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3B8A-9934-4863-B3AB-2F56A9F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8182-48EA-4784-951B-6B2D265B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2F76-568E-4D8B-AE3C-CC928D3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249-2711-4E68-8490-BAC2E3A7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AA17-AEEC-4D5E-AEA9-A2755F8F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2AC6-D5B3-41E5-9E09-ACE52253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66D31-6C6C-4E3C-9ECD-3345C463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1ED46-D51E-48DD-B90B-EA51809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EA388-E961-4BD3-84AF-3F4D8C8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2903-5E72-40CF-8A84-D78A07B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9C40-2DDB-4DF8-B814-58CC585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6B29-A48A-4595-AB34-2354A635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18BE-B0B3-4178-A74D-E0EB8DD9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76682-8DDD-4D0C-A7E2-8751E25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4FF-4006-43DA-B662-4445CF1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EDFBD-6CF0-4893-8FB8-4F542111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D3C0-C57F-49BE-8B7C-E640A287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7305-1267-4882-840E-90C70377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45ED8-0E62-4C53-A025-F0ABE4EB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E3C7-9886-4CC7-8810-2C1FB461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F80A-1097-4453-8CDF-A835629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2A76-A993-4480-8DB7-F8BEA250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9B30-335D-447C-82E6-FDF310D6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0209-1B67-425F-BB6E-5B5B976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EDAEC-BC5A-4DF1-8085-16C60E62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674-E405-4DB8-BDD6-9CE467F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C5A44-ECA2-4680-AE52-2926E747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01A13-3CFD-4E9D-B4E0-FEC17E4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F2A4-0488-403D-9488-79DBA881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E78E-26B6-46C5-9E50-65E7AC33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0D086-7DB3-49C2-ADDA-03E3C830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0C1-74BD-4E75-98BC-8ECEF94C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D76C-D1EA-4CD2-9B73-102CAC4049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D709-E6D7-44AE-819C-EA5CFDD6AC1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DEAE-0C5C-4948-8AA9-6EB38771D9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48F-DF09-4D17-91AF-A0ED1FB45C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C49A-51C0-41DB-97BE-39074488AC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CAD-443F-4D75-A9C0-F8814E6F9A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69A-DE03-4CC1-8B3B-7EB3CF25D5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515880" y="620640"/>
            <a:ext cx="8088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Хранение хлеба 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машних условия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рактическая значимость работы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 правильном хранении хлеба мы экономим на стоимости дополнительно купленного хлеба и ограничиваем свой организм от вредных микробов, получаемых в виде плесени при неправильном хран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нирую познакомить со своей работой родителей своего класса, дать им составленные мною рекомендации по хранению хлеба в домашних условиях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orbel"/>
              </a:rPr>
              <a:t>Спасибо за внимание!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2" name="Picture 17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2438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8" descr=""/>
          <p:cNvPicPr/>
          <p:nvPr/>
        </p:nvPicPr>
        <p:blipFill>
          <a:blip r:embed="rId2"/>
          <a:stretch/>
        </p:blipFill>
        <p:spPr>
          <a:xfrm>
            <a:off x="2133720" y="3657600"/>
            <a:ext cx="2619360" cy="2847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0" descr=""/>
          <p:cNvPicPr/>
          <p:nvPr/>
        </p:nvPicPr>
        <p:blipFill>
          <a:blip r:embed="rId4"/>
          <a:stretch/>
        </p:blipFill>
        <p:spPr>
          <a:xfrm>
            <a:off x="6019920" y="3886200"/>
            <a:ext cx="25905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1828800" y="304920"/>
            <a:ext cx="56386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 сперва на воле в пол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м цвёл и колосил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огда обмолоти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в зерно вдруг превратил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зерна – в муку и тест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газине занял ме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1322569749_hleb"/>
          <p:cNvPicPr/>
          <p:nvPr/>
        </p:nvPicPr>
        <p:blipFill>
          <a:blip r:embed="rId1"/>
          <a:stretch/>
        </p:blipFill>
        <p:spPr>
          <a:xfrm>
            <a:off x="609480" y="3429000"/>
            <a:ext cx="3867120" cy="2838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7335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Немного истори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Ученые полагают,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что впервые хлеб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появился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на земле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свыше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15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тысяч лет назад.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Рисунок 1" descr=""/>
          <p:cNvPicPr/>
          <p:nvPr/>
        </p:nvPicPr>
        <p:blipFill>
          <a:blip r:embed="rId1"/>
          <a:stretch/>
        </p:blipFill>
        <p:spPr>
          <a:xfrm>
            <a:off x="4800600" y="1197000"/>
            <a:ext cx="3657600" cy="1622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4038480" y="3048120"/>
            <a:ext cx="449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 «хлеб» имеет древнегреческое происхожд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ло в том, что греки выпекали свой хлеб в специальных горшках, называемые «клибано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572314"/>
                </a:solidFill>
                <a:latin typeface="Corbel"/>
              </a:rPr>
              <a:t>Результаты исследования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Интересно было сравнить цену, состав и пищевую ценность хлебобулочных изделий на 100г. продукта, которые моя семья употребляет каждый ден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Хлеб «Социальны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Хлеб «Жито»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Батон нарезной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4" descr="SDC11217"/>
          <p:cNvPicPr/>
          <p:nvPr/>
        </p:nvPicPr>
        <p:blipFill>
          <a:blip r:embed="rId1"/>
          <a:stretch/>
        </p:blipFill>
        <p:spPr>
          <a:xfrm>
            <a:off x="5181480" y="2895480"/>
            <a:ext cx="1609920" cy="971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SDC11214"/>
          <p:cNvPicPr/>
          <p:nvPr/>
        </p:nvPicPr>
        <p:blipFill>
          <a:blip r:embed="rId2"/>
          <a:stretch/>
        </p:blipFill>
        <p:spPr>
          <a:xfrm>
            <a:off x="6934320" y="2895480"/>
            <a:ext cx="1628640" cy="990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SDC11218"/>
          <p:cNvPicPr/>
          <p:nvPr/>
        </p:nvPicPr>
        <p:blipFill>
          <a:blip r:embed="rId3"/>
          <a:stretch/>
        </p:blipFill>
        <p:spPr>
          <a:xfrm>
            <a:off x="5105520" y="4114800"/>
            <a:ext cx="1609560" cy="1000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7" descr="SDC11213"/>
          <p:cNvPicPr/>
          <p:nvPr/>
        </p:nvPicPr>
        <p:blipFill>
          <a:blip r:embed="rId4"/>
          <a:stretch/>
        </p:blipFill>
        <p:spPr>
          <a:xfrm>
            <a:off x="6934320" y="4114800"/>
            <a:ext cx="1628640" cy="1028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SDC11216"/>
          <p:cNvPicPr/>
          <p:nvPr/>
        </p:nvPicPr>
        <p:blipFill>
          <a:blip r:embed="rId5"/>
          <a:stretch/>
        </p:blipFill>
        <p:spPr>
          <a:xfrm>
            <a:off x="5105520" y="548640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SDC11215"/>
          <p:cNvPicPr/>
          <p:nvPr/>
        </p:nvPicPr>
        <p:blipFill>
          <a:blip r:embed="rId6"/>
          <a:stretch/>
        </p:blipFill>
        <p:spPr>
          <a:xfrm>
            <a:off x="7010280" y="5486400"/>
            <a:ext cx="167652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           </a:t>
            </a:r>
            <a:r>
              <a:rPr b="0" lang="ru-RU" sz="2900" spc="-1" strike="noStrike">
                <a:solidFill>
                  <a:srgbClr val="572314"/>
                </a:solidFill>
                <a:latin typeface="Corbel"/>
              </a:rPr>
              <a:t>Состав хлеба. 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3200400"/>
            <a:ext cx="8229600" cy="29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ука   пшеничная или ржан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оль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Дрожж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Вода  питьева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Сахар -песок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асло подсолнечное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маргарин (сдобный хлеб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Отруби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1900" spc="-1" strike="noStrike">
                <a:solidFill>
                  <a:srgbClr val="000000"/>
                </a:solidFill>
                <a:latin typeface="Corbel"/>
              </a:rPr>
              <a:t>Иногда «Улучшители» для большего хранения хлеб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0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3504960" cy="2286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228600" y="-2466000"/>
            <a:ext cx="8915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чёный хле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дукт , получаемы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ечкой разрыхлённого закваской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жжами тес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щевая ц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белки, углевод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ганец, железо, фосфор, витамины Е, В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-762480" y="277920"/>
            <a:ext cx="94489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72314"/>
                </a:solidFill>
                <a:latin typeface="Corbel"/>
              </a:rPr>
              <a:t>               </a:t>
            </a: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«Социальный»              «Жито»                            «Батон»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4" descr="SDC11218"/>
          <p:cNvPicPr/>
          <p:nvPr/>
        </p:nvPicPr>
        <p:blipFill>
          <a:blip r:embed="rId1"/>
          <a:stretch/>
        </p:blipFill>
        <p:spPr>
          <a:xfrm>
            <a:off x="3581280" y="609480"/>
            <a:ext cx="1828800" cy="9144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SDC11217"/>
          <p:cNvPicPr/>
          <p:nvPr/>
        </p:nvPicPr>
        <p:blipFill>
          <a:blip r:embed="rId2"/>
          <a:stretch/>
        </p:blipFill>
        <p:spPr>
          <a:xfrm>
            <a:off x="1066680" y="6858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SDC11216"/>
          <p:cNvPicPr/>
          <p:nvPr/>
        </p:nvPicPr>
        <p:blipFill>
          <a:blip r:embed="rId3"/>
          <a:stretch/>
        </p:blipFill>
        <p:spPr>
          <a:xfrm>
            <a:off x="6705720" y="68580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9"/>
          <p:cNvSpPr/>
          <p:nvPr/>
        </p:nvSpPr>
        <p:spPr>
          <a:xfrm>
            <a:off x="6019920" y="2057400"/>
            <a:ext cx="3124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чная высшего сорта, соль пищевая, дрожжи хлебопекарные прессованные, сахар-песок, маргарин молочный, вода пить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7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2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50,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6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6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2666880" y="2133720"/>
            <a:ext cx="32004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 пшеничная первого сорта, мука ржаная обдирная, вода питьевая, солод ржаной сухой, сахар-песок, масло подсолнечное,  соль пищевая, дрожжи , отруби пшенич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7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51,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5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0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228600" y="1905120"/>
            <a:ext cx="228600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: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ка пшеничная второго сорта, соль пищевая, дрожжи ,вода пить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щевая ценность  на 100г. продукта, г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– 6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ы – 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еводы – 41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лорийность на 100г., к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11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Болезни хлеб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2819160" cy="1981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819520" cy="19810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304920" y="3505320"/>
            <a:ext cx="4572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тофельная боле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572000" y="3505320"/>
            <a:ext cx="4267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сневение хл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380880" y="4191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ллическая болезнь (производстве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зариос (растительный СП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533520" y="5474520"/>
            <a:ext cx="8076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ок хра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   3 дня (72 часа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шеничный хлеб- 24 ча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езультаты исследования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в хлебнице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 за 72 часа (срок хранения указанный на упаковке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есь хлеб слегка зачерстве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через 6 дней. Хлеб «Социальный» и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«Жито» зачерствели полностью, и были непригодны в пищ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Батон нарезной покрылся плесень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мешение хлебных изделий приводит к ускоренному размножению продуктов распада, в результате чего хлеб начинает плесневеть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6" descr="01022012"/>
          <p:cNvPicPr/>
          <p:nvPr/>
        </p:nvPicPr>
        <p:blipFill>
          <a:blip r:embed="rId1"/>
          <a:stretch/>
        </p:blipFill>
        <p:spPr>
          <a:xfrm>
            <a:off x="6172200" y="4648320"/>
            <a:ext cx="2590920" cy="1790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01022012(001)"/>
          <p:cNvPicPr/>
          <p:nvPr/>
        </p:nvPicPr>
        <p:blipFill>
          <a:blip r:embed="rId2"/>
          <a:stretch/>
        </p:blipFill>
        <p:spPr>
          <a:xfrm>
            <a:off x="3200400" y="464832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01022012(002)"/>
          <p:cNvPicPr/>
          <p:nvPr/>
        </p:nvPicPr>
        <p:blipFill>
          <a:blip r:embed="rId3"/>
          <a:stretch/>
        </p:blipFill>
        <p:spPr>
          <a:xfrm>
            <a:off x="304920" y="464832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Результаты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лиэтиленовом пакете.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за 72 часа (срок хранения) хлеб без измене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- через 6 дней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Хлеб «Жито»  только зачерствел, а вот хлеб «Социальный» и нарезной батон покрылись плесень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5" descr="01022012(004)"/>
          <p:cNvPicPr/>
          <p:nvPr/>
        </p:nvPicPr>
        <p:blipFill>
          <a:blip r:embed="rId1"/>
          <a:stretch/>
        </p:blipFill>
        <p:spPr>
          <a:xfrm>
            <a:off x="380880" y="41148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8" descr="01022012(007)"/>
          <p:cNvPicPr/>
          <p:nvPr/>
        </p:nvPicPr>
        <p:blipFill>
          <a:blip r:embed="rId2"/>
          <a:stretch/>
        </p:blipFill>
        <p:spPr>
          <a:xfrm>
            <a:off x="3124080" y="411480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01022012(006)"/>
          <p:cNvPicPr/>
          <p:nvPr/>
        </p:nvPicPr>
        <p:blipFill>
          <a:blip r:embed="rId3"/>
          <a:stretch/>
        </p:blipFill>
        <p:spPr>
          <a:xfrm>
            <a:off x="6095880" y="419112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2:35:19Z</dcterms:created>
  <dc:creator>Учитель</dc:creator>
  <dc:description/>
  <dc:language>en-US</dc:language>
  <cp:lastModifiedBy>Ножкина Т.А</cp:lastModifiedBy>
  <dcterms:modified xsi:type="dcterms:W3CDTF">2013-03-13T09:19:45Z</dcterms:modified>
  <cp:revision>9</cp:revision>
  <dc:subject/>
  <dc:title>     Хранение хлеба               в домашних условиях</dc:title>
</cp:coreProperties>
</file>