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12.jpeg" ContentType="image/jpeg"/>
  <Override PartName="/ppt/media/image7.jpeg" ContentType="image/jpeg"/>
  <Override PartName="/ppt/media/image6.png" ContentType="image/png"/>
  <Override PartName="/ppt/media/image10.jpeg" ContentType="image/jpeg"/>
  <Override PartName="/ppt/media/image28.png" ContentType="image/png"/>
  <Override PartName="/ppt/media/image29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4.png" ContentType="image/png"/>
  <Override PartName="/ppt/media/image27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24.jpeg" ContentType="image/jpeg"/>
  <Override PartName="/ppt/media/image15.png" ContentType="image/png"/>
  <Override PartName="/ppt/media/image1.jpeg" ContentType="image/jpeg"/>
  <Override PartName="/ppt/media/image22.jpeg" ContentType="image/jpeg"/>
  <Override PartName="/ppt/media/image3.png" ContentType="image/png"/>
  <Override PartName="/ppt/media/image17.jpeg" ContentType="image/jpeg"/>
  <Override PartName="/ppt/media/image25.jpeg" ContentType="image/jpeg"/>
  <Override PartName="/ppt/media/image2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D1E97-A1FE-487A-9554-DCA8B21082F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9FFB0-0956-4BA0-83D5-30F17C27FEC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08B01-9EDD-47EE-AF8C-1620167B643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8ABE9-9C4F-41EE-9A3E-8C97E8099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8506B-5C60-48D4-B5F3-7FFE81D7A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5621E-4C55-4021-A0C8-0FB5B09C5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89EA2-1F3A-4E79-AA4E-414B1097F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49E7D-109B-43B1-A402-A7E1C7412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9B08A-D356-44AC-8117-DFF56489D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1D20E-86A7-4C03-B141-7381688FE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99503-7A80-450F-8A36-85B5E9C5D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017D4-4376-4F60-A864-A96FA9E03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23948-F4CB-45E0-AC95-14409EA1A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7F5AC-B827-4FBB-8BFB-6CB80AB91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436F5-BD5D-4A11-89F2-D7410C1E2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B1894-CB0C-47A8-B71F-7B9A48663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08711-75A3-4D3C-BF07-AF22D9654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EBB31-0CB6-4A9C-AC75-9F5120D52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553D6-9F05-437A-90D5-1B977EB52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B4E27-1561-4FA6-B73F-582D97E15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FD3751-FF22-4D98-89EA-467C8DB26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055068-473C-47B5-B1B2-2E97D85EA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45A04F-8B25-4B35-B838-131F952B9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9F28A6-83DA-414C-924E-F4319C01E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D5CB96-FEFF-4AD6-8CDB-BADD58B3F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5E991-D650-4606-BA9C-2EFE16600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778E6E-0F6D-462F-8141-F9661221E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FD340E-6965-4F0E-862F-F7E2764F9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2845D5-EE8C-40AB-830B-9F6420131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F0B0F1-4F38-48BB-A786-7CB87E8B4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891935-EF47-4384-834F-C0E41F0C0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EA10FE-0FA9-46E2-A5F6-EBDC25153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175E93-FE2D-4E86-B0AA-7F3276FB7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BE7215-70B8-42B5-A316-E620D098E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9C7302-CD58-46F6-A00F-69DFACCF9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C32040-2E38-43C1-8BD5-F4F7B1AD4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EBDF6-3705-43BF-BD47-5FC2B76E8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75A0E4-CB99-4978-A1B3-5E4F9E305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B92AB9-CB3F-41DC-84F3-4D8948EE9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ACB53D-BEFC-45CF-857F-89EEF9510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C1BDA2-3AC0-4BFA-A7F3-E51EAA61B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13FD4B-6F6F-4A26-86B9-AC60FB181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BEF938-4D67-4ECB-BA50-F8AAB68DE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A0AC07-1062-468E-B4AF-D3E3C6B45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8684D5-EA47-4C70-A71D-5E35B6BD1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5CA111-EF6D-43C8-B841-78090D602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4CC523-D233-4CD0-A279-9E19EF855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DA296-5B13-41B2-9C35-995F3491A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14E54E-1A06-473B-924E-34DAB1FDB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BD585C-FF3C-41D4-ABAC-6F75BB6A1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034F00-9C73-4B3F-B9C6-F055C2D94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BBFF93-7E02-48C3-BD24-C86D1678E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D06D6D-8EC6-4172-B127-1D2E316EF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1F36D8-C5F1-408E-9812-E0B05789E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A531AC-1167-412C-998A-8D7F60D73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373484-B0D0-49FF-8D65-A4A0926C5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5EBE57-DCBA-4EC1-83CC-344B40A2D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671EFC-9D71-4534-A118-CD3F205AB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2169C-B008-4BC9-9859-CEC669136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DD0B9F-26CA-4B4F-A396-88AB17D40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897395-DDAD-49C6-A6BC-487DC658B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6178B6-0D78-40DD-94D8-40A816A2C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7D08D8-22FC-45A1-917A-256925C03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75B769-1F62-4430-A7D6-4546B8572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E2E93C-07ED-447E-A768-8325E92ED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02E878-08BB-46C2-A010-903960BB2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E721E1-2502-4D0B-A878-A9B5FB048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970EF3-6B68-4F5F-B5EC-4EDFE1399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B5F1DF-398B-47B0-BDE8-5C82075D4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63A6C-515A-40AA-A08E-BBA50D925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5984E8-DDE6-43F6-BA19-6C1544CED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FA29FF-2A26-4E5E-98A5-84606D08D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BAD423-B69F-4F87-9DD0-5F96A7690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AA01B7-BDED-4EA9-BB90-5BB42ADF3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25F5AC-9242-4F82-8C94-70ED8D1A0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9896CC-A0A3-491D-9123-B47A8A827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C3B932-E475-43E9-AAC3-8EA207F70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1CB688-C54A-4CD9-81AF-76709D918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F5884E-D0CE-46A7-ACD2-3252F0657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3D6E3E-3CA6-4C7A-AFD7-DE9DE2F3E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94E16-8C8F-4E2C-BA06-440FCF049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225191-C317-4494-99AE-5869811DE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2420EC-E4B7-4C6B-9DA2-85B7F2BEE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FADA56-B236-4EA8-BD81-1DF62069A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39F4F8-77D7-4AB5-A6EF-671791371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78EFAF-1396-455C-AB75-EC48A25CC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D4F92-1E5E-4711-8207-7234A6E08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D7ED3-AA2E-4AD6-97A0-C7B05388E266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B19BC-C2A8-497F-9A16-7E7A6199F062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1E226-A3AA-4255-9F81-740A9E6D289B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2B8FB-C96C-4E1B-9CC3-6F663759F900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A7837-A9E9-4998-94E0-90A4A008133D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58E60-181E-45F9-BF97-7A291857A2BB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0C415-B1A0-486D-A9F9-9DDB22C04907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jpe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49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TextBox 1"/>
          <p:cNvSpPr/>
          <p:nvPr/>
        </p:nvSpPr>
        <p:spPr>
          <a:xfrm>
            <a:off x="515880" y="620640"/>
            <a:ext cx="80884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Проек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«Хранение хлеба в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домашних условиях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Практическая значимость работы.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При правильном хранении хлеба мы экономим на стоимости дополнительно купленного хлеба и ограничиваем свой организм от вредных микробов, получаемых в виде плесени при неправильном хранении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Планирую познакомить со своей работой родителей своего класса, дать им составленные мною рекомендации по хранению хлеба в домашних условиях.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strips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0000"/>
                </a:solidFill>
                <a:latin typeface="Corbel"/>
              </a:rPr>
              <a:t>Спасибо за внимание!</a:t>
            </a:r>
            <a:endParaRPr b="0" lang="en-US" sz="54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72" name="Picture 17" descr=""/>
          <p:cNvPicPr/>
          <p:nvPr/>
        </p:nvPicPr>
        <p:blipFill>
          <a:blip r:embed="rId1"/>
          <a:stretch/>
        </p:blipFill>
        <p:spPr>
          <a:xfrm>
            <a:off x="1066680" y="1828800"/>
            <a:ext cx="2667240" cy="243828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18" descr=""/>
          <p:cNvPicPr/>
          <p:nvPr/>
        </p:nvPicPr>
        <p:blipFill>
          <a:blip r:embed="rId2"/>
          <a:stretch/>
        </p:blipFill>
        <p:spPr>
          <a:xfrm>
            <a:off x="2133720" y="3657600"/>
            <a:ext cx="2619360" cy="284796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19" descr=""/>
          <p:cNvPicPr/>
          <p:nvPr/>
        </p:nvPicPr>
        <p:blipFill>
          <a:blip r:embed="rId3"/>
          <a:stretch/>
        </p:blipFill>
        <p:spPr>
          <a:xfrm>
            <a:off x="4572000" y="1828800"/>
            <a:ext cx="2819520" cy="274320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20" descr=""/>
          <p:cNvPicPr/>
          <p:nvPr/>
        </p:nvPicPr>
        <p:blipFill>
          <a:blip r:embed="rId4"/>
          <a:stretch/>
        </p:blipFill>
        <p:spPr>
          <a:xfrm>
            <a:off x="6019920" y="3886200"/>
            <a:ext cx="2590560" cy="25146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77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" dur="770" fill="hold"/>
                                        <p:tgtEl>
                                          <p:spTgt spid="37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7" dur="77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9" dur="77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" dur="2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0" dur="2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5" dur="2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0" dur="2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914400" y="114300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7" name="Rectangle 4"/>
          <p:cNvSpPr/>
          <p:nvPr/>
        </p:nvSpPr>
        <p:spPr>
          <a:xfrm>
            <a:off x="1828800" y="304920"/>
            <a:ext cx="5638680" cy="2653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ос сперва на воле в поле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етом цвёл и колосился,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 когда обмолотили,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н в зерно вдруг превратился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з зерна – в муку и тесто,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магазине занял мест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Picture 5" descr="1322569749_hleb"/>
          <p:cNvPicPr/>
          <p:nvPr/>
        </p:nvPicPr>
        <p:blipFill>
          <a:blip r:embed="rId1"/>
          <a:stretch/>
        </p:blipFill>
        <p:spPr>
          <a:xfrm>
            <a:off x="609480" y="3429000"/>
            <a:ext cx="3867120" cy="283860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7" descr=""/>
          <p:cNvPicPr/>
          <p:nvPr/>
        </p:nvPicPr>
        <p:blipFill>
          <a:blip r:embed="rId2"/>
          <a:stretch/>
        </p:blipFill>
        <p:spPr>
          <a:xfrm>
            <a:off x="4876920" y="3505320"/>
            <a:ext cx="3733560" cy="27432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572314"/>
                </a:solidFill>
                <a:latin typeface="Corbel"/>
              </a:rPr>
              <a:t>Немного истории.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           </a:t>
            </a:r>
            <a:r>
              <a:rPr b="1" lang="ru-RU" sz="2600" spc="-1" strike="noStrike">
                <a:solidFill>
                  <a:srgbClr val="000000"/>
                </a:solidFill>
                <a:latin typeface="Corbel"/>
              </a:rPr>
              <a:t>Ученые полагают, 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365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            </a:t>
            </a:r>
            <a:r>
              <a:rPr b="1" lang="ru-RU" sz="2600" spc="-1" strike="noStrike">
                <a:solidFill>
                  <a:srgbClr val="000000"/>
                </a:solidFill>
                <a:latin typeface="Corbel"/>
              </a:rPr>
              <a:t>что впервые хлеб 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365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1" lang="ru-RU" sz="2600" spc="-1" strike="noStrike">
                <a:solidFill>
                  <a:srgbClr val="000000"/>
                </a:solidFill>
                <a:latin typeface="Corbel"/>
              </a:rPr>
              <a:t>появился</a:t>
            </a: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1" lang="ru-RU" sz="2600" spc="-1" strike="noStrike">
                <a:solidFill>
                  <a:srgbClr val="000000"/>
                </a:solidFill>
                <a:latin typeface="Corbel"/>
              </a:rPr>
              <a:t>на земле 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365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rbel"/>
              </a:rPr>
              <a:t>свыше </a:t>
            </a: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15</a:t>
            </a:r>
            <a:r>
              <a:rPr b="1" lang="ru-RU" sz="2600" spc="-1" strike="noStrike">
                <a:solidFill>
                  <a:srgbClr val="000000"/>
                </a:solidFill>
                <a:latin typeface="Corbel"/>
              </a:rPr>
              <a:t>тысяч лет назад.</a:t>
            </a: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2" name="Рисунок 1" descr=""/>
          <p:cNvPicPr/>
          <p:nvPr/>
        </p:nvPicPr>
        <p:blipFill>
          <a:blip r:embed="rId1"/>
          <a:stretch/>
        </p:blipFill>
        <p:spPr>
          <a:xfrm>
            <a:off x="4800600" y="1197000"/>
            <a:ext cx="3657600" cy="162252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1" descr=""/>
          <p:cNvPicPr/>
          <p:nvPr/>
        </p:nvPicPr>
        <p:blipFill>
          <a:blip r:embed="rId2"/>
          <a:stretch/>
        </p:blipFill>
        <p:spPr>
          <a:xfrm>
            <a:off x="685800" y="3429000"/>
            <a:ext cx="3200400" cy="2895480"/>
          </a:xfrm>
          <a:prstGeom prst="rect">
            <a:avLst/>
          </a:prstGeom>
          <a:ln w="0">
            <a:noFill/>
          </a:ln>
        </p:spPr>
      </p:pic>
      <p:sp>
        <p:nvSpPr>
          <p:cNvPr id="334" name="Rectangle 6"/>
          <p:cNvSpPr/>
          <p:nvPr/>
        </p:nvSpPr>
        <p:spPr>
          <a:xfrm>
            <a:off x="4038480" y="3048120"/>
            <a:ext cx="44960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лово «хлеб» имеет древнегреческое происхождени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ело в том, что греки выпекали свой хлеб в специальных горшках, называемые «клибанос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572314"/>
                </a:solidFill>
                <a:latin typeface="Corbel"/>
              </a:rPr>
              <a:t>Результаты исследования</a:t>
            </a: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 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7396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rbel"/>
              </a:rPr>
              <a:t>Интересно было сравнить цену, состав и пищевую ценность хлебобулочных изделий на 100г. продукта, которые моя семья употребляет каждый день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53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marL="353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rbel"/>
              </a:rPr>
              <a:t>Хлеб «Социальный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53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53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rbel"/>
              </a:rPr>
              <a:t>Хлеб «Жито» 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53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53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53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rbel"/>
              </a:rPr>
              <a:t>Батон нарезной</a:t>
            </a:r>
            <a:r>
              <a:rPr b="0" lang="ru-RU" sz="4000" spc="-1" strike="noStrike">
                <a:solidFill>
                  <a:srgbClr val="000000"/>
                </a:solidFill>
                <a:latin typeface="Corbe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7" name="Picture 4" descr="SDC11217"/>
          <p:cNvPicPr/>
          <p:nvPr/>
        </p:nvPicPr>
        <p:blipFill>
          <a:blip r:embed="rId1"/>
          <a:stretch/>
        </p:blipFill>
        <p:spPr>
          <a:xfrm>
            <a:off x="5181480" y="2895480"/>
            <a:ext cx="1609920" cy="97164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5" descr="SDC11214"/>
          <p:cNvPicPr/>
          <p:nvPr/>
        </p:nvPicPr>
        <p:blipFill>
          <a:blip r:embed="rId2"/>
          <a:stretch/>
        </p:blipFill>
        <p:spPr>
          <a:xfrm>
            <a:off x="6934320" y="2895480"/>
            <a:ext cx="1628640" cy="99072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6" descr="SDC11218"/>
          <p:cNvPicPr/>
          <p:nvPr/>
        </p:nvPicPr>
        <p:blipFill>
          <a:blip r:embed="rId3"/>
          <a:stretch/>
        </p:blipFill>
        <p:spPr>
          <a:xfrm>
            <a:off x="5105520" y="4114800"/>
            <a:ext cx="1609560" cy="100008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7" descr="SDC11213"/>
          <p:cNvPicPr/>
          <p:nvPr/>
        </p:nvPicPr>
        <p:blipFill>
          <a:blip r:embed="rId4"/>
          <a:stretch/>
        </p:blipFill>
        <p:spPr>
          <a:xfrm>
            <a:off x="6934320" y="4114800"/>
            <a:ext cx="1628640" cy="102888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8" descr="SDC11216"/>
          <p:cNvPicPr/>
          <p:nvPr/>
        </p:nvPicPr>
        <p:blipFill>
          <a:blip r:embed="rId5"/>
          <a:stretch/>
        </p:blipFill>
        <p:spPr>
          <a:xfrm>
            <a:off x="5105520" y="5486400"/>
            <a:ext cx="1600200" cy="100980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9" descr="SDC11215"/>
          <p:cNvPicPr/>
          <p:nvPr/>
        </p:nvPicPr>
        <p:blipFill>
          <a:blip r:embed="rId6"/>
          <a:stretch/>
        </p:blipFill>
        <p:spPr>
          <a:xfrm>
            <a:off x="7010280" y="5486400"/>
            <a:ext cx="1676520" cy="10573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572314"/>
                </a:solidFill>
                <a:latin typeface="Corbel"/>
              </a:rPr>
              <a:t>           </a:t>
            </a:r>
            <a:r>
              <a:rPr b="0" lang="ru-RU" sz="2900" spc="-1" strike="noStrike">
                <a:solidFill>
                  <a:srgbClr val="572314"/>
                </a:solidFill>
                <a:latin typeface="Corbel"/>
              </a:rPr>
              <a:t>Состав хлеба. </a:t>
            </a:r>
            <a:endParaRPr b="0" lang="en-US" sz="2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457200" y="3200400"/>
            <a:ext cx="8229600" cy="294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7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Corbel"/>
              </a:rPr>
              <a:t>Мука   пшеничная или ржаная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7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Corbel"/>
              </a:rPr>
              <a:t>Соль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7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Corbel"/>
              </a:rPr>
              <a:t>Дрожжи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7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Corbel"/>
              </a:rPr>
              <a:t>Вода  питьевая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7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Corbel"/>
              </a:rPr>
              <a:t>Сахар -песок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7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Corbel"/>
              </a:rPr>
              <a:t>Масло подсолнечное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Corbel"/>
              </a:rPr>
              <a:t>   </a:t>
            </a:r>
            <a:r>
              <a:rPr b="1" lang="ru-RU" sz="1900" spc="-1" strike="noStrike">
                <a:solidFill>
                  <a:srgbClr val="000000"/>
                </a:solidFill>
                <a:latin typeface="Corbel"/>
              </a:rPr>
              <a:t>маргарин (сдобный хлеб)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7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Corbel"/>
              </a:rPr>
              <a:t>Отруби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Corbel"/>
              </a:rPr>
              <a:t>    </a:t>
            </a:r>
            <a:r>
              <a:rPr b="1" lang="ru-RU" sz="1900" spc="-1" strike="noStrike">
                <a:solidFill>
                  <a:srgbClr val="000000"/>
                </a:solidFill>
                <a:latin typeface="Corbel"/>
              </a:rPr>
              <a:t>Иногда «Улучшители» для большего хранения хлеба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5" name="Picture 20" descr=""/>
          <p:cNvPicPr/>
          <p:nvPr/>
        </p:nvPicPr>
        <p:blipFill>
          <a:blip r:embed="rId1"/>
          <a:stretch/>
        </p:blipFill>
        <p:spPr>
          <a:xfrm>
            <a:off x="5105520" y="3429000"/>
            <a:ext cx="3504960" cy="2286000"/>
          </a:xfrm>
          <a:prstGeom prst="rect">
            <a:avLst/>
          </a:prstGeom>
          <a:ln w="0">
            <a:noFill/>
          </a:ln>
        </p:spPr>
      </p:pic>
      <p:sp>
        <p:nvSpPr>
          <p:cNvPr id="346" name="Rectangle 5"/>
          <p:cNvSpPr/>
          <p:nvPr/>
        </p:nvSpPr>
        <p:spPr>
          <a:xfrm>
            <a:off x="228600" y="-2466000"/>
            <a:ext cx="89154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ечёный хлеб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продукт , получаемый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печкой разрыхлённого закваской ил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рожжами теста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ищевая ценност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белки, углеводы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рганец, железо, фосфор, витамины Е, В 6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-762480" y="277920"/>
            <a:ext cx="9448920" cy="1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572314"/>
                </a:solidFill>
                <a:latin typeface="Corbel"/>
              </a:rPr>
              <a:t>               </a:t>
            </a:r>
            <a:r>
              <a:rPr b="1" lang="ru-RU" sz="2200" spc="-1" strike="noStrike">
                <a:solidFill>
                  <a:srgbClr val="572314"/>
                </a:solidFill>
                <a:latin typeface="Corbel"/>
              </a:rPr>
              <a:t>«Социальный»              «Жито»                            «Батон»</a:t>
            </a:r>
            <a:endParaRPr b="0" lang="en-US" sz="22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48" name="Picture 4" descr="SDC11218"/>
          <p:cNvPicPr/>
          <p:nvPr/>
        </p:nvPicPr>
        <p:blipFill>
          <a:blip r:embed="rId1"/>
          <a:stretch/>
        </p:blipFill>
        <p:spPr>
          <a:xfrm>
            <a:off x="3581280" y="609480"/>
            <a:ext cx="1828800" cy="91440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4" descr="SDC11217"/>
          <p:cNvPicPr/>
          <p:nvPr/>
        </p:nvPicPr>
        <p:blipFill>
          <a:blip r:embed="rId2"/>
          <a:stretch/>
        </p:blipFill>
        <p:spPr>
          <a:xfrm>
            <a:off x="1066680" y="685800"/>
            <a:ext cx="1600200" cy="83808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4" descr="SDC11216"/>
          <p:cNvPicPr/>
          <p:nvPr/>
        </p:nvPicPr>
        <p:blipFill>
          <a:blip r:embed="rId3"/>
          <a:stretch/>
        </p:blipFill>
        <p:spPr>
          <a:xfrm>
            <a:off x="6705720" y="685800"/>
            <a:ext cx="1828800" cy="762120"/>
          </a:xfrm>
          <a:prstGeom prst="rect">
            <a:avLst/>
          </a:prstGeom>
          <a:ln w="0">
            <a:noFill/>
          </a:ln>
        </p:spPr>
      </p:pic>
      <p:sp>
        <p:nvSpPr>
          <p:cNvPr id="351" name="Rectangle 9"/>
          <p:cNvSpPr/>
          <p:nvPr/>
        </p:nvSpPr>
        <p:spPr>
          <a:xfrm>
            <a:off x="6019920" y="2057400"/>
            <a:ext cx="3124080" cy="420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став: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ука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шеничная высшего сорта, соль пищевая, дрожжи хлебопекарные прессованные, сахар-песок, маргарин молочный, вода питьева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ищевая ценность  на 100г. продукта, гр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елки – 7,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иры – 2,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глеводы – 50,5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лорийность на 100г., кка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26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цен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16-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10"/>
          <p:cNvSpPr/>
          <p:nvPr/>
        </p:nvSpPr>
        <p:spPr>
          <a:xfrm>
            <a:off x="2666880" y="2133720"/>
            <a:ext cx="3200400" cy="420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став: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ука пшеничная первого сорта, мука ржаная обдирная, вода питьевая, солод ржаной сухой, сахар-песок, масло подсолнечное,  соль пищевая, дрожжи , отруби пшеничны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ищевая ценность  на 100г. продукта, гр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елки – 7,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иры – 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глеводы – 51,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лорийность на 100г., кка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256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цен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20-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11"/>
          <p:cNvSpPr/>
          <p:nvPr/>
        </p:nvSpPr>
        <p:spPr>
          <a:xfrm>
            <a:off x="228600" y="1905120"/>
            <a:ext cx="2286000" cy="420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став: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ука пшеничная второго сорта, соль пищевая, дрожжи ,вода питьев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ищевая ценность  на 100г. продукта, гр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елки – 6,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иры – 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глеводы – 41,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лорийность на 100г., кка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208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цен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11-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72314"/>
                </a:solidFill>
                <a:latin typeface="Corbel"/>
              </a:rPr>
              <a:t>      </a:t>
            </a:r>
            <a:r>
              <a:rPr b="0" lang="ru-RU" sz="3600" spc="-1" strike="noStrike">
                <a:solidFill>
                  <a:srgbClr val="572314"/>
                </a:solidFill>
                <a:latin typeface="Corbel"/>
              </a:rPr>
              <a:t>Болезни хлеба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55" name="Picture 3" descr=""/>
          <p:cNvPicPr/>
          <p:nvPr/>
        </p:nvPicPr>
        <p:blipFill>
          <a:blip r:embed="rId1"/>
          <a:stretch/>
        </p:blipFill>
        <p:spPr>
          <a:xfrm>
            <a:off x="990720" y="1295280"/>
            <a:ext cx="2819160" cy="198144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4" descr=""/>
          <p:cNvPicPr/>
          <p:nvPr/>
        </p:nvPicPr>
        <p:blipFill>
          <a:blip r:embed="rId2"/>
          <a:stretch/>
        </p:blipFill>
        <p:spPr>
          <a:xfrm>
            <a:off x="5410080" y="1219320"/>
            <a:ext cx="2819520" cy="1981080"/>
          </a:xfrm>
          <a:prstGeom prst="rect">
            <a:avLst/>
          </a:prstGeom>
          <a:ln w="0">
            <a:noFill/>
          </a:ln>
        </p:spPr>
      </p:pic>
      <p:sp>
        <p:nvSpPr>
          <p:cNvPr id="357" name="Rectangle 5"/>
          <p:cNvSpPr/>
          <p:nvPr/>
        </p:nvSpPr>
        <p:spPr>
          <a:xfrm>
            <a:off x="304920" y="3505320"/>
            <a:ext cx="457200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ртофельная болезн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6"/>
          <p:cNvSpPr/>
          <p:nvPr/>
        </p:nvSpPr>
        <p:spPr>
          <a:xfrm>
            <a:off x="4572000" y="3505320"/>
            <a:ext cx="426708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лесневение хлеб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7"/>
          <p:cNvSpPr/>
          <p:nvPr/>
        </p:nvSpPr>
        <p:spPr>
          <a:xfrm>
            <a:off x="380880" y="4191120"/>
            <a:ext cx="7162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таллическая болезнь (производственна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узариос (растительный СПИД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8"/>
          <p:cNvSpPr/>
          <p:nvPr/>
        </p:nvSpPr>
        <p:spPr>
          <a:xfrm>
            <a:off x="533520" y="5474520"/>
            <a:ext cx="807696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рок хранения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:    3 дня (72 часа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шеничный хлеб- 24 час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/>
          </p:nvPr>
        </p:nvSpPr>
        <p:spPr>
          <a:xfrm>
            <a:off x="380880" y="304920"/>
            <a:ext cx="87631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           </a:t>
            </a: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Результаты исследования.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               </a:t>
            </a:r>
            <a:r>
              <a:rPr b="1" lang="ru-RU" sz="2600" spc="-1" strike="noStrike">
                <a:solidFill>
                  <a:srgbClr val="000000"/>
                </a:solidFill>
                <a:latin typeface="Corbel"/>
              </a:rPr>
              <a:t>            </a:t>
            </a: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          </a:t>
            </a:r>
            <a:r>
              <a:rPr b="1" lang="ru-RU" sz="2600" spc="-1" strike="noStrike">
                <a:solidFill>
                  <a:srgbClr val="000000"/>
                </a:solidFill>
                <a:latin typeface="Corbel"/>
              </a:rPr>
              <a:t>в хлебнице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7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       </a:t>
            </a:r>
            <a:r>
              <a:rPr b="0" lang="ru-RU" sz="2600" spc="-1" strike="noStrike">
                <a:solidFill>
                  <a:srgbClr val="000000"/>
                </a:solidFill>
                <a:latin typeface="Corbel"/>
              </a:rPr>
              <a:t>  </a:t>
            </a:r>
            <a:r>
              <a:rPr b="0" lang="ru-RU" sz="2600" spc="-1" strike="noStrike">
                <a:solidFill>
                  <a:srgbClr val="000000"/>
                </a:solidFill>
                <a:latin typeface="Corbel"/>
              </a:rPr>
              <a:t>- за 72 часа (срок хранения указанный на упаковке) 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3650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                </a:t>
            </a:r>
            <a:r>
              <a:rPr b="0" lang="ru-RU" sz="2600" spc="-1" strike="noStrike">
                <a:solidFill>
                  <a:srgbClr val="000000"/>
                </a:solidFill>
                <a:latin typeface="Corbel"/>
              </a:rPr>
              <a:t>весь хлеб слегка зачерствел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7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rbel"/>
              </a:rPr>
              <a:t>через 6 дней. Хлеб «Социальный» и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3650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orbel"/>
              </a:rPr>
              <a:t>«Жито» зачерствели полностью, и были непригодны в пищу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3650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rbel"/>
              </a:rPr>
              <a:t>Батон нарезной покрылся плесенью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3650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7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rbel"/>
              </a:rPr>
              <a:t>Смешение хлебных изделий приводит к ускоренному размножению продуктов распада, в результате чего хлеб начинает плесневеть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3650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3650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62" name="Picture 6" descr="01022012"/>
          <p:cNvPicPr/>
          <p:nvPr/>
        </p:nvPicPr>
        <p:blipFill>
          <a:blip r:embed="rId1"/>
          <a:stretch/>
        </p:blipFill>
        <p:spPr>
          <a:xfrm>
            <a:off x="6172200" y="4648320"/>
            <a:ext cx="2590920" cy="179064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7" descr="01022012(001)"/>
          <p:cNvPicPr/>
          <p:nvPr/>
        </p:nvPicPr>
        <p:blipFill>
          <a:blip r:embed="rId2"/>
          <a:stretch/>
        </p:blipFill>
        <p:spPr>
          <a:xfrm>
            <a:off x="3200400" y="4648320"/>
            <a:ext cx="2438280" cy="175248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8" descr="01022012(002)"/>
          <p:cNvPicPr/>
          <p:nvPr/>
        </p:nvPicPr>
        <p:blipFill>
          <a:blip r:embed="rId3"/>
          <a:stretch/>
        </p:blipFill>
        <p:spPr>
          <a:xfrm>
            <a:off x="304920" y="4648320"/>
            <a:ext cx="2286000" cy="18288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0" lang="ru-RU" sz="4400" spc="-1" strike="noStrike">
                <a:solidFill>
                  <a:srgbClr val="000000"/>
                </a:solidFill>
                <a:latin typeface="Corbel"/>
              </a:rPr>
              <a:t>Результаты исследования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      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в  </a:t>
            </a: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полиэтиленовом пакете.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- за 72 часа (срок хранения) хлеб без изменений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- через 6 дней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  Хлеб «Жито»  только зачерствел, а вот хлеб «Социальный» и нарезной батон покрылись плесенью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66" name="Picture 5" descr="01022012(004)"/>
          <p:cNvPicPr/>
          <p:nvPr/>
        </p:nvPicPr>
        <p:blipFill>
          <a:blip r:embed="rId1"/>
          <a:stretch/>
        </p:blipFill>
        <p:spPr>
          <a:xfrm>
            <a:off x="380880" y="4114800"/>
            <a:ext cx="2514600" cy="205740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8" descr="01022012(007)"/>
          <p:cNvPicPr/>
          <p:nvPr/>
        </p:nvPicPr>
        <p:blipFill>
          <a:blip r:embed="rId2"/>
          <a:stretch/>
        </p:blipFill>
        <p:spPr>
          <a:xfrm>
            <a:off x="3124080" y="4114800"/>
            <a:ext cx="2667240" cy="213372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7" descr="01022012(006)"/>
          <p:cNvPicPr/>
          <p:nvPr/>
        </p:nvPicPr>
        <p:blipFill>
          <a:blip r:embed="rId3"/>
          <a:stretch/>
        </p:blipFill>
        <p:spPr>
          <a:xfrm>
            <a:off x="6095880" y="4191120"/>
            <a:ext cx="2819520" cy="211428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31T22:35:19Z</dcterms:created>
  <dc:creator>Учитель</dc:creator>
  <dc:description/>
  <dc:language>en-US</dc:language>
  <cp:lastModifiedBy>Ножкина Т.А</cp:lastModifiedBy>
  <dcterms:modified xsi:type="dcterms:W3CDTF">2013-03-13T09:19:45Z</dcterms:modified>
  <cp:revision>9</cp:revision>
  <dc:subject/>
  <dc:title>     Хранение хлеба               в домашних условиях</dc:title>
</cp:coreProperties>
</file>