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CA7-F8B0-4A90-8D44-A3FC838C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25D-FE30-49ED-978F-42F27211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181-CA07-4195-8A69-FB3F4F2F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DC2-BD0D-4048-AF80-1FD89E80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032B-8194-4B30-BF0A-A2DFF4B8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7302-45EE-4985-B504-92268E6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2D05-0B60-4A1B-8D55-4B616B85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19FC-6DE3-4662-8F32-4FDA187D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9963-57B0-4D5B-A1F4-B2B9227E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32C8-AF2B-44E6-BB1E-229D7494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23FD-E3F2-4BE1-A041-3376050E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AEE-AA6E-4431-9648-A38FEED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ED73-1575-47B2-9C29-C18CA456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028A-5834-421B-B6E5-4EBADFA5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E657-8554-40FC-8550-A3576747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EA91-A0A5-42A1-9B6C-71FB6FEE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D226-C138-4634-B621-7987BDE3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D9E-0CE8-429B-A232-65E0F237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45B-308B-47AC-B160-294608B9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1CA-EA9C-4050-A338-77AA11D1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FCF0-FD21-4313-A1E9-78D4B9B2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794D-F3EE-48E8-BDDE-A004A94E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B0F-7AA6-4EEF-B4CC-B945E622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4DA-A263-40E0-A34F-815BB37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721C-FFC2-41D4-85F2-763BF1F0E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62E8-FA47-4184-86FE-95BE9BA0B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Евгений Онегин» -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роман в стихах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стория создания.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Особенности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жанра и композиц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00360" y="3968640"/>
            <a:ext cx="46800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63504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168120"/>
            <a:ext cx="820908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47520"/>
            <a:ext cx="82803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69840"/>
            <a:ext cx="845964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60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04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История созд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12960" y="2060280"/>
            <a:ext cx="4630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Пишу не роман, а роман в стихах – чертовская разниц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«Это лучшее моё произведение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9351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ан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й русский реалистический роман в стих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.Белинский: «Евгений Онегин» - энциклопедия русской жизни и в высшей степени произведение народ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386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3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8400"/>
            <a:ext cx="914400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5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3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8:28:15Z</dcterms:created>
  <dc:creator>Admin</dc:creator>
  <dc:description/>
  <dc:language>en-US</dc:language>
  <cp:lastModifiedBy>Admin</cp:lastModifiedBy>
  <dcterms:modified xsi:type="dcterms:W3CDTF">2008-12-12T18:58:04Z</dcterms:modified>
  <cp:revision>2</cp:revision>
  <dc:subject/>
  <dc:title>«Евгений Онегин» -  роман в стихах.  История создания.  Особенности  жанра и композиции</dc:title>
</cp:coreProperties>
</file>