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B455-BA49-49E5-B546-7F5723BE9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8F54-DE10-44AC-9944-632B5CB0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9BF9-4348-49F9-AADD-DBB2496BE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E25B-9850-4DEF-807D-8ADD38273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CA98-260C-4549-AFEA-2CE7F4E0E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6AF0-5225-40AD-82A4-69935DDC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E1FD-D7BF-42CB-9130-42696A89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BAB0-CF50-4A35-A2F4-67F843B9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1F45-DD31-4FBE-B743-E29D8D3A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1587-BF44-40DC-8A7C-B5D6E639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D02A-4F6D-4486-941B-DC7A274F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88EB-A3F3-46CF-A3AF-88AE1EEE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44C4-AFA8-43D8-B082-4D639AB2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B7E8-E52E-44F6-A106-B6A6BA91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E362-86A9-4F5D-B86C-285F3327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AC4E-3B43-42A3-B029-5F419EE05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F5CB-BD9A-42FC-B6B5-18EE10285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AA96-B043-4B4E-BD5D-6FE26A62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4EF9-C569-4A27-B9BA-79205F7A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C773-3684-41D8-B488-51356877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56A5-8F30-4921-A84A-47D6018C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EAC6-CE26-43BB-90EF-5ED81244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49A9-6689-42A8-A412-DE9FBE23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1F53-7FEE-4EC6-9B8E-01899999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4662-3FE6-4FA6-9D99-6D126779FF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F20B-987D-4B14-A488-A3A8DE6DE5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«Евгений Онегин» -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роман в стихах.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История создания.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Особенности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жанра и композици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00360" y="3968640"/>
            <a:ext cx="468000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635040"/>
            <a:ext cx="914400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95280" y="168120"/>
            <a:ext cx="8209080" cy="668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914400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503280"/>
            <a:ext cx="91440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9640" y="47520"/>
            <a:ext cx="828036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95280" y="69840"/>
            <a:ext cx="845964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60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04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История созда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12960" y="2060280"/>
            <a:ext cx="4630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«Пишу не роман, а роман в стихах – чертовская разниц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«Это лучшее моё произведение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А.С.Пушк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393516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Жанр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вый русский реалистический роман в стих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.Белинский: «Евгений Онегин» - энциклопедия русской жизни и в высшей степени произведение народно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059280" y="333360"/>
            <a:ext cx="386208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411280" y="0"/>
            <a:ext cx="432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68400"/>
            <a:ext cx="9144000" cy="67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9144000" cy="57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5280" y="0"/>
            <a:ext cx="5518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411280" y="0"/>
            <a:ext cx="432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8:28:15Z</dcterms:created>
  <dc:creator>Admin</dc:creator>
  <dc:description/>
  <dc:language>en-US</dc:language>
  <cp:lastModifiedBy>Admin</cp:lastModifiedBy>
  <dcterms:modified xsi:type="dcterms:W3CDTF">2008-12-12T18:58:04Z</dcterms:modified>
  <cp:revision>2</cp:revision>
  <dc:subject/>
  <dc:title>«Евгений Онегин» -  роман в стихах.  История создания.  Особенности  жанра и композиции</dc:title>
</cp:coreProperties>
</file>