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7C74-F01E-4FAF-A2B4-B11BCD9F49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EDDF-F378-46A8-87F9-5F3B2EC2C5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419E-2AEA-419F-9488-5EA91FDCC4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B39-A6E3-45C9-BA9F-2BF67735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F8F-F9E1-4E63-8FEC-8780D486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ACA-58A2-45A5-87B7-B733BA8B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86D-E1DD-46C3-8949-148482DA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387-FD11-4BA6-B803-A54D10FC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03B-F88E-4711-9C5C-BC3D6B8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AFC-69E2-4506-9A7F-77CE69EF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673-AF8E-4AD6-B333-24F403BA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034-264B-4EDA-80FD-9B00D500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789-5ECF-4B9B-B161-945C00F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33A-2018-432B-896E-F94CE72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8EE-F15D-40EA-B1D7-F89BFB86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4FE7-5A96-42FC-8F90-B5B1714FE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C:\Users\Администратор\Desktop\мой класс и я (8)\gagarin_skaf.jpg"/>
          <p:cNvPicPr/>
          <p:nvPr/>
        </p:nvPicPr>
        <p:blipFill>
          <a:blip r:embed="rId1"/>
          <a:stretch/>
        </p:blipFill>
        <p:spPr>
          <a:xfrm>
            <a:off x="142920" y="0"/>
            <a:ext cx="864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утон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ѐк от Солнца, что на его поверхности царит невероятный холод до минуса 230 градусов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Администратор\Desktop\мой класс и я (8)\pluto.jpg"/>
          <p:cNvPicPr/>
          <p:nvPr/>
        </p:nvPicPr>
        <p:blipFill>
          <a:blip r:embed="rId1"/>
          <a:stretch/>
        </p:blipFill>
        <p:spPr>
          <a:xfrm>
            <a:off x="2195640" y="2637000"/>
            <a:ext cx="489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Администратор\Desktop\мой класс и я (8)\56998_teleskop_zvezdy_nebo_vektor_1600x12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Администратор\Desktop\мой класс и я (8)\images (1)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2" name="zvuki-Kosmicheskaya-muzyka(muzofon.com)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31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planet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95280" y="278136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I-31-PARADOX-ven-f19_640-600x4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I-31-PARADOX-ven-f01_640-600x632.jpg"/>
          <p:cNvPicPr/>
          <p:nvPr/>
        </p:nvPicPr>
        <p:blipFill>
          <a:blip r:embed="rId2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9:18:09Z</dcterms:created>
  <dc:creator>DNA7 X86</dc:creator>
  <dc:description/>
  <dc:language>en-US</dc:language>
  <cp:lastModifiedBy>DNA7 X86</cp:lastModifiedBy>
  <dcterms:modified xsi:type="dcterms:W3CDTF">2013-04-07T11:35:42Z</dcterms:modified>
  <cp:revision>10</cp:revision>
  <dc:subject/>
  <dc:title>Слайд 1</dc:title>
</cp:coreProperties>
</file>