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A05-0BAB-4F90-92CC-92B2630251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245B-B800-4ADD-B8E3-B9476237D0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3E6-CBE7-4372-BF3E-2DDEE6D69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A0FB-212C-45E5-AA23-8540C3DF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CBC-C41A-408E-BBF0-933774CD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76D-079D-4ABA-8D88-6D19C335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905-553B-4E87-9EC2-A4B9E004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21F-A9FB-4469-A46E-B16B3F73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74A-BBCA-4995-9550-2846EB3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F64-B7A3-4404-87B6-A635D10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4C6-17AF-4B45-B4B4-2B7B31E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2503-1250-47DB-AD21-BF398C00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89FF-769B-4DB6-9547-C472B82C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2DA-F30A-478A-8DB8-E5B1B75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4364-F8BE-4B5B-B437-668222C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89D-8BCE-4E52-B541-1980F7700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C:\Users\Администратор\Desktop\мой класс и я (8)\gagarin_skaf.jpg"/>
          <p:cNvPicPr/>
          <p:nvPr/>
        </p:nvPicPr>
        <p:blipFill>
          <a:blip r:embed="rId1"/>
          <a:stretch/>
        </p:blipFill>
        <p:spPr>
          <a:xfrm>
            <a:off x="14292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тур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а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стоит из маленького каменного ядра и замёрзших га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птун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утон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ая маленькая планета Солнечной системы. Плутон так далѐк от Солнца, что на его поверхности царит невероятный холод до минуса 230 градусов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Администратор\Desktop\мой класс и я (8)\pluto.jpg"/>
          <p:cNvPicPr/>
          <p:nvPr/>
        </p:nvPicPr>
        <p:blipFill>
          <a:blip r:embed="rId1"/>
          <a:stretch/>
        </p:blipFill>
        <p:spPr>
          <a:xfrm>
            <a:off x="2195640" y="2637000"/>
            <a:ext cx="48974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C:\Users\Администратор\Desktop\мой класс и я (8)\56998_teleskop_zvezdy_nebo_vektor_1600x1200_(www.GdeFon.ru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Администратор\Desktop\мой класс и я (8)\images (1)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zvuki-Kosmicheskaya-muzyka(muzofon.com).mp3" descr=""/>
          <p:cNvPicPr/>
          <p:nvPr/>
        </p:nvPicPr>
        <p:blipFill>
          <a:blip r:embed="rId2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31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planet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ркурий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95280" y="278136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4" descr="I-31-PARADOX-ven-f19_640-600x4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I-31-PARADOX-ven-f01_640-600x632.jpg"/>
          <p:cNvPicPr/>
          <p:nvPr/>
        </p:nvPicPr>
        <p:blipFill>
          <a:blip r:embed="rId2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рс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br>
              <a:rPr sz="4000"/>
            </a:b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152280" y="2438280"/>
            <a:ext cx="4267440" cy="4227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572000" y="2438280"/>
            <a:ext cx="44308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Юпитер.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9:18:09Z</dcterms:created>
  <dc:creator>DNA7 X86</dc:creator>
  <dc:description/>
  <dc:language>en-US</dc:language>
  <cp:lastModifiedBy>DNA7 X86</cp:lastModifiedBy>
  <dcterms:modified xsi:type="dcterms:W3CDTF">2013-04-07T11:35:42Z</dcterms:modified>
  <cp:revision>10</cp:revision>
  <dc:subject/>
  <dc:title>Слайд 1</dc:title>
</cp:coreProperties>
</file>