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840B-7EF4-4EB6-B43C-0DBB7498D6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414E-1752-46C5-A277-4D9648C41E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64FA-7568-4574-8E2C-5611B172FE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40D9-C365-4501-913E-D85903D4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7365-6505-45BE-A39D-1C629165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DBA8-02FE-40B6-89EB-BA5CAA9C1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7071-CE22-4C01-8780-41194412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A91D-5425-4C82-8871-CB284DD5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1BBE-BF82-4F9C-9F71-4A2FCB0D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98F-EDF9-4AA9-AD57-F1F19C94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AF56-3D2D-45D9-B035-872F3721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B13A-8E24-435D-ACD8-64F62288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4E38-9053-4AD9-A25D-856E386B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8DED-E5BD-4C4C-8E3A-2AD5902A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4F1F-7815-4731-8693-2C7DB082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ABAB-D672-42D1-BBE5-22FF238EF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F3FB-7F7C-4DD4-89F2-8BC1F70F2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95280" y="476280"/>
            <a:ext cx="83059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«Загрязнение Мирового океана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572640" y="645156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900igr.ne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11280" y="4221000"/>
            <a:ext cx="39816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Работу выполнила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ученица 8 класса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Алексеенко Вика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908000" y="5950080"/>
            <a:ext cx="5134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У Ирбизинская СОШ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4B0D-BE00-47AC-AFF6-82E34FBA7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50920" y="18900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о 2 млн морских птиц и 100 тыс морских животных, в том числе до 30 тыс тюленей, ежегодно погибают, проглотив какие – либо пластмассовые изделия или запутавшись в обрывках сетей и тросов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8" descr="img1"/>
          <p:cNvPicPr/>
          <p:nvPr/>
        </p:nvPicPr>
        <p:blipFill>
          <a:blip r:embed="rId2"/>
          <a:stretch/>
        </p:blipFill>
        <p:spPr>
          <a:xfrm>
            <a:off x="971640" y="1413000"/>
            <a:ext cx="71276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0407-B27C-41C4-849C-A0FB2F76A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ути загрязнения гидросфер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22"/>
          <p:cNvGrpSpPr/>
          <p:nvPr/>
        </p:nvGrpSpPr>
        <p:grpSpPr>
          <a:xfrm>
            <a:off x="914400" y="1676520"/>
            <a:ext cx="7112160" cy="4572000"/>
            <a:chOff x="914400" y="1676520"/>
            <a:chExt cx="7112160" cy="4572000"/>
          </a:xfrm>
        </p:grpSpPr>
        <p:sp>
          <p:nvSpPr>
            <p:cNvPr id="88" name="Text Box 5"/>
            <p:cNvSpPr/>
            <p:nvPr/>
          </p:nvSpPr>
          <p:spPr>
            <a:xfrm>
              <a:off x="3454560" y="3505320"/>
              <a:ext cx="2158920" cy="104436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Основные пути загрязнения гидросферы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6"/>
            <p:cNvSpPr/>
            <p:nvPr/>
          </p:nvSpPr>
          <p:spPr>
            <a:xfrm flipV="1">
              <a:off x="4597560" y="2460600"/>
              <a:ext cx="0" cy="10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7"/>
            <p:cNvSpPr/>
            <p:nvPr/>
          </p:nvSpPr>
          <p:spPr>
            <a:xfrm>
              <a:off x="5613480" y="4026600"/>
              <a:ext cx="1015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8"/>
            <p:cNvSpPr/>
            <p:nvPr/>
          </p:nvSpPr>
          <p:spPr>
            <a:xfrm flipH="1">
              <a:off x="2437920" y="4026600"/>
              <a:ext cx="101628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9"/>
            <p:cNvSpPr/>
            <p:nvPr/>
          </p:nvSpPr>
          <p:spPr>
            <a:xfrm flipH="1">
              <a:off x="4591800" y="4549680"/>
              <a:ext cx="11520" cy="10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 flipV="1">
              <a:off x="5613480" y="2590920"/>
              <a:ext cx="635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>
              <a:off x="5613480" y="4549680"/>
              <a:ext cx="635040" cy="78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2"/>
            <p:cNvSpPr/>
            <p:nvPr/>
          </p:nvSpPr>
          <p:spPr>
            <a:xfrm flipH="1">
              <a:off x="2819520" y="4549680"/>
              <a:ext cx="635040" cy="78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3"/>
            <p:cNvSpPr/>
            <p:nvPr/>
          </p:nvSpPr>
          <p:spPr>
            <a:xfrm flipH="1" flipV="1">
              <a:off x="2819520" y="2590920"/>
              <a:ext cx="635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3708360" y="1676520"/>
              <a:ext cx="1778040" cy="78408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Загрязнение нефтью и нефтепродуктами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5"/>
            <p:cNvSpPr/>
            <p:nvPr/>
          </p:nvSpPr>
          <p:spPr>
            <a:xfrm>
              <a:off x="5867280" y="1938240"/>
              <a:ext cx="1778040" cy="65268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Загрязнение сточными водами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6"/>
            <p:cNvSpPr/>
            <p:nvPr/>
          </p:nvSpPr>
          <p:spPr>
            <a:xfrm>
              <a:off x="6629400" y="3635280"/>
              <a:ext cx="1397160" cy="78444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Загрязнение тяжелыми металлами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7"/>
            <p:cNvSpPr/>
            <p:nvPr/>
          </p:nvSpPr>
          <p:spPr>
            <a:xfrm>
              <a:off x="5867280" y="5334120"/>
              <a:ext cx="2133720" cy="65232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Загрязнение кислотными дождями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18"/>
            <p:cNvSpPr/>
            <p:nvPr/>
          </p:nvSpPr>
          <p:spPr>
            <a:xfrm>
              <a:off x="3708360" y="5595840"/>
              <a:ext cx="1778040" cy="65268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Радиоактивное загрязнение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19"/>
            <p:cNvSpPr/>
            <p:nvPr/>
          </p:nvSpPr>
          <p:spPr>
            <a:xfrm>
              <a:off x="1676520" y="5334120"/>
              <a:ext cx="1396800" cy="65232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Тепловое загрязнение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20"/>
            <p:cNvSpPr/>
            <p:nvPr/>
          </p:nvSpPr>
          <p:spPr>
            <a:xfrm>
              <a:off x="914400" y="3635280"/>
              <a:ext cx="1523880" cy="65412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Механическое загрязнение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21"/>
            <p:cNvSpPr/>
            <p:nvPr/>
          </p:nvSpPr>
          <p:spPr>
            <a:xfrm>
              <a:off x="1168560" y="1938240"/>
              <a:ext cx="1650960" cy="782640"/>
            </a:xfrm>
            <a:prstGeom prst="rect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Бактериальное и биологическое загрязнение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6DA1-A485-4251-B922-A3E5D08C2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964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язнение нефтью и нефтепродуктами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одит к появлению нефтяных пятен, что затрудняет процессы фотосинтеза в воде из-за прекращения доступа солнечных лучей, а также вызывает гибель растений и животных. Каждая тонна нефти создает нефтяную пленку на площади до 12 км квадратных. Восстановление пораженных экосистем занимает 10 – 15 лет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язнение сточными водами в результате промышленного производства, минеральными и органическими удобрениями в результате сельскохозяйственного производства, а также коммунально – бытовыми стока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едет к эвтрофикации водоемов – обогащению их питательными веществами, приводящим к чрезмерному развитию водорослей и гибели других экосистем водоемов с непроточной водой (озер и прудов), а иногда к заболачиванию месност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2" descr="mossy_falls"/>
          <p:cNvPicPr/>
          <p:nvPr/>
        </p:nvPicPr>
        <p:blipFill>
          <a:blip r:embed="rId2"/>
          <a:stretch/>
        </p:blipFill>
        <p:spPr>
          <a:xfrm>
            <a:off x="5580000" y="3860640"/>
            <a:ext cx="3306960" cy="2644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5"/>
          <p:cNvSpPr/>
          <p:nvPr/>
        </p:nvSpPr>
        <p:spPr>
          <a:xfrm>
            <a:off x="395280" y="4292640"/>
            <a:ext cx="507672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3. 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агрязнение тяжелыми металла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Нарушает жизнедеятельность водных организмов и человека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4.З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грязнение кислотными дождя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Приводит к закислению водоемов и гибели экосистем;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A1E6-E88A-48CA-8D0C-0602DA353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780000" y="3499920"/>
            <a:ext cx="5364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активное загрязнение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вязано со сбросом радиоактивных отход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е загрязнение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ызывается сбросом в водоемы подогретых вод ТЭС и АЭС. Приводит к массовому развитию сине – зеленых водорослей, так называемому цветению воды, уменьшению количества кислорода и отрицательно влияет на флору и фауну водоем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еское загрязнение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вышает содержание механических примесе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0"/>
            <a:ext cx="9144000" cy="39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актериальное и биологическое загрязнени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Связано с разными патогенными организмами, грибами и водорослями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ировое хозяйство сбрасывает в год 1500 км кубических сточных вод разной степени очистки, которые требуют 50 – 100 – кратного разбавления для придания им естесвенных свойств и дальнейшего очищения в биосфере. При этом не учитываются воды сельскохозяйственных производств. Мировой речной сток (37,5 – 45 тыс.км кубических в год) недостаточен для необходимого разбавления сточных вод. Таким образом, в результате промышленной деятельности пресная вода перестала быть возобновляемым ресурсом.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ассмотрим последовательно загрязнение океанов, морей, рек и озер, а также методы очстки сточных вод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7" descr="365376"/>
          <p:cNvPicPr/>
          <p:nvPr/>
        </p:nvPicPr>
        <p:blipFill>
          <a:blip r:embed="rId2"/>
          <a:stretch/>
        </p:blipFill>
        <p:spPr>
          <a:xfrm>
            <a:off x="179280" y="3500280"/>
            <a:ext cx="38102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71FA-4045-4EF9-934E-6778F8A8A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30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ам  самоочищения водоема относятся водоросли, плесневые и дрожжевые грибк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чищению водоемов от бактерий и вирусов могут способствовать и представители животного мира. Каждый моллюск отфильтровывает в сутки более 30 л в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ота водоемов немыслима без охраны их растительности. Только на основе глубокого знания экологи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ческого состояния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ждого водоема, эффективного контроля за развитием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селяющих его различных живых организмов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но достичь положительных результатов, обеспечить прозрачность и высокую биологическую продуктивность рек, озер и водохранилищ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риятно на процессы самоочищения водоемов влияют и другие факторы. Химическое загрязнение водоемов промышленными стокам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мозит естественные окислительные процессы, убивает микроорганизмы. То же относится и к спуску термальных сточных вод тепловыми электростанция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5B28-CC60-4B60-BE74-91F209D34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252720" y="3357360"/>
            <a:ext cx="9396360" cy="37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стадийный процесс, иногда растягивающийся на длительное время – самоочищение от нефти. В природных условиях комплекс физических процессов самоочищения воды от нефти состоит из ряда составляющих: испарения; оседания комочков, особенно перегруженных наносами и пылью; слипание комочков, взвешенных в толще воды; всплывания комочков, образующих пленку с включениями воды и воздуха; снижения концентраций взвешенной и растворенной нефти вследствие оседания, всплывания и смешивания с чистой водой. Интенсивность этих процессов зависит от свойств конкретного вида нефти (плотность, вязкость, коэффициент теплового расширения), наличия в  воде коллоидов, взвешенных частиц планктона и т.д.,  температура воздуха и от солнечного освещ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368798"/>
          <p:cNvPicPr/>
          <p:nvPr/>
        </p:nvPicPr>
        <p:blipFill>
          <a:blip r:embed="rId2"/>
          <a:stretch/>
        </p:blipFill>
        <p:spPr>
          <a:xfrm>
            <a:off x="2556000" y="260280"/>
            <a:ext cx="381636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C182-C325-4EB3-9E7F-AB2FAB0FC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Мирового океа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181080" y="980640"/>
            <a:ext cx="53294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83 году вошла в силу международная Конвенция по предотвращению загрязнения морской среды. В 1984 году государства Балтийского бассейна подписали в Хельсинки Конвенцию по защите морской среды Балтийского моря. Это было первое международное соглашение на региональном уровне. В результате проведенной работы содержание нефтепродуктов в открытых водах Балтийского моря снизилось в 20 раз по сравнению с 1975 год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92 году министрами 12 – ти государств и представителем Европейского сообщества была подписана новая Конвенция по охране среды Балтийского мор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main_9"/>
          <p:cNvPicPr/>
          <p:nvPr/>
        </p:nvPicPr>
        <p:blipFill>
          <a:blip r:embed="rId2"/>
          <a:stretch/>
        </p:blipFill>
        <p:spPr>
          <a:xfrm>
            <a:off x="5219640" y="1989000"/>
            <a:ext cx="36720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C2B3-EF73-419D-9F9A-40ACCCE32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sea_1"/>
          <p:cNvPicPr/>
          <p:nvPr/>
        </p:nvPicPr>
        <p:blipFill>
          <a:blip r:embed="rId2"/>
          <a:stretch/>
        </p:blipFill>
        <p:spPr>
          <a:xfrm>
            <a:off x="0" y="0"/>
            <a:ext cx="9540720" cy="68961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Мирового океа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137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72 году была подписана Лондонская конвенция, запрещающая сброс на дно морей и океанов радиоактивных и ядовитых химических отходов. К этой конвенции присоединилась и Россия. Военные корабли в соответствии с международным правом в разрешении на сброс не нуждаются. В 1993 г. запрещен сброс жидких радиоактивных отходов в мор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982 г.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нференция ООН по морскому праву приняла Конвенцию по мирному использованию Мирового океана в интересах всех стран и народов, которая содержит около 1000 международно – правовых норм, регламентирующих все основные вопросы использования ресурсов океана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Статья 58 Конституцией Российской Федерац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Каждый обязан сохранять природу и окружающую среду, бережно относиться к природным богатств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6737-0B89-48E9-AF3C-998AD7C9C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проблема загрязнения водной среды  является очень актуальной, т.к. сейчас люди начинают забывать всем известное выражение «вода – это жизнь». Без воды человек не может прожить более трех суток, но, даже понимая всю важность роли воды в его жизни, он все равно продолжает наносить вред водным объектам, безвозвратно изменяя их естественный режим сбросами и отхода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масса воды сосредоточена в океанах. Испаряющаяся с его поверхности вода дает живительную влагу естественным и искусственным экосистемам суши. Чем ближе район к океану, тем больше там выпадает осадков. Суша постоянно возвращает воду океану, часть воды испаряется, часть собирается реками, в которые поступают дождевые и снеговые воды. Обмен влагой между океаном и сушей требует очень большого количества энергии: на это затрачивается до 1/3 того, что Земля получает от Солнц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view_icon_title"/>
          <p:cNvPicPr/>
          <p:nvPr/>
        </p:nvPicPr>
        <p:blipFill>
          <a:blip r:embed="rId2"/>
          <a:stretch/>
        </p:blipFill>
        <p:spPr>
          <a:xfrm>
            <a:off x="1403280" y="5300640"/>
            <a:ext cx="619128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6D7A-9CE2-48AE-BCB0-3EC056B7C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532944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 воды в биосфере до развития цивилизации был равновесным, океан получал от рек столько воды, сколько расходовал при её испарении. Если не менялся климат, то не мелели реки и не снижался уровень воды в озёрах. С развитием цивилизации этот цикл стал нарушаться, в результате полива сельскохозяйственных культур увеличилось испарение с суши. Реки южных районов обмелели, загрязнение океанов и появление на его поверхности нефтяной плёнки уменьшило количество воды, испаряемой океаном. Всё это ухудшает водоснабжение биосфер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я во внимание то значение, которое вода имеет для жизнедеятельности человека и всего живого на Земле, мы можем утверждать, что вода - одно из самых драгоценных сокровищ нашей плане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086071b"/>
          <p:cNvPicPr/>
          <p:nvPr/>
        </p:nvPicPr>
        <p:blipFill>
          <a:blip r:embed="rId2"/>
          <a:stretch/>
        </p:blipFill>
        <p:spPr>
          <a:xfrm>
            <a:off x="5726160" y="692280"/>
            <a:ext cx="32036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220F-BA44-4345-90B5-5AD1DF3D5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Гидросфера Зем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34920" y="1267920"/>
            <a:ext cx="5256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сфера - водная среда, которая включает поверхностные и подземные воды. Поверхностные воды в основном сосредоточены в Мировом океане, содержащем около 91% всей воды на Земле. Поверхность Мирового океана (акватория) составляет 361 млн/км квадратных. Она примерно в 2,04 раза больше площади суши – территории, занимающей 149 млн/км квадратных. Если распределить воду ровным слоем, то она покроет Землю толщиной в 3000 метр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 в океане (94%) и под землей – соленая. Количество пресной воды составляет 6% общего объема воды на Земле, причем  очень малая ее доля всего 0,36% имеется в легкодоступных для добычи мест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606329"/>
          <p:cNvPicPr/>
          <p:nvPr/>
        </p:nvPicPr>
        <p:blipFill>
          <a:blip r:embed="rId2"/>
          <a:stretch/>
        </p:blipFill>
        <p:spPr>
          <a:xfrm>
            <a:off x="250920" y="1197000"/>
            <a:ext cx="354312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68CB-0592-4877-BFE9-FE44A72E1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4600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житель Земли в среднем потребляет 650 м кубических воды в год (1780 литров в сутки). Однако для удовлетворения физиологических потребностей достаточно 2,5 литра в день, т.е. около 1 м кубического в год. Большое количество воды требуется сельскому хозяйству (69%) главным образом для орошения; 23% воды потребляет промышленность; 6% расходуется в быт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етом потребности воды для промышленности и сельского хозяйства расход воды в нашей стране от 125 до 350 литров в сутки на человека ( Санкт – Петербурге 450 литров, а в Москве 380 литров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" descr="Nature_02"/>
          <p:cNvPicPr/>
          <p:nvPr/>
        </p:nvPicPr>
        <p:blipFill>
          <a:blip r:embed="rId2"/>
          <a:stretch/>
        </p:blipFill>
        <p:spPr>
          <a:xfrm>
            <a:off x="5076720" y="32846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1"/>
          <p:cNvSpPr/>
          <p:nvPr/>
        </p:nvSpPr>
        <p:spPr>
          <a:xfrm>
            <a:off x="179280" y="3284640"/>
            <a:ext cx="482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Вода – не только условие жизни индивидуального организма.  Без нее не возможно было бы существование биосферы, жизни на Земле, поскольку круговорот веществ и энергии в биосфере возможен только с  участием воды. В ходе круговорота воды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с поверхности Мирового океана ежегодно испаряется 453 000 куб. м. воды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9B87-B40D-4183-BA74-06A0F5096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photo-5480"/>
          <p:cNvPicPr/>
          <p:nvPr/>
        </p:nvPicPr>
        <p:blipFill>
          <a:blip r:embed="rId2"/>
          <a:stretch/>
        </p:blipFill>
        <p:spPr>
          <a:xfrm>
            <a:off x="5292720" y="3357720"/>
            <a:ext cx="3602160" cy="2709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язнение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Мирового океа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181440" y="620280"/>
            <a:ext cx="9145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годно в Мировой океан попадает более 10 млн т нефти и до 20% Мирового океана уже покрыты нефтяной пленкой. В первую очередь это связано с тем, что добыча нефти и газа в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океанах и морях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важнейшим компонентом нефтегазового комплекса.В 1993 году в океане добыто 850 млн т нефти (почти 30% мировой добычи). В мире пробурено около 2500 скважин, из них 800 – в США, 540 – в Юго – Восточной Азии, 400 – в Северном море, 150 – в Персидском заливе. Эта масса скважин пробурена на глубинах до 900 метр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-181080" y="2921040"/>
            <a:ext cx="5329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 водным транспортом происходит по двум каналам: во – первых, морские и речные суда загрязняют ее отходами, получаемыми в результате эксплуатационной деятельности, и, во – вторых, выбросами в случае аварий, токсичных грузов, большей частью нефти и нефтепродуктов. Энергетические установки судов (в основном дизельные двигатели) постоянно загрязняют атмосферу, откуда токсичные вещества частично или почти полностью попадают в воды рек, морей и океанов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8380-5F88-4569-816D-6160C0AB7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8748720" cy="55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ть и нефтепродукты являются главными загрязнителями водного бассейна. На танкерах, перевозящих нефть и ее производные, перед каждой очередной загрузкой, как правило, промываются емкости (танки) для удаления остатков ранее перевезенного груза. Промывочная вода, а с ней и остатки груза обычно сбрасываются за борт. Кроме того, после доставки нефтегрузов в порты назначения танкеры чаще всего направляются к пункту новой погрузки без груза. В этом случае для обеспечения надлежащей осадки и безопасности плавания танки судна наполняются балластной водой. Эта вода загрязняется нефтяными остатками, а перед погрузкой нефти и нефтепродуктов выливается в море. Из общего грузооборота мирового морского флота в настоящее время 49% падет на нефть и ее производные. Ежегодно около 6000 танкеров международных флотилий транспортируют 3,5 млрд тонн нефти (2000 г.). По мере роста перевозок нефтегрузов и авариях все большее количество нефти стало попадать 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а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 данным 1988 в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се моря мир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был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брошено примерно 20 млрд тонн мусора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 одно тольк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верное море было сброшено 98 000 т отброс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684360" y="0"/>
            <a:ext cx="77724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язнение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Мирового океана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60A0-0C44-4224-BBA9-F329075A9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7" descr="1531171"/>
          <p:cNvPicPr/>
          <p:nvPr/>
        </p:nvPicPr>
        <p:blipFill>
          <a:blip r:embed="rId2"/>
          <a:stretch/>
        </p:blipFill>
        <p:spPr>
          <a:xfrm>
            <a:off x="468360" y="620640"/>
            <a:ext cx="820908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AF48-523F-41F7-AC08-32E4BA0DD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50036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ьезную экологическую угрозу для жизни в Мировом океане и, следовательно, для человека представляет захоронение на морском дне радиоактивных отходов (РАО) и сброс в море жидких радиоактивных отходов (ЖРО). Западные страны (США, Великобритания, Франция, Германия, Италия и др.) и СССР с 1946г. начали активно использовать океанские глубины для того, чтобы избавиться от РА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149143"/>
          <p:cNvPicPr/>
          <p:nvPr/>
        </p:nvPicPr>
        <p:blipFill>
          <a:blip r:embed="rId2"/>
          <a:stretch/>
        </p:blipFill>
        <p:spPr>
          <a:xfrm>
            <a:off x="5076720" y="692280"/>
            <a:ext cx="3810240" cy="32464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0" y="4149720"/>
            <a:ext cx="882000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Жидкие радиоактивные отходы СССР сливал в дальневосточных морях с 1966 по 1991 г. (в основном вблизи юга – восточной части Камчатки и в Японском море). Северный флот ежегодно сбрасывал в воду 10 000 м кубических таких отходов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о 2 млн морских птиц и 100 тыс морских животных, в том числе до 30 тыс тюленей, ежегодно погибают, проглотив какие – либо пластмассовые изделия или запутавшись в обрывках сетей и тросов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1:06:54Z</dcterms:created>
  <dc:creator>Катя</dc:creator>
  <dc:description>ppt.3dn.ru</dc:description>
  <dc:language>en-US</dc:language>
  <cp:lastModifiedBy>МОУ Ирбизинская СОШ Карасукского района</cp:lastModifiedBy>
  <dcterms:modified xsi:type="dcterms:W3CDTF">2011-09-20T07:38:59Z</dcterms:modified>
  <cp:revision>30</cp:revision>
  <dc:subject/>
  <dc:title>Загрязнение Мирового океа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006000000000001024140</vt:lpwstr>
  </property>
</Properties>
</file>