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8002-22E6-4F69-AFEA-13FF7E57B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7E1-AA03-4A77-9E13-CDADB2AAD1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2653-28CF-430E-BC5C-CA0C5BBEEE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7852-6EB7-4965-B179-54B2DF7F36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12C-A06F-426D-A3A4-694F824918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6013-7061-48B9-877E-90FA48B1E1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002D-66D3-46C4-B7D4-5303690EC3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05BD-7852-46AB-801E-0840F46BC6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838-F87F-4666-9258-6931A052EF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BF0-A78C-4B34-8A18-A279AC81DE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E4A0-9386-40EB-A771-EE4AC18C4E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09F3-F0E4-4FA1-BC2C-6846B5E7BA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B6A7-75C8-41A0-BE86-E7437517C1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24F8-1067-4C41-B8A7-DA22A2D431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E805-EFB5-4A3A-B704-C2171E13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142B-8827-4C69-BEFE-4BB5E9E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04E0-F314-42B5-A506-7C0694A0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607A-4521-4437-869C-FA1E1589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A87-46CB-4202-867E-9F0948DB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93D8-ADF9-49E9-A0B9-67DB1B54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CFE2-3ABE-42D3-9C3C-8579550B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144D-57DC-48B0-820E-CF2B06AD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A88-0932-4B29-9B10-E2C7174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412B-76F2-4232-B9DC-4E7B9A9E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6E99-3580-4318-8CD7-D51BC69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6D8B-86E5-4C50-8CC3-D90E246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C0FF-452F-4799-B193-975F454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8146-3C61-405E-9579-D87F2C8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735F-4DA0-4BFD-A29D-12772029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087F-510B-4E0C-A132-3AC5DAE4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5A7F-AC61-4736-9B5C-31C83554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75BF-3C5A-4E06-BFB1-E6DB7B4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13BD-5720-41EA-935F-E8312D5E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FFB4-9D1B-4971-9005-A12EE22C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E145-D17C-49DC-BF49-C9CA6C15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BCF1-8BE8-43DD-A15B-C3938FF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CD60-179C-4486-B534-0472C2E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A7A3-6D0B-4ADF-8DD3-502046B1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0E94-952A-4364-B68C-73CAE8849F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C0F1-4D3B-4C68-A202-56D53B2E71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limp-history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limp-history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logo" descr="http://olimp-history.ru/sites/all/themes/olimp/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500040"/>
            <a:ext cx="878688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42680" y="35676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виз Олимпийских иг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виз — Citius, Altius, Forti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ыстрее, Выше, Сильнее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— белое полотнище с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олимпийскими кольцами, с 1920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поднимается на всех Игра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5" descr="Олимпийский флаг"/>
          <p:cNvPicPr/>
          <p:nvPr/>
        </p:nvPicPr>
        <p:blipFill>
          <a:blip r:embed="rId1"/>
          <a:stretch/>
        </p:blipFill>
        <p:spPr>
          <a:xfrm>
            <a:off x="428760" y="1857240"/>
            <a:ext cx="83581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диционные ритуалы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400960" cy="4525920"/>
        </p:xfrm>
        <a:graphic>
          <a:graphicData uri="http://schemas.openxmlformats.org/drawingml/2006/table">
            <a:tbl>
              <a:tblPr/>
              <a:tblGrid>
                <a:gridCol w="2685960"/>
                <a:gridCol w="2857680"/>
                <a:gridCol w="285732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зажжение олимпийского огня на церемонии открытия (огонь зажигается от солнечных лучей в Олимпии и доставляется факельной эстафетой спортсменов в город-организатор Игр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произнесение одним из выдающихся спортсменов страны, в которой происходит Олимпиада, олимпийской клятвы от имени всех участников игр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произнесение от имени судей клятвы о беспристрастном судействе;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поднятие государственного флага и исполнение национального гимна в честь победителе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вручение победителям и призёрам соревнований медалей;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77295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лимпийские иг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крупнейшие международные соревнования по летним и зимним видам спорта, проводящиеся один раз в 4 года под эгидой Международного олимпийского комитета (МОК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8760" y="257184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ание олимпийского чемпиона является наиболее почётным и желанным в карьере спортсмена в тех видах спорта, по которым проводятся олимпийские турни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вол Олимпийских игр — пять скреплённых колец, символизирующих объединение пяти частей света в олимпийском движении, т. н. олимпийские кольца. Цвет колец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убой для Европ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ёрный для Афри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сный для Амери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ёлтый для Аз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для Австра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logo" descr="http://olimp-history.ru/sites/all/themes/olimp/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нтичные Олимпийские игр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е документально подтверждённое    празднование относится к 776 до н. э., хотя известно, что игры проводились и рань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ремя пр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 объявляло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щенное перемир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5" descr="античные олимпийские игры"/>
          <p:cNvPicPr/>
          <p:nvPr/>
        </p:nvPicPr>
        <p:blipFill>
          <a:blip r:embed="rId1"/>
          <a:stretch/>
        </p:blipFill>
        <p:spPr>
          <a:xfrm>
            <a:off x="4786200" y="2571840"/>
            <a:ext cx="3571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ec3ffb39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рождение Олимпийской иде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680" y="1285560"/>
            <a:ext cx="81151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я возрождения Олимпийских игр в Греции принадлежала поэту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айотису Суцос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ание возродить олимпийское мышление и культуру распространилось довольно быстро по всей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онгрессе, проведённом 16-23 июня 1894 в Сорбонне (Парижский университет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рон Пьер де Куберт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дставил свои мысли и идеи о возрождении Олимпийских игр международной публ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рон Пьер де Куберт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5" descr="барон Пьер де Кубертен"/>
          <p:cNvPicPr/>
          <p:nvPr/>
        </p:nvPicPr>
        <p:blipFill>
          <a:blip r:embed="rId1"/>
          <a:stretch/>
        </p:blipFill>
        <p:spPr>
          <a:xfrm>
            <a:off x="428760" y="1571760"/>
            <a:ext cx="354780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4071960" y="157176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оследний день конгресса (23 июня) было принято решение о том, что первые Олимпийские Игры современности должны состояться в 1896 году в Афинах, в стране-родоначальнице Игр — Гре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организовать проведение Игр, был основан Международный олимпийский комитет (МОК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м президентом Комитета стал гре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етриус Викела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был президентом до окончания I Олимпийских Игр 1896 год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неральным секретарём стал француз бар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ьер де Куберте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е Игры современности прош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действительно с большим успехом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ие в Играх приняли всего 241 атлет   (14 стра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ние Игры проводятся с 189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имние Игры – с 192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ременные Олимпийские   игр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ы, правила и положения Олимпийских игр определены Олимпийской хартией, основы которой утверждены Международным спортивным конгрессом в Париже в 1894, принявшим решение об организации Игр по образцу античных и о создании Международного олимпийского комитета (МОК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46:56Z</dcterms:created>
  <dc:creator>Люба</dc:creator>
  <dc:description/>
  <dc:language>en-US</dc:language>
  <cp:lastModifiedBy>Люба</cp:lastModifiedBy>
  <dcterms:modified xsi:type="dcterms:W3CDTF">2013-04-07T14:33:17Z</dcterms:modified>
  <cp:revision>11</cp:revision>
  <dc:subject/>
  <dc:title>Инновационная технология</dc:title>
</cp:coreProperties>
</file>