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A1E6-16FB-46F0-B6F9-E1DBD49C9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20F-F087-48AD-BAEF-EDC8386A0E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F43D-FC3D-4197-9B3F-EA4C76C5AA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7147-6F15-4D40-9784-80F23064821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05B-C165-4730-9D07-5E8C246EF3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B4B-C210-4794-8446-E6E065B44B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52C7-1FF4-4CED-89D4-E798EB43CF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9854-FF8F-4047-A066-02323E67F3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16CD-2BC3-49BB-98FE-5439248571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4FF2-E4A6-437E-BA7F-083909AEDF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8F4C-AE69-4224-AEA8-90940BCF68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AFB-BD0D-4282-B3D6-6F8929F6A5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938E-4D87-4BAA-B2E8-EA572E2E4F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A600-8560-4849-BE92-24E4C4EF0A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3050-3F0B-4E12-BBD5-EADEB15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A065F-3432-4D80-94E9-C095E1B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BB51-C32E-419E-8909-1B3523A1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117D-4183-44C4-AAC8-4322AE75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D849-A236-40D4-BF18-162A7DB6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A9FA-D5D5-4A33-A17F-76B6BF83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9490-9966-4496-B2D5-C75BCD54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9FCC-773B-4888-90BA-AF3BC7B4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929B-257C-48C8-B7DC-673C31BC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7DA3-6F3B-45E9-B1BF-05F5567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1604-AC69-4309-88E0-12344C19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D5E8-1AAD-4066-8ADB-60A65A2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B7D3-E4E6-4814-8EB3-82BB3A73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5C3A-564E-463D-8336-71289EB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BB26-63F1-48C4-B79D-8FB2086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D3FA-0EE5-4D11-9C09-57A10B2B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904-7C0B-46B3-B2D4-FE825549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541CA-74A5-4AE1-AAB4-B2CB800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B6EA-AA6F-4428-93DB-BA3F19FF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127B-8B11-4FBA-8C83-F0D7B75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7FD6-E9D8-472F-B83E-FAD85043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282DD-D75E-4D9E-87E2-E670BB9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2F0C-024C-4159-AB6A-520D4822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1E57D-FFBD-44EC-BC99-6085EB8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290D-1400-45CD-A837-15F87772B7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C79-970B-4AC7-992D-D521DF86D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limp-history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limp-history.r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logo" descr="http://olimp-history.ru/sites/all/themes/olimp/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500040"/>
            <a:ext cx="878688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42680" y="35676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виз Олимпийских иг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виз — Citius, Altius, Forti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ыстрее, Выше, Сильнее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лаг — белое полотнище с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олимпийскими кольцами, с 1920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поднимается на всех Игра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5" descr="Олимпийский флаг"/>
          <p:cNvPicPr/>
          <p:nvPr/>
        </p:nvPicPr>
        <p:blipFill>
          <a:blip r:embed="rId1"/>
          <a:stretch/>
        </p:blipFill>
        <p:spPr>
          <a:xfrm>
            <a:off x="428760" y="1857240"/>
            <a:ext cx="83581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диционные ритуалы И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400960" cy="4525920"/>
        </p:xfrm>
        <a:graphic>
          <a:graphicData uri="http://schemas.openxmlformats.org/drawingml/2006/table">
            <a:tbl>
              <a:tblPr/>
              <a:tblGrid>
                <a:gridCol w="2685960"/>
                <a:gridCol w="2857680"/>
                <a:gridCol w="285732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зажжение олимпийского огня на церемонии открытия (огонь зажигается от солнечных лучей в Олимпии и доставляется факельной эстафетой спортсменов в город-организатор Игр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роизнесение одним из выдающихся спортсменов страны, в которой происходит Олимпиада, олимпийской клятвы от имени всех участников игр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роизнесение от имени судей клятвы о беспристрастном судействе;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поднятие государственного флага и исполнение национального гимна в честь победителе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 вручение победителям и призёрам соревнований медалей;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77295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лимпийские иг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крупнейшие международные соревнования по летним и зимним видам спорта, проводящиеся один раз в 4 года под эгидой Международного олимпийского комитета (МОК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28760" y="257184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ние олимпийского чемпиона является наиболее почётным и желанным в карьере спортсмена в тех видах спорта, по которым проводятся олимпийские турни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мвол Олимпийских игр — пять скреплённых колец, символизирующих объединение пяти частей света в олимпийском движении, т. н. олимпийские кольца. Цвет колец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убой для Европ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ёрный для Афри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асный для Америк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ёлтый для Аз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для Австра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logo" descr="http://olimp-history.ru/sites/all/themes/olimp/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2857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Античные Олимпийские игры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е документально подтверждённое    празднование относится к 776 до н. э., хотя известно, что игры проводились и раньш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время провед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 объявляло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щенное перемир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Рисунок 5" descr="античные олимпийские игры"/>
          <p:cNvPicPr/>
          <p:nvPr/>
        </p:nvPicPr>
        <p:blipFill>
          <a:blip r:embed="rId1"/>
          <a:stretch/>
        </p:blipFill>
        <p:spPr>
          <a:xfrm>
            <a:off x="4786200" y="2571840"/>
            <a:ext cx="3571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ec3ffb39.jpg"/>
          <p:cNvPicPr/>
          <p:nvPr/>
        </p:nvPicPr>
        <p:blipFill>
          <a:blip r:embed="rId1"/>
          <a:stretch/>
        </p:blipFill>
        <p:spPr>
          <a:xfrm>
            <a:off x="428760" y="357120"/>
            <a:ext cx="8215200" cy="62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рождение Олимпийской иде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680" y="1285560"/>
            <a:ext cx="81151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дея возрождения Олимпийских игр в Греции принадлежала поэту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айотису Суцос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ание возродить олимпийское мышление и культуру распространилось довольно быстро по всей Евро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конгрессе, проведённом 16-23 июня 1894 в Сорбонне (Парижский университет)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рон Пьер де Куберт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едставил свои мысли и идеи о возрождении Олимпийских игр международной публ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рон Пьер де Куберт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5" descr="барон Пьер де Кубертен"/>
          <p:cNvPicPr/>
          <p:nvPr/>
        </p:nvPicPr>
        <p:blipFill>
          <a:blip r:embed="rId1"/>
          <a:stretch/>
        </p:blipFill>
        <p:spPr>
          <a:xfrm>
            <a:off x="428760" y="1571760"/>
            <a:ext cx="354780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6"/>
          <p:cNvSpPr/>
          <p:nvPr/>
        </p:nvSpPr>
        <p:spPr>
          <a:xfrm>
            <a:off x="4071960" y="157176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оследний день конгресса (23 июня) было принято решение о том, что первые Олимпийские Игры современности должны состояться в 1896 году в Афинах, в стране-родоначальнице Игр — Гре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организовать проведение Игр, был основан Международный олимпийский комитет (М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1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ым президентом Комитета стал грек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етриус Викела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был президентом до окончания I Олимпийских Игр 1896 года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257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неральным секретарём стал француз баро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ьер де Куберте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ые Игры современности прош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действительно с большим успехом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ие в Играх приняли всего 241 атлет   (14 стран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ние Игры проводятся с 189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имние Игры – с 1924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ременные Олимпийские   игр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, правила и положения Олимпийских игр определены Олимпийской хартией, основы которой утверждены Международным спортивным конгрессом в Париже в 1894, принявшим решение об организации Игр по образцу античных и о создании Международного олимпийского комитета (МОК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46:56Z</dcterms:created>
  <dc:creator>Люба</dc:creator>
  <dc:description/>
  <dc:language>en-US</dc:language>
  <cp:lastModifiedBy>Люба</cp:lastModifiedBy>
  <dcterms:modified xsi:type="dcterms:W3CDTF">2013-04-07T14:33:17Z</dcterms:modified>
  <cp:revision>11</cp:revision>
  <dc:subject/>
  <dc:title>Инновационная технология</dc:title>
</cp:coreProperties>
</file>