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png" ContentType="image/png"/>
  <Override PartName="/ppt/media/image13.jpeg" ContentType="image/jpeg"/>
  <Override PartName="/ppt/media/image12.jpeg" ContentType="image/jpeg"/>
  <Override PartName="/ppt/media/image7.jpeg" ContentType="image/jpeg"/>
  <Override PartName="/ppt/media/image6.png" ContentType="image/png"/>
  <Override PartName="/ppt/media/image4.jpeg" ContentType="image/jpeg"/>
  <Override PartName="/ppt/media/image25.jpeg" ContentType="image/jpeg"/>
  <Override PartName="/ppt/media/image19.jpeg" ContentType="image/jpeg"/>
  <Override PartName="/ppt/media/image1.jpeg" ContentType="image/jpeg"/>
  <Override PartName="/ppt/media/image3.jpeg" ContentType="image/jpeg"/>
  <Override PartName="/ppt/media/image24.jpeg" ContentType="image/jpeg"/>
  <Override PartName="/ppt/media/image22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5.jpeg" ContentType="image/jpeg"/>
  <Override PartName="/ppt/media/image18.jpeg" ContentType="image/jpeg"/>
  <Override PartName="/ppt/media/image17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DBB8A-127C-4709-8513-C113346366B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урс, раскрывающий основы религиозных культур и светской этики, предлагается изучать на переходной стадии от начальной к основной ступени общеобразовательной школы. И по месту в учебном плане, и по содержанию он служит важным связующим звеном между двумя этапами гуманитарного образования и воспитания школьников. С одной стороны, учебный курс ОРКСЭ дополняет обществоведческие аспекты предмета «Окружающий мир», с которым знакомятся учащиеся основной школы. С другой стороны, этот курс предваряет начинающееся в 5 классе изучение предмета «История». Таким образом, ознакомление с нравственными идеалами и ценностями религиозных и светских духовных традиций России происходит в контексте, отражающем глубинную связь прошлого и настояще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новной методологический принцип реализации курса - культурологический подход, способствующий формированию у младших школьников первоначальных представлений о светской и религиозной культуре. В контексте данного учебно-методического комплекта культура понимается как духовное и материальное богатство народов мира, нашей страны, как образ жизни людей разных сообществ, обычаи, традиции и верования. Культура всегда связана с историей, подразумевает непрерывность нравственной, интеллектуальной, духовной жизни человека, общества и человечества - огромный, насчитывающий тысячелетия путь, который эта культура прошла; развитие различных исторических эпох, национальных культур. Такое широкое понимание человеческой культуры важно для процесса идентификации школьников как представителей всего человечества, своей страны, национальной, этнической, религиозной общности. ОСНОВНЫЕ ПОЛОЖЕНИЯ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УМК культура - религиозная и светская, представлена в традициях, ритуалах и обрядах древ- них людей и наших современников; в истории и языке; в архитектуре, искусстве, литературе, живописи, музыке; через быт людей, поскольку- он и есть реальная жизнь представителей каж- дой культуры, знакомство с которой дает возможность, увидеть, услышать, осязать - почувствовать эту культуру. Мир быта людей - это вещи, которые их окружают; привычный образ жизни, каждодневное поведение, обычное протекании жизни в ее реально-практических формах. С другой стороны, быт, всегда находящийся в сфере практики, мир вещей неразрывно связаны с глубинными символами, с идеями, ценностями, с интеллектуальным, нравственным, духовным развитием эпох, культур, сообществ. Понятие культуры…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этому в учебном материале предмета большое внимание уделяется описанию содержания и деталей жизни и обихода, поведения людей, представителей разных культур. Это и знакомство с жилищем, родом занятий, распорядком дня, характером труда и досуга, ритуалами, языком (язык священных книг, словесные формы – приветствия, прощания, обращения и т.д.) - все, в чем раскрываются те невидимые черты жизни, которые ярко характеризуют культуру той или иной группы, сообщества людей и по которым человек узнает своего или чужого. Такое понятие культуры тяготеет к этнографически- социологическому подходу, когда оно используется для описания жизни народов и социальных групп и их отношений. В отношения вступают реальные люди, представители культур, еще точнее: представители тех сообществ (народов, социальных групп), которых объединяет та или иная культура. А положение каждого конкретного человека в сообществе (его статус, социальная роль и т.п.) играют не последнюю роль в построении отношений с представителями других культур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EC42B-2F93-4EB9-8DF7-387609803B5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 этих базовых ценностях будет осуществляться воспитание детей в рамках нового курс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каждого модуля ориентировано на знакомство с соответствующей культурой и религиозной или светской традицией и не содержит критических оценок других религий  и мировоззре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одержание всех модулей комплексного учебного курса подчинено общей цели — воспитанию личности гражданина России посредством приобщения его к нравственным и мировоззренческим ценностям.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89CF0-6E53-4812-98FC-03AAD757CDD4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на из самых главных и самых трудных задач родителей -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нравственное воспитание ребенк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, а в рамках этого курса школа предлагает им свою профессиональную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уховно-нравственное воспитание подрастающего поколения становится приоритетом государственной образовательной поли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42C0A-B8C3-4354-AA9F-6337520AA63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ормативно-правовой основой разработки и введения в учебный процесс общеобразовательных школ комплексного учебного курса «Основы религиозных культур и светской этики» явля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A8361-E8BF-494E-B7B9-B0F6E3F1035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мером признания важности духовно-нравственного воспитания в школьной обра­зовательной практике на государственном уровне является создание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оекта введения в учебные планы предмета «Основы религиозных культур и светской этики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настоящее время преподавание данного курса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едется в  штатном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режиме: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в 4-х классах, в объеме 34 учебных часов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4CABA-D34B-4D24-ACE2-6F6AEB60AAC1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подавание направлено на духовно-нравственное развитие и воспитание учащихся, формирование их мировоззрения и нравственной культуры на основе духовно-нравственных ценностей традиционных российских религ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EFADF-E843-4309-B71D-5E2AC6AD018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ервые четыре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дуля ориентированы на запросы последователей соответствующих религий — православного христианства,  ислама, буддизма, иудаизма и дают возможность изучения религиозной культуры, духовно-нравственного воспитания ребенка на основе соответствующих религиозных ценностей и традиц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стальные два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модуля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дин из них направлен на расширение знаний школьников о религии на основе нерелигиозных, неконфессиональных подход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ругой по основам светской (гражданской) этики направлен на нравственное воспитание ребенка на основе нерелигиозной этики и морал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5974EB-F77E-400F-A6E3-D046151CD8F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E9E2-71FC-49FF-AE4A-EF9063A1B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B043D-8CFC-4253-A737-7515944B9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BA7D0-9356-4FCB-90E9-27391BDAB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A2A5C-944A-4D63-8543-EB106C896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EE1820-4C76-4621-872B-64B4E639DE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691BB3-DB2B-423E-A20C-DB0AF0AAA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11FCD2-C400-4DC1-ACD8-B5DC72A1F0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09518-70DF-4A9B-84D2-A2A73D95C3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0BFE7F-C892-498C-B88E-707AC45248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C21041-6695-45C5-AB5E-5A8FC056E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CC01-7189-4999-BFC8-9D3BB61CD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C1B0D-DF11-449B-B220-BDC4B85CFC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60C13D-6187-466D-93EB-5EFE3876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B2AA09-DB28-44A9-8ABE-22C8B664F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A19014-A621-4574-9429-2A3941DD14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578F4-E084-4BE7-8F6C-0E8E113340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4B37E-CD24-400C-B446-C0FCD53E0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6E7C-7E10-401E-B0F6-E057C924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159A6-FA7B-4483-A839-1C50E5A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0BD22-CE25-4502-95F5-2C9F4145F6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2446E-DFD7-4767-9C4D-5547BEF08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BB473-9E61-4B62-BDFC-69799209DB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8C1-3152-4210-94C1-73EDE4212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4E96C-EACF-4DC6-966C-AFD8A11C0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Freeform 3"/>
            <p:cNvSpPr/>
            <p:nvPr/>
          </p:nvSpPr>
          <p:spPr>
            <a:xfrm>
              <a:off x="838080" y="4618080"/>
              <a:ext cx="8305920" cy="22399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333360" y="1828800"/>
              <a:ext cx="8810640" cy="502920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838080" y="4654440"/>
              <a:ext cx="8305920" cy="2203560"/>
            </a:xfrm>
            <a:prstGeom prst="pi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38080" y="1828800"/>
              <a:ext cx="73137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838080" y="1828800"/>
              <a:ext cx="46080" cy="283356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836640" y="4610160"/>
              <a:ext cx="460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318960" y="4610160"/>
              <a:ext cx="45705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318960" y="4610160"/>
              <a:ext cx="47880" cy="22478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91E30-AF97-4BB3-A7A9-42C2745E59C7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Freeform 3"/>
            <p:cNvSpPr/>
            <p:nvPr/>
          </p:nvSpPr>
          <p:spPr>
            <a:xfrm>
              <a:off x="333360" y="1752480"/>
              <a:ext cx="8810640" cy="5105520"/>
            </a:xfrm>
            <a:prstGeom prst="pie">
              <a:avLst/>
            </a:pr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4"/>
            <p:cNvSpPr/>
            <p:nvPr/>
          </p:nvSpPr>
          <p:spPr>
            <a:xfrm>
              <a:off x="838080" y="3809880"/>
              <a:ext cx="8305920" cy="3048120"/>
            </a:xfrm>
            <a:prstGeom prst="pie">
              <a:avLst/>
            </a:pr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5"/>
            <p:cNvSpPr/>
            <p:nvPr/>
          </p:nvSpPr>
          <p:spPr>
            <a:xfrm>
              <a:off x="318960" y="3773520"/>
              <a:ext cx="548496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Freeform 6"/>
            <p:cNvSpPr/>
            <p:nvPr/>
          </p:nvSpPr>
          <p:spPr>
            <a:xfrm>
              <a:off x="838080" y="1752480"/>
              <a:ext cx="7769520" cy="46080"/>
            </a:xfrm>
            <a:prstGeom prst="pie">
              <a:avLst/>
            </a:prstGeom>
            <a:gradFill rotWithShape="0">
              <a:gsLst>
                <a:gs pos="0">
                  <a:srgbClr val="006600">
                    <a:alpha val="0"/>
                  </a:srgbClr>
                </a:gs>
                <a:gs pos="100000">
                  <a:srgbClr val="005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Freeform 7"/>
            <p:cNvSpPr/>
            <p:nvPr/>
          </p:nvSpPr>
          <p:spPr>
            <a:xfrm>
              <a:off x="318960" y="3773520"/>
              <a:ext cx="47880" cy="310824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Freeform 8"/>
            <p:cNvSpPr/>
            <p:nvPr/>
          </p:nvSpPr>
          <p:spPr>
            <a:xfrm>
              <a:off x="838080" y="1752480"/>
              <a:ext cx="46080" cy="5119920"/>
            </a:xfrm>
            <a:prstGeom prst="pie">
              <a:avLst/>
            </a:prstGeom>
            <a:gradFill rotWithShape="0">
              <a:gsLst>
                <a:gs pos="0">
                  <a:srgbClr val="1f791f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9E379-CC69-4805-AADE-0F63B47AB42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hyperlink" Target="http://gdanovskii.ucoz.ru/novyj_risunok-3.png" TargetMode="External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png"/><Relationship Id="rId4" Type="http://schemas.openxmlformats.org/officeDocument/2006/relationships/image" Target="../media/image10.jpeg"/><Relationship Id="rId5" Type="http://schemas.openxmlformats.org/officeDocument/2006/relationships/hyperlink" Target="http://www.canoandes.com/images/8pro2_2.jpg" TargetMode="External"/><Relationship Id="rId6" Type="http://schemas.openxmlformats.org/officeDocument/2006/relationships/image" Target="../media/image11.jpeg"/><Relationship Id="rId7" Type="http://schemas.openxmlformats.org/officeDocument/2006/relationships/image" Target="../media/image12.jpe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289512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ffffb7"/>
                </a:solidFill>
                <a:latin typeface="Arial Black"/>
              </a:rPr>
              <a:t>Родительское собрание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304920" y="4876920"/>
            <a:ext cx="6781680" cy="1752480"/>
          </a:xfrm>
          <a:prstGeom prst="rect">
            <a:avLst/>
          </a:prstGeom>
          <a:solidFill>
            <a:srgbClr val="003366"/>
          </a:solidFill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Изучение курса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«Основы религиозных культур и светской этики»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Picture 20" descr="0_2e434_e82c941a_L"/>
          <p:cNvPicPr/>
          <p:nvPr/>
        </p:nvPicPr>
        <p:blipFill>
          <a:blip r:embed="rId1"/>
          <a:stretch/>
        </p:blipFill>
        <p:spPr>
          <a:xfrm rot="20893800">
            <a:off x="6553080" y="228240"/>
            <a:ext cx="1508400" cy="201600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630" descr="01-3632"/>
          <p:cNvPicPr/>
          <p:nvPr/>
        </p:nvPicPr>
        <p:blipFill>
          <a:blip r:embed="rId2"/>
          <a:stretch/>
        </p:blipFill>
        <p:spPr>
          <a:xfrm rot="20763000">
            <a:off x="2437920" y="228600"/>
            <a:ext cx="1514520" cy="201600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09" name="Picture 628" descr="81761030"/>
          <p:cNvPicPr/>
          <p:nvPr/>
        </p:nvPicPr>
        <p:blipFill>
          <a:blip r:embed="rId3"/>
          <a:stretch/>
        </p:blipFill>
        <p:spPr>
          <a:xfrm rot="633600">
            <a:off x="4495320" y="837720"/>
            <a:ext cx="1501920" cy="2016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10" name="Picture 19" descr="0_2e1ac_5b0ce002_L"/>
          <p:cNvPicPr/>
          <p:nvPr/>
        </p:nvPicPr>
        <p:blipFill>
          <a:blip r:embed="rId4"/>
          <a:stretch/>
        </p:blipFill>
        <p:spPr>
          <a:xfrm rot="894600">
            <a:off x="380880" y="761760"/>
            <a:ext cx="1563840" cy="201600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5" descr="http://gdanovskii.ucoz.ru/novyj_risunok-3.png">
            <a:hlinkClick r:id="rId5"/>
          </p:cNvPr>
          <p:cNvPicPr/>
          <p:nvPr/>
        </p:nvPicPr>
        <p:blipFill>
          <a:blip r:embed="rId6"/>
          <a:stretch/>
        </p:blipFill>
        <p:spPr>
          <a:xfrm rot="20824200">
            <a:off x="6858000" y="4572000"/>
            <a:ext cx="1609560" cy="2089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5" descr="http://gdanovskii.ucoz.ru/novyj_risunok-2.png"/>
          <p:cNvPicPr/>
          <p:nvPr/>
        </p:nvPicPr>
        <p:blipFill>
          <a:blip r:embed="rId7"/>
          <a:stretch/>
        </p:blipFill>
        <p:spPr>
          <a:xfrm rot="1039200">
            <a:off x="7315200" y="2362320"/>
            <a:ext cx="1617840" cy="208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Структура предмета</a:t>
            </a:r>
            <a:r>
              <a:rPr b="1" lang="ru-RU" sz="3200" spc="-1" strike="noStrike">
                <a:solidFill>
                  <a:srgbClr val="c00000"/>
                </a:solidFill>
                <a:latin typeface="Arial Black"/>
              </a:rPr>
              <a:t> 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24000" y="2997360"/>
            <a:ext cx="8496000" cy="33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се модули нового предмета соединяются </a:t>
            </a:r>
            <a:r>
              <a:rPr b="1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ми тематическими блоками</a:t>
            </a: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овные ценности и нравственные идеалы в жизни человека и общества (1 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традиционных религий и светской этики (16 ч.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онные религии и этика в России (13 ч.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уховные традиции многонационального народа России (4ч.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20" descr="0_2e434_e82c941a_L"/>
          <p:cNvPicPr/>
          <p:nvPr/>
        </p:nvPicPr>
        <p:blipFill>
          <a:blip r:embed="rId1"/>
          <a:stretch/>
        </p:blipFill>
        <p:spPr>
          <a:xfrm>
            <a:off x="0" y="907920"/>
            <a:ext cx="1508040" cy="201636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30" descr="01-3632"/>
          <p:cNvPicPr/>
          <p:nvPr/>
        </p:nvPicPr>
        <p:blipFill>
          <a:blip r:embed="rId2"/>
          <a:stretch/>
        </p:blipFill>
        <p:spPr>
          <a:xfrm>
            <a:off x="1547640" y="907920"/>
            <a:ext cx="1514520" cy="2016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42" name="Picture 628" descr="81761030"/>
          <p:cNvPicPr/>
          <p:nvPr/>
        </p:nvPicPr>
        <p:blipFill>
          <a:blip r:embed="rId3"/>
          <a:stretch/>
        </p:blipFill>
        <p:spPr>
          <a:xfrm>
            <a:off x="2987640" y="907920"/>
            <a:ext cx="1501920" cy="2016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pic>
        <p:nvPicPr>
          <p:cNvPr id="143" name="Picture 19" descr="0_2e1ac_5b0ce002_L"/>
          <p:cNvPicPr/>
          <p:nvPr/>
        </p:nvPicPr>
        <p:blipFill>
          <a:blip r:embed="rId4"/>
          <a:stretch/>
        </p:blipFill>
        <p:spPr>
          <a:xfrm>
            <a:off x="4427640" y="907920"/>
            <a:ext cx="1563480" cy="2016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http://gdanovskii.ucoz.ru/novyj_risunok-3.png"/>
          <p:cNvPicPr/>
          <p:nvPr/>
        </p:nvPicPr>
        <p:blipFill>
          <a:blip r:embed="rId5"/>
          <a:stretch/>
        </p:blipFill>
        <p:spPr>
          <a:xfrm>
            <a:off x="6012000" y="907920"/>
            <a:ext cx="1609560" cy="208944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5" descr="http://gdanovskii.ucoz.ru/novyj_risunok-2.png"/>
          <p:cNvPicPr/>
          <p:nvPr/>
        </p:nvPicPr>
        <p:blipFill>
          <a:blip r:embed="rId6"/>
          <a:stretch/>
        </p:blipFill>
        <p:spPr>
          <a:xfrm>
            <a:off x="7526160" y="907920"/>
            <a:ext cx="1617840" cy="208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56760" y="356760"/>
            <a:ext cx="8535960" cy="3359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               </a:t>
            </a:r>
            <a:r>
              <a:rPr b="1" lang="ru-RU" sz="3200" spc="-1" strike="noStrike">
                <a:solidFill>
                  <a:srgbClr val="ff0000"/>
                </a:solidFill>
                <a:latin typeface="Times New Roman"/>
              </a:rPr>
              <a:t>Содержание модулей курса:</a:t>
            </a:r>
            <a:br>
              <a:rPr sz="32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-</a:t>
            </a:r>
            <a:r>
              <a:rPr b="1" lang="ru-RU" sz="2400" spc="-1" strike="noStrike">
                <a:solidFill>
                  <a:srgbClr val="c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ориентировано на общее знакомство с соответствующими религиями,  их культурой; 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- не включает специальных богословских вопросов;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</a:rPr>
              <a:t> - не содержит критических оценок других религий и мировоззрений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graphicFrame>
        <p:nvGraphicFramePr>
          <p:cNvPr id="147" name=""/>
          <p:cNvGraphicFramePr/>
          <p:nvPr/>
        </p:nvGraphicFramePr>
        <p:xfrm>
          <a:off x="539640" y="4005360"/>
          <a:ext cx="8064720" cy="1871640"/>
        </p:xfrm>
        <a:graphic>
          <a:graphicData uri="http://schemas.openxmlformats.org/drawingml/2006/table">
            <a:tbl>
              <a:tblPr/>
              <a:tblGrid>
                <a:gridCol w="4103640"/>
                <a:gridCol w="3961080"/>
              </a:tblGrid>
              <a:tr h="518400">
                <a:tc rowSpan="3"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4a"/>
                          </a:solidFill>
                          <a:latin typeface="Times New Roman"/>
                          <a:ea typeface="Times New Roman"/>
                        </a:rPr>
                        <a:t>                      </a:t>
                      </a:r>
                      <a:r>
                        <a:rPr b="1" lang="ru-RU" sz="2800" spc="-1" strike="noStrike">
                          <a:solidFill>
                            <a:srgbClr val="ffff4a"/>
                          </a:solidFill>
                          <a:latin typeface="Times New Roman"/>
                          <a:ea typeface="Times New Roman"/>
                        </a:rPr>
                        <a:t>Три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4a"/>
                          </a:solidFill>
                          <a:latin typeface="Times New Roman"/>
                          <a:ea typeface="Times New Roman"/>
                        </a:rPr>
                        <a:t>базовые  национальные ценност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Отечество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Семь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371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2800" spc="-1" strike="noStrike">
                          <a:solidFill>
                            <a:srgbClr val="ff0000"/>
                          </a:solidFill>
                          <a:latin typeface="Times New Roman"/>
                          <a:ea typeface="Times New Roman"/>
                        </a:rPr>
                        <a:t>Религия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18720">
                      <a:solidFill>
                        <a:srgbClr val="ffffff"/>
                      </a:solidFill>
                    </a:lnL>
                    <a:lnR w="1872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православн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3962520" y="1828440"/>
            <a:ext cx="50292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пособие знакомит с основами православной культуры, раскрывает её значение и роль в жизни людей – в формировании личности человека,  его отношения к миру и людям, поведения в повседневной жизн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Рисунок 7" descr="Описание: http://www.prosv.ru/Attachment.aspx?Id=9183"/>
          <p:cNvPicPr/>
          <p:nvPr/>
        </p:nvPicPr>
        <p:blipFill>
          <a:blip r:embed="rId1"/>
          <a:stretch/>
        </p:blipFill>
        <p:spPr>
          <a:xfrm>
            <a:off x="228600" y="1828800"/>
            <a:ext cx="342108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3628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православн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52" name="Picture 630" descr="01-3632"/>
          <p:cNvPicPr/>
          <p:nvPr/>
        </p:nvPicPr>
        <p:blipFill>
          <a:blip r:embed="rId1"/>
          <a:stretch/>
        </p:blipFill>
        <p:spPr>
          <a:xfrm>
            <a:off x="6611760" y="1989000"/>
            <a:ext cx="2322720" cy="309564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  <p:sp>
        <p:nvSpPr>
          <p:cNvPr id="153" name="Прямоугольник 5"/>
          <p:cNvSpPr/>
          <p:nvPr/>
        </p:nvSpPr>
        <p:spPr>
          <a:xfrm>
            <a:off x="357120" y="1000080"/>
            <a:ext cx="8358120" cy="594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в православную духовную традицию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обенности восточного христианства. 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ое Пис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ое Писание и Священное Пред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 что верят православные христиан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говорит о Боге и мире православная  культу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говорит о человеке православная культу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ое учение о спасен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православной традици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ая этика: заповеди блаженств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олотое правило нравственно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к ближнему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бродетели и страст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православн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21384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 труд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 и ответственност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 и сострада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паситель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ертвенная любовь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беда над смертью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ие в Росси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ны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 другие святын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ные Таинств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имволический язык православной культуры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ое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кусство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(иконы, фрески, церковное пение, прикладное искусство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вославный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ь</a:t>
            </a: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, его символическое значение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читание святых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аздни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истианская </a:t>
            </a: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 и ее ценности</a:t>
            </a:r>
            <a:r>
              <a:rPr b="0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630" descr="01-3632"/>
          <p:cNvPicPr/>
          <p:nvPr/>
        </p:nvPicPr>
        <p:blipFill>
          <a:blip r:embed="rId1"/>
          <a:stretch/>
        </p:blipFill>
        <p:spPr>
          <a:xfrm>
            <a:off x="5940360" y="836640"/>
            <a:ext cx="2538360" cy="33843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мировых религиозных культур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 учебном пособии с учётом возрастных особенностей учащихся 4-х классов даются элементарные представления о возникновении, истории и особенностях религий мира, их влиянии на жизнь людей. Авторы не ставили задачи отражения в пособии дискуссионных вопросов религиозных учений и религиовед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9" name="Рисунок 1" descr="Описание: http://www.prosv.ru/Attachment.aspx?Id=9182"/>
          <p:cNvPicPr/>
          <p:nvPr/>
        </p:nvPicPr>
        <p:blipFill>
          <a:blip r:embed="rId1"/>
          <a:stretch/>
        </p:blipFill>
        <p:spPr>
          <a:xfrm>
            <a:off x="122400" y="2057400"/>
            <a:ext cx="342252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мировых религиозных культур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1" name=""/>
          <p:cNvSpPr txBox="1"/>
          <p:nvPr/>
        </p:nvSpPr>
        <p:spPr>
          <a:xfrm>
            <a:off x="499680" y="1071720"/>
            <a:ext cx="8186760" cy="557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религи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ревнейшие верова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и мира и их основател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щенные книги религий мира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br>
              <a:rPr sz="2000"/>
            </a:b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ы, Авеста, Трипитака, Тора, Библия, Коран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Хранители предания в религия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в религиозных традициях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вященные сооружения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о в религиозн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зникновение зла в ми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нятие греха, раскаяния и воздая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ай и ад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и Ро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2" name="Picture 5" descr="http://soch8sad.narod.ru/images/06.jpg"/>
          <p:cNvPicPr/>
          <p:nvPr/>
        </p:nvPicPr>
        <p:blipFill>
          <a:blip r:embed="rId1"/>
          <a:stretch/>
        </p:blipFill>
        <p:spPr>
          <a:xfrm>
            <a:off x="6357960" y="1857240"/>
            <a:ext cx="2558880" cy="337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мировых религиозных культур»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856800"/>
            <a:ext cx="8329680" cy="600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я и мора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е заповеди в религиях мир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озные риту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ычаи и обряд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елигиозные ритуалы в искусств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и религий мир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 в религиях мира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, семейные ценности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, свобода, ответственность, учение и труд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, забота о слабых, взаимопомощь, социальные проблемы общества и отношение к ним разных религий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ttp://soch8sad.narod.ru/images/06.jpg"/>
          <p:cNvPicPr/>
          <p:nvPr/>
        </p:nvPicPr>
        <p:blipFill>
          <a:blip r:embed="rId1"/>
          <a:stretch/>
        </p:blipFill>
        <p:spPr>
          <a:xfrm>
            <a:off x="6072120" y="785880"/>
            <a:ext cx="2814840" cy="371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/>
          </p:nvPr>
        </p:nvSpPr>
        <p:spPr>
          <a:xfrm>
            <a:off x="4190760" y="1904760"/>
            <a:ext cx="46544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пособие знакомит учащихся с основами светской этики. Что такое добро и зло, добродетель и порок, альтруизм и эгоизм? Что значит быть моральным?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7" name="Рисунок 4" descr="Описание: http://www.prosv.ru/Attachment.aspx?Id=9184"/>
          <p:cNvPicPr/>
          <p:nvPr/>
        </p:nvPicPr>
        <p:blipFill>
          <a:blip r:embed="rId1"/>
          <a:stretch/>
        </p:blipFill>
        <p:spPr>
          <a:xfrm>
            <a:off x="917640" y="3024360"/>
            <a:ext cx="2627280" cy="345276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2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светской этики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 «Основы светской этик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99680" y="785880"/>
            <a:ext cx="835812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ядочность.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нтеллигентно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удовая морал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е традиции предприниматель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то значит «быть нравственным» в наше время?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олг и совес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сть и достоинство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мысл жизни и счасть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ысшие нравственные ц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деалы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инципы мор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ика создания морального кодекса в школ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1" name="Picture 5" descr="http://wiki.iteach.ru/images/5/53/Exar354%d1%88yurmple.jpg"/>
          <p:cNvPicPr/>
          <p:nvPr/>
        </p:nvPicPr>
        <p:blipFill>
          <a:blip r:embed="rId1"/>
          <a:stretch/>
        </p:blipFill>
        <p:spPr>
          <a:xfrm>
            <a:off x="6372360" y="2997360"/>
            <a:ext cx="2422440" cy="300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2560" y="-360"/>
            <a:ext cx="900108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Вопрос духовно-нравственного воспитания детей является одной из ключевых проблем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4" name="Содержимое 5" descr="00001_421.jpg"/>
          <p:cNvPicPr/>
          <p:nvPr/>
        </p:nvPicPr>
        <p:blipFill>
          <a:blip r:embed="rId1"/>
          <a:stretch/>
        </p:blipFill>
        <p:spPr>
          <a:xfrm>
            <a:off x="2627280" y="4005360"/>
            <a:ext cx="3132000" cy="2371680"/>
          </a:xfrm>
          <a:prstGeom prst="rect">
            <a:avLst/>
          </a:prstGeom>
          <a:ln w="0">
            <a:noFill/>
          </a:ln>
        </p:spPr>
      </p:pic>
      <p:pic>
        <p:nvPicPr>
          <p:cNvPr id="115" name="Содержимое 6" descr="1070398.jpg"/>
          <p:cNvPicPr/>
          <p:nvPr/>
        </p:nvPicPr>
        <p:blipFill>
          <a:blip r:embed="rId2"/>
          <a:stretch/>
        </p:blipFill>
        <p:spPr>
          <a:xfrm>
            <a:off x="5759280" y="1052640"/>
            <a:ext cx="3384720" cy="2708280"/>
          </a:xfrm>
          <a:prstGeom prst="rect">
            <a:avLst/>
          </a:prstGeom>
          <a:ln w="0">
            <a:noFill/>
          </a:ln>
        </p:spPr>
      </p:pic>
      <p:pic>
        <p:nvPicPr>
          <p:cNvPr id="116" name="Рисунок 8" descr="53055221_podrostki.gif"/>
          <p:cNvPicPr/>
          <p:nvPr/>
        </p:nvPicPr>
        <p:blipFill>
          <a:blip r:embed="rId3"/>
          <a:stretch/>
        </p:blipFill>
        <p:spPr>
          <a:xfrm>
            <a:off x="0" y="3686040"/>
            <a:ext cx="3635280" cy="3171960"/>
          </a:xfrm>
          <a:prstGeom prst="rect">
            <a:avLst/>
          </a:prstGeom>
          <a:ln w="0">
            <a:noFill/>
          </a:ln>
        </p:spPr>
      </p:pic>
      <p:pic>
        <p:nvPicPr>
          <p:cNvPr id="117" name="Рисунок 9" descr="boys.jpg"/>
          <p:cNvPicPr/>
          <p:nvPr/>
        </p:nvPicPr>
        <p:blipFill>
          <a:blip r:embed="rId4"/>
          <a:stretch/>
        </p:blipFill>
        <p:spPr>
          <a:xfrm>
            <a:off x="4788000" y="3724200"/>
            <a:ext cx="4356000" cy="313380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8" descr="http://www.canoandes.com/images/8pro2_2.jpg">
            <a:hlinkClick r:id="rId5"/>
          </p:cNvPr>
          <p:cNvPicPr/>
          <p:nvPr/>
        </p:nvPicPr>
        <p:blipFill>
          <a:blip r:embed="rId6"/>
          <a:stretch/>
        </p:blipFill>
        <p:spPr>
          <a:xfrm>
            <a:off x="1332000" y="1052640"/>
            <a:ext cx="4392360" cy="26352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http://im0-tub-ru.yandex.net/i?id=614353710-26-72&amp;n=21"/>
          <p:cNvPicPr/>
          <p:nvPr/>
        </p:nvPicPr>
        <p:blipFill>
          <a:blip r:embed="rId7"/>
          <a:stretch/>
        </p:blipFill>
        <p:spPr>
          <a:xfrm>
            <a:off x="0" y="1089000"/>
            <a:ext cx="3419640" cy="2565360"/>
          </a:xfrm>
          <a:prstGeom prst="rect">
            <a:avLst/>
          </a:prstGeom>
          <a:ln w="0">
            <a:noFill/>
          </a:ln>
        </p:spPr>
      </p:pic>
    </p:spTree>
  </p:cSld>
  <p:transition spd="slow">
    <p:strips dir="lu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 «Основы светской этик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285840" y="785520"/>
            <a:ext cx="85723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мораль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ка и ее значение в жизни человек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Род 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 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– исток нравственных отношений в истории человечества. Ценность родства и </a:t>
            </a: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е ценност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ейные праздники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к одна из форм исторической памя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цы нравственности в культурах разных народо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й образец богатыр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ормы морал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ворянский кодекс че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жентльмен и леди. </a:t>
            </a:r>
            <a:br>
              <a:rPr sz="2400"/>
            </a:b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Государство и мораль граждан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цы нравственности в культуре От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раль защитника Отечеств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4" name="Picture 5" descr="http://wiki.iteach.ru/images/5/53/Exar354%d1%88yurmple.jpg"/>
          <p:cNvPicPr/>
          <p:nvPr/>
        </p:nvPicPr>
        <p:blipFill>
          <a:blip r:embed="rId1"/>
          <a:stretch/>
        </p:blipFill>
        <p:spPr>
          <a:xfrm>
            <a:off x="6643800" y="3830760"/>
            <a:ext cx="2290680" cy="283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 «Основы светской этики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кет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Этикетная сторона костю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Школьная форма – за и против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разование как нравственная норм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– то, что он из себя сделал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етоды нравственного самосовершенствован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многоконфессионального народа Росс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Picture 5" descr="http://wiki.iteach.ru/images/5/53/Exar354%d1%88yurmple.jpg"/>
          <p:cNvPicPr/>
          <p:nvPr/>
        </p:nvPicPr>
        <p:blipFill>
          <a:blip r:embed="rId1"/>
          <a:stretch/>
        </p:blipFill>
        <p:spPr>
          <a:xfrm>
            <a:off x="6516720" y="981000"/>
            <a:ext cx="2422440" cy="300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ислам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733560" y="1143000"/>
            <a:ext cx="511164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50000"/>
              </a:lnSpc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Учебное пособие знакомит школьников с основами духовно-нравственной культуры ислама. Учащиеся узнают о жизни пророка Мухаммада, об истории появления, основах ислама и исламской этики, об обязанностях мусульман. Обращаясь к Корану и Сунне, авторы подчёркивают значение этих книг как источников нравственности. Особое место в пособии уделено жизни мусульман в современной Ро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0" name="Рисунок 11" descr="Описание: http://www.prosv.ru/Attachment.aspx?Id=9181"/>
          <p:cNvPicPr/>
          <p:nvPr/>
        </p:nvPicPr>
        <p:blipFill>
          <a:blip r:embed="rId1"/>
          <a:stretch/>
        </p:blipFill>
        <p:spPr>
          <a:xfrm>
            <a:off x="801720" y="302436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39640" y="26028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слам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214200" y="857160"/>
            <a:ext cx="8715600" cy="578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в исламскую духовную традицию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рок Мухаммад – образец человека и учитель нравственности. Жизнеописание Пророка Мухамм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поведническая миссия Пророка Мухамм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екрасные качества Пророка Мухаммада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ый Коран и Сунна как источники нравственност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ие принципы ислама и исламской э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толпы ислама и исламской этики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полнение мусульманами своих обязанностей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язанности мусульман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Для чего построена и как устроена мечеть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Picture 628" descr="81761030"/>
          <p:cNvPicPr/>
          <p:nvPr/>
        </p:nvPicPr>
        <p:blipFill>
          <a:blip r:embed="rId1"/>
          <a:stretch/>
        </p:blipFill>
        <p:spPr>
          <a:xfrm>
            <a:off x="6572160" y="3571920"/>
            <a:ext cx="2289240" cy="307188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57120" y="-360"/>
            <a:ext cx="8258400" cy="654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слам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213840" y="571320"/>
            <a:ext cx="8750520" cy="6072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усульманское летоисчисление и календарь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 в России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слам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равственные основы </a:t>
            </a: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и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ислам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равственные ценности</a:t>
            </a:r>
            <a:r>
              <a:rPr b="0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лама: сотворение добра, отношение к старшим, дружба, гостеприимство, любовь к отечеству, миролюби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Забота о здоровье в культуре ислама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Ценность образования и польза учения в исламе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</a:t>
            </a: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сламских народов России: </a:t>
            </a:r>
            <a:br>
              <a:rPr sz="2300"/>
            </a:b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х происхождение и особенности проведения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о ислам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575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6" name="Picture 628" descr="81761030"/>
          <p:cNvPicPr/>
          <p:nvPr/>
        </p:nvPicPr>
        <p:blipFill>
          <a:blip r:embed="rId1"/>
          <a:stretch/>
        </p:blipFill>
        <p:spPr>
          <a:xfrm>
            <a:off x="6572160" y="3500280"/>
            <a:ext cx="2143080" cy="2876760"/>
          </a:xfrm>
          <a:prstGeom prst="rect">
            <a:avLst/>
          </a:prstGeom>
          <a:ln w="15840">
            <a:solidFill>
              <a:srgbClr val="2fbb2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будди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505320" y="1904760"/>
            <a:ext cx="534024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ое пособие в доступной для учащихся 4-х классов форме знакомит с основами буддийской культуры: ее основателем, буддийским учением, нравственными ценностями, священными книгами, ритуалами, святынями, праздниками, искусством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Рисунок 17" descr="Описание: http://www.prosv.ru/Attachment.aspx?Id=9180"/>
          <p:cNvPicPr/>
          <p:nvPr/>
        </p:nvPicPr>
        <p:blipFill>
          <a:blip r:embed="rId1"/>
          <a:stretch/>
        </p:blipFill>
        <p:spPr>
          <a:xfrm>
            <a:off x="304920" y="2133720"/>
            <a:ext cx="2743200" cy="360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буддийской культур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68000" y="1197000"/>
            <a:ext cx="8496360" cy="54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</a:t>
            </a:r>
            <a:r>
              <a:rPr b="1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дение в буддийскую духовную традицию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а и его Уче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й священный канон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ая картина мир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2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енасилие и доброта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юбовь к человеку и ценность жизни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 и сострадани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ношение к природ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святые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ы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25800" indent="-32580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2" name="Picture 5" descr="http://gdanovskii.ucoz.ru/novyj_risunok-3.png"/>
          <p:cNvPicPr/>
          <p:nvPr/>
        </p:nvPicPr>
        <p:blipFill>
          <a:blip r:embed="rId1"/>
          <a:stretch/>
        </p:blipFill>
        <p:spPr>
          <a:xfrm>
            <a:off x="5940360" y="1916280"/>
            <a:ext cx="2857680" cy="370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68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буддийской культуры»</a:t>
            </a:r>
            <a:endParaRPr b="1" lang="en-US" sz="32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285480" y="85680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емья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в буддийской культуре и ее ценност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зм в Росс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ы буддийского Учения и этик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Человек в буддийской картине ми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символ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святын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й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ь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.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</a:t>
            </a: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буддий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кусство в буддий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вященные буддийские сооружения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уддийские ритуал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5" descr="http://gdanovskii.ucoz.ru/novyj_risunok-3.png"/>
          <p:cNvPicPr/>
          <p:nvPr/>
        </p:nvPicPr>
        <p:blipFill>
          <a:blip r:embed="rId1"/>
          <a:stretch/>
        </p:blipFill>
        <p:spPr>
          <a:xfrm>
            <a:off x="5786280" y="1357200"/>
            <a:ext cx="2846520" cy="36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Основы иудейской культуры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3809880" y="1904760"/>
            <a:ext cx="50356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Учебник знакомит с основами иудейской культуры и раскрывает её значение в формировании личности иудея и его поведении в повседневной жизни, а также её влияние на историю еврейского народа и мировые религии  - христианство и ислам, показывает жизнь евреев в Росси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Рисунок 15" descr="Описание: http://www.prosv.ru/Attachment.aspx?Id=9185"/>
          <p:cNvPicPr/>
          <p:nvPr/>
        </p:nvPicPr>
        <p:blipFill>
          <a:blip r:embed="rId1"/>
          <a:stretch/>
        </p:blipFill>
        <p:spPr>
          <a:xfrm>
            <a:off x="304920" y="1981080"/>
            <a:ext cx="2917800" cy="38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39640" y="189000"/>
            <a:ext cx="8229600" cy="5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удей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250560" y="765000"/>
            <a:ext cx="8569080" cy="585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оссия – наша Родин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ведение в иудейскую духовную традицию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ультура и религия.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ора – главная книга иудаиз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щность Торы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Золотое правило Гилеля»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исьменная и Устная Тор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лассические тексты иудаизм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атриархи еврейского народ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еи в Египте: от Йосефа до Мош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сход из Египта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лучение Торы на горе Синай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ророки и праведники в иудейской культуре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Храм</a:t>
            </a:r>
            <a:r>
              <a:rPr b="0" lang="ru-RU" sz="2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жизни иудее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значение синагоги и ее устройств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бота (Шабат) в иудейской традиции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1" name="Picture 5" descr="http://gdanovskii.ucoz.ru/novyj_risunok-2.png"/>
          <p:cNvPicPr/>
          <p:nvPr/>
        </p:nvPicPr>
        <p:blipFill>
          <a:blip r:embed="rId1"/>
          <a:stretch/>
        </p:blipFill>
        <p:spPr>
          <a:xfrm>
            <a:off x="5867280" y="1844640"/>
            <a:ext cx="2733840" cy="352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Нормативно-правовая основа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21" name="Picture 4" descr=""/>
          <p:cNvPicPr/>
          <p:nvPr/>
        </p:nvPicPr>
        <p:blipFill>
          <a:blip r:embed="rId1"/>
          <a:stretch/>
        </p:blipFill>
        <p:spPr>
          <a:xfrm>
            <a:off x="179280" y="1197000"/>
            <a:ext cx="3313080" cy="247176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"/>
          <p:cNvPicPr/>
          <p:nvPr/>
        </p:nvPicPr>
        <p:blipFill>
          <a:blip r:embed="rId2"/>
          <a:stretch/>
        </p:blipFill>
        <p:spPr>
          <a:xfrm>
            <a:off x="179280" y="3860640"/>
            <a:ext cx="3313080" cy="2318040"/>
          </a:xfrm>
          <a:prstGeom prst="rect">
            <a:avLst/>
          </a:prstGeom>
          <a:ln w="0">
            <a:noFill/>
          </a:ln>
        </p:spPr>
      </p:pic>
      <p:sp>
        <p:nvSpPr>
          <p:cNvPr id="123" name="Rectangle 7"/>
          <p:cNvSpPr/>
          <p:nvPr/>
        </p:nvSpPr>
        <p:spPr>
          <a:xfrm>
            <a:off x="3780000" y="1052640"/>
            <a:ext cx="5113080" cy="521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онституция Российской Федерации, законы Российской Федерации «Об образовании», «Об основных гарантиях прав ребенка в Российской Федерации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Федеральный закон «О свободе совести и религиозных объединениях»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ручение Президента Российской Федерации от 02 августа 2009г.        № Пр – 2009, Распоряжение Председателя Правительства Российской Федерации  от        11 августа 2009 г. (ВП-П44-4632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82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cc00"/>
                </a:solidFill>
                <a:latin typeface="Times New Roman"/>
                <a:ea typeface="Times New Roman"/>
              </a:rPr>
              <a:t>Учебный модуль «Основы иудейской культуры»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285480" y="928440"/>
            <a:ext cx="864396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убботний ритуал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олитвы и благословения в иудаизм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бро и зло.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удаизм в России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сновные принципы иудаизма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Милосердие, забота о слабых, взаимопомощь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Традиции иудаизма в повседневной жизни евреев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вершеннолетие в иудаизме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ветственное принятие заповедей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врейский дом – еврейский мир: знакомство с историей и традицией. Знакомство с еврейским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календарем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его устройство и особенности. Еврейские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аздники: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их история и традиц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ности семейной жизни</a:t>
            </a:r>
            <a:r>
              <a:rPr b="0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0" lang="ru-RU" sz="19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 иудейской традиции. </a:t>
            </a: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юбовь и уважение к Отечеству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триотизм многонационального и многоконфессионального народа России. 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6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4" name="Picture 5" descr="http://gdanovskii.ucoz.ru/novyj_risunok-2.png"/>
          <p:cNvPicPr/>
          <p:nvPr/>
        </p:nvPicPr>
        <p:blipFill>
          <a:blip r:embed="rId1"/>
          <a:stretch/>
        </p:blipFill>
        <p:spPr>
          <a:xfrm>
            <a:off x="6429240" y="857160"/>
            <a:ext cx="2433600" cy="3143520"/>
          </a:xfrm>
          <a:prstGeom prst="rect">
            <a:avLst/>
          </a:prstGeom>
          <a:ln w="0">
            <a:noFill/>
          </a:ln>
        </p:spPr>
      </p:pic>
      <p:sp>
        <p:nvSpPr>
          <p:cNvPr id="205" name="Горизонтальный свиток 4"/>
          <p:cNvSpPr/>
          <p:nvPr/>
        </p:nvSpPr>
        <p:spPr>
          <a:xfrm>
            <a:off x="7924680" y="6248520"/>
            <a:ext cx="838440" cy="380880"/>
          </a:xfrm>
          <a:prstGeom prst="horizontalScroll">
            <a:avLst>
              <a:gd name="adj" fmla="val 12500"/>
            </a:avLst>
          </a:prstGeom>
          <a:solidFill>
            <a:srgbClr val="ffff00"/>
          </a:solidFill>
          <a:ln w="25560">
            <a:solidFill>
              <a:srgbClr val="6f9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7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Последние нормативные документы</a:t>
            </a:r>
            <a:endParaRPr b="1" lang="en-US" sz="2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95280" y="764640"/>
            <a:ext cx="8291520" cy="575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Во исполнение распоряжения Правительства Российской Федерации от 28.01.2012 № 84-р утверждены  приказы Минобрнауки России: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31.01.2012 № 69 «О внесении изменений в федеральный компонент государственных образовательных стандартов начального общего, основного общего и среднего (полного) общего  образования, утвержденный приказом Министерства образования Российской Федерации от 5 марта 2004 № 1089»;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        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от 01.02.2012 № 174 «О внесении изменений в федеральный базисный учебный план и примерные учебные планы для образовательных учреждений Российской Федерации, реализующих программы общего образования, утвержденные приказом Министерства образования и науки Российской Федерации от 09.03.2004 № 1312»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В соответствии с вышеуказанными приказами учебный предмет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«Основы религиозных культур и светской этики»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2000"/>
            </a:b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с 1 сентября 2012/13 учебного года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ключен в обязательную часть</a:t>
            </a:r>
            <a:r>
              <a:rPr b="0" i="1" lang="ru-RU" sz="2000" spc="-1" strike="noStrike">
                <a:solidFill>
                  <a:srgbClr val="ffffff"/>
                </a:solidFill>
                <a:latin typeface="Arial"/>
              </a:rPr>
              <a:t> образовательной программы 4 классов начальной школы в объеме 34 часов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28760" y="213840"/>
            <a:ext cx="8246880" cy="693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Назначение предмета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285480" y="1125360"/>
            <a:ext cx="8643960" cy="537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Помочь ребенку в решении его личностных, возрастных, образовательных проблем, создать условия для его духовно-нравственного развит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	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оспитание ребенка в соответствии с потребностями, традициями и приоритетами его семьи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Picture 6" descr="http://megastena.kz/uploads/posts/1348632941_cult.jpg"/>
          <p:cNvPicPr/>
          <p:nvPr/>
        </p:nvPicPr>
        <p:blipFill>
          <a:blip r:embed="rId1"/>
          <a:stretch/>
        </p:blipFill>
        <p:spPr>
          <a:xfrm>
            <a:off x="2571840" y="3929040"/>
            <a:ext cx="5565600" cy="249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250920" y="333000"/>
            <a:ext cx="8447040" cy="63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    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Цель предмета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00cc00"/>
                </a:solidFill>
                <a:latin typeface="Times New Roman"/>
                <a:ea typeface="Times New Roman"/>
              </a:rPr>
              <a:t>ОРКСЭ</a:t>
            </a:r>
            <a:r>
              <a:rPr b="1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- формирование у младшего подростка мотивации к осознанному нравственному поведению, основанному на знании и уважении культурных и религиозных традиций многонационального народа России, а также к диалогу с представителями других культур и мировоззрений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0" name="Picture 6" descr="http://megastena.kz/uploads/posts/1348632941_cult.jpg"/>
          <p:cNvPicPr/>
          <p:nvPr/>
        </p:nvPicPr>
        <p:blipFill>
          <a:blip r:embed="rId1"/>
          <a:stretch/>
        </p:blipFill>
        <p:spPr>
          <a:xfrm>
            <a:off x="2660760" y="3929040"/>
            <a:ext cx="541656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898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b7"/>
                </a:solidFill>
                <a:latin typeface="Arial Black"/>
              </a:rPr>
              <a:t>Задачи учебного курса ОРКСЭ:</a:t>
            </a:r>
            <a:endParaRPr b="1" lang="en-US" sz="36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240" y="990360"/>
            <a:ext cx="89154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накомство обучающихся с основами православной, мусульманской, буддийской, иудейской культур, основами мировых религиозных культур и светской этики;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представлений младшего подростка о значении нравственных норм и ценностей для достойной жизни личности, семьи, общества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обобщение знаний, понятий и представлений о духовной культуре и морали, полученных обучающимися в начальной школе, и формирование у них ценностно-смысловых мировоззренческих основ, обеспечивающих целостное восприятие отечественной истории и культуры при изучении гуманитарных предметов на ступени основной школ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азвитие способностей младших школьников к общению в полиэтнической и многоконфессиональной среде на основе взаимного уважения и диалога во имя общественного мира и согла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714240" y="274320"/>
            <a:ext cx="8072640" cy="1082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Структура курса</a:t>
            </a:r>
            <a:br>
              <a:rPr sz="2400"/>
            </a:br>
            <a:r>
              <a:rPr b="1" lang="ru-RU" sz="2400" spc="-1" strike="noStrike">
                <a:solidFill>
                  <a:srgbClr val="ffffb7"/>
                </a:solidFill>
                <a:latin typeface="Times New Roman"/>
                <a:ea typeface="Times New Roman"/>
              </a:rPr>
              <a:t>«Основы религиозных культур и светской этики»:</a:t>
            </a:r>
            <a:endParaRPr b="1" lang="en-US" sz="2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34" name="Содержимое 3" descr=""/>
          <p:cNvPicPr/>
          <p:nvPr/>
        </p:nvPicPr>
        <p:blipFill>
          <a:blip r:embed="rId1"/>
          <a:stretch/>
        </p:blipFill>
        <p:spPr>
          <a:xfrm>
            <a:off x="208080" y="1468440"/>
            <a:ext cx="8381880" cy="4309920"/>
          </a:xfrm>
          <a:prstGeom prst="rect">
            <a:avLst/>
          </a:prstGeom>
          <a:ln w="0">
            <a:noFill/>
          </a:ln>
        </p:spPr>
      </p:pic>
      <p:sp>
        <p:nvSpPr>
          <p:cNvPr id="135" name="Rectangle 5"/>
          <p:cNvSpPr/>
          <p:nvPr/>
        </p:nvSpPr>
        <p:spPr>
          <a:xfrm>
            <a:off x="357120" y="5786280"/>
            <a:ext cx="8572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Учебный курс ОРКСЭ -  единая комплексная учебно-воспитательная систе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b7"/>
                </a:solidFill>
                <a:latin typeface="Arial Black"/>
              </a:rPr>
              <a:t>Структура комплексного учебного курса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8159760" cy="419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4 класс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0" spc="-1" strike="noStrike">
                <a:solidFill>
                  <a:srgbClr val="ffffff"/>
                </a:solidFill>
                <a:latin typeface="Arial"/>
              </a:rPr>
              <a:t>34 часа</a:t>
            </a:r>
            <a:endParaRPr b="0" lang="en-US" sz="8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" dur="1000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" dur="1000"/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XTreme.ws</cp:lastModifiedBy>
  <dcterms:modified xsi:type="dcterms:W3CDTF">2013-04-05T16:14:57Z</dcterms:modified>
  <cp:revision>1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