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73234-722E-4330-8693-150C75E9AA6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, раскрывающий основы религиозных культур и светской этики, предлагается изучать на переходной стадии от начальной к основной ступени общеобразовательной школы. И по месту в учебном плане, и по содержанию он служит важным связующим звеном между двумя этапами гуманитарного образования и воспитания школьников. С одной стороны, учебный курс ОРКСЭ дополняет обществоведческие аспекты предмета «Окружающий мир», с которым знакомятся учащиеся основной школы. С другой стороны, этот курс предваряет начинающееся в 5 классе изучение предмета «История». Таким образом, ознакомление с нравственными идеалами и ценностями религиозных и светских духовных традиций России происходит в контексте, отражающем глубинную связь прошлого и настоя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методологический принцип реализации курса - культурологический подход, способствующий формированию у младших школьников первоначальных представлений о светской и религиозной культуре. В контексте данного учебно-методического комплекта культура понимается как духовное и материальное богатство народов мира, нашей страны, как образ жизни людей разных сообществ, обычаи, традиции и верования. Культура всегда связана с историей, подразумевает непрерывность нравственной, интеллектуальной, духовной жизни человека, общества и человечества - огромный, насчитывающий тысячелетия путь, который эта культура прошла; развитие различных исторических эпох, национальных культур. Такое широкое понимание человеческой культуры важно для процесса идентификации школьников как представителей всего человечества, своей страны, национальной, этнической, религиозной общности. ОСНОВНЫЕ ПО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МК культура - религиозная и светская, представлена в традициях, ритуалах и обрядах древ- них людей и наших современников; в истории и языке; в архитектуре, искусстве, литературе, живописи, музыке; через быт людей, поскольку- он и есть реальная жизнь представителей каж- дой культуры, знакомство с которой дает возможность, увидеть, услышать, осязать - почувствовать эту культуру. Мир быта людей - это вещи, которые их окружают; привычный образ жизни, каждодневное поведение, обычное протекании жизни в ее реально-практических формах. С другой стороны, быт, всегда находящийся в сфере практики, мир вещей неразрывно связаны с глубинными символами, с идеями, ценностями, с интеллектуальным, нравственным, духовным развитием эпох, культур, сообществ. Понятие культуры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в учебном материале предмета большое внимание уделяется описанию содержания и деталей жизни и обихода, поведения людей, представителей разных культур. Это и знакомство с жилищем, родом занятий, распорядком дня, характером труда и досуга, ритуалами, языком (язык священных книг, словесные формы – приветствия, прощания, обращения и т.д.) - все, в чем раскрываются те невидимые черты жизни, которые ярко характеризуют культуру той или иной группы, сообщества людей и по которым человек узнает своего или чужого. Такое понятие культуры тяготеет к этнографически- социологическому подходу, когда оно используется для описания жизни народов и социальных групп и их отношений. В отношения вступают реальные люди, представители культур, еще точнее: представители тех сообществ (народов, социальных групп), которых объединяет та или иная культура. А положение каждого конкретного человека в сообществе (его статус, социальная роль и т.п.) играют не последнюю роль в построении отношений с представителями других куль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63D3-77A3-42F4-828D-2EBE7E7B625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их базовых ценностях будет осуществляться воспитание детей в рамках нового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каждого модуля ориентировано на знакомство с соответствующей культурой и религиозной или светской традицией и не содержит критических оценок других религий  и мировоззр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всех модулей комплексного учебного курса подчинено общей цели — воспитанию личности гражданина России посредством приобщения его к нравственным и мировоззренческим ценностям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85B9A-2E10-48F6-A852-5C50846BDADB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из самых главных и самых трудных задач родителей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равственное воспитание реб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в рамках этого курса школа предлагает им свою профессиональную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о-нравственное воспитание подрастающего поколения становится приоритетом государственной образовательной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E137B-D9A7-4EF0-9E42-6D332A7E956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ой основой разработки и введения в учебный процесс общеобразовательных школ комплексного учебного курса «Основы религиозных культур и светской этики» яв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E835-13F5-473B-9EDB-BD04242CE46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признания важности духовно-нравственного воспитания в школьной обра­зовательной практике на государственном уровне является созд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екта введения в учебные планы предмета «Основы религиозных культур и светской эти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преподавание данного курс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дется в  штатн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жиме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4-х классах, в объеме 34 учебных ча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B771E-748F-406A-B1C7-63D52F615D2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е направлено на духовно-нравственное развитие и воспитание учащихся, формирование их мировоззрения и нравственной культуры на основе духовно-нравственных ценностей традиционных российских рели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8C0BE-672D-48EA-9015-7A92ECF51902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е четы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дуля ориентированы на запросы последователей соответствующих религий — православного христианства,  ислама, буддизма, иудаизма и дают возможность изучения религиозной культуры, духовно-нравственного воспитания ребенка на основе соответствующих религиозных ценностей и трад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тальные д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дул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них направлен на расширение знаний школьников о религии на основе нерелигиозных, неконфессиональных под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ой по основам светской (гражданской) этики направлен на нравственное воспитание ребенка на основе нерелигиозной этики и мор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C6B41-F5A1-4E7D-8535-12952631002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7FDA-320C-4B68-B313-DB019E025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8123-69D3-427D-90BA-7963EE3B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1C5B-2DBD-45DA-8A1B-55D09476F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9F73-5AF5-4C81-B7E1-07FD6619A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59210-0A9E-4F1D-B4BB-BE500A289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51C3-E336-4120-B8AE-B3320534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BE3E-CFD1-4C04-806C-948424F1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DEA22-9DA9-431C-A1EF-FA8A4097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7AA12-5E7C-4BE0-85C6-14A88021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8A198-0AFE-4B69-B4D7-F4D26605E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4C5C9-CA5F-4467-846A-06170B0BC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44EA-CFBA-4828-B02B-478A57CD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ADDF1-F235-4584-B00B-66EF74CE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4E4B-A952-4366-970A-5BD2EF0B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5DB89-86E0-4F48-9691-F1F6C5E4A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A026-3528-4FDB-9ED5-1993934E1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1D8BD-BE76-4E2B-ABD8-5323C8D8B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6B18A-D75F-46E4-AED4-CEDAC5E5C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2C7F3-CEFC-449E-83B3-76DFA7428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076F-629B-4246-A3BD-A024A394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98D8-F5E8-4230-A65C-FEEE23A3A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C424-E613-4F4F-9606-13B22410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69F49-DB23-41E2-9211-B72B63BA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B73B-B9CC-4AD6-B4C5-351AC04CA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962BD-1EEA-44AB-89F2-4E036387AE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F9ED-9B77-4273-B5B0-C47A6386FFE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gdanovskii.ucoz.ru/novyj_risunok-3.png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hyperlink" Target="http://www.canoandes.com/images/8pro2_2.jpg" TargetMode="External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Родительское собран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4876920"/>
            <a:ext cx="6781680" cy="1752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кур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сновы религиозных культур и светской этик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0" descr="0_2e434_e82c941a_L"/>
          <p:cNvPicPr/>
          <p:nvPr/>
        </p:nvPicPr>
        <p:blipFill>
          <a:blip r:embed="rId1"/>
          <a:stretch/>
        </p:blipFill>
        <p:spPr>
          <a:xfrm rot="20893800">
            <a:off x="6553080" y="228240"/>
            <a:ext cx="1508400" cy="201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30" descr="01-3632"/>
          <p:cNvPicPr/>
          <p:nvPr/>
        </p:nvPicPr>
        <p:blipFill>
          <a:blip r:embed="rId2"/>
          <a:stretch/>
        </p:blipFill>
        <p:spPr>
          <a:xfrm rot="20763000">
            <a:off x="2437920" y="228600"/>
            <a:ext cx="1514520" cy="2016000"/>
          </a:xfrm>
          <a:prstGeom prst="rect">
            <a:avLst/>
          </a:prstGeom>
          <a:ln w="15840">
            <a:solidFill>
              <a:srgbClr val="2fbb2f"/>
            </a:solidFill>
            <a:miter/>
          </a:ln>
        </p:spPr>
      </p:pic>
      <p:pic>
        <p:nvPicPr>
          <p:cNvPr id="109" name="Picture 628" descr="81761030"/>
          <p:cNvPicPr/>
          <p:nvPr/>
        </p:nvPicPr>
        <p:blipFill>
          <a:blip r:embed="rId3"/>
          <a:stretch/>
        </p:blipFill>
        <p:spPr>
          <a:xfrm rot="633600">
            <a:off x="4495320" y="837720"/>
            <a:ext cx="1501920" cy="2016360"/>
          </a:xfrm>
          <a:prstGeom prst="rect">
            <a:avLst/>
          </a:prstGeom>
          <a:ln w="15840">
            <a:solidFill>
              <a:srgbClr val="2fbb2f"/>
            </a:solidFill>
            <a:miter/>
          </a:ln>
        </p:spPr>
      </p:pic>
      <p:pic>
        <p:nvPicPr>
          <p:cNvPr id="110" name="Picture 19" descr="0_2e1ac_5b0ce002_L"/>
          <p:cNvPicPr/>
          <p:nvPr/>
        </p:nvPicPr>
        <p:blipFill>
          <a:blip r:embed="rId4"/>
          <a:stretch/>
        </p:blipFill>
        <p:spPr>
          <a:xfrm rot="894600">
            <a:off x="380880" y="761760"/>
            <a:ext cx="1563840" cy="201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http://gdanovskii.ucoz.ru/novyj_risunok-3.png">
            <a:hlinkClick r:id="rId5"/>
          </p:cNvPr>
          <p:cNvPicPr/>
          <p:nvPr/>
        </p:nvPicPr>
        <p:blipFill>
          <a:blip r:embed="rId6"/>
          <a:stretch/>
        </p:blipFill>
        <p:spPr>
          <a:xfrm rot="20824200">
            <a:off x="6858000" y="4572000"/>
            <a:ext cx="1609560" cy="2089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http://gdanovskii.ucoz.ru/novyj_risunok-2.png"/>
          <p:cNvPicPr/>
          <p:nvPr/>
        </p:nvPicPr>
        <p:blipFill>
          <a:blip r:embed="rId7"/>
          <a:stretch/>
        </p:blipFill>
        <p:spPr>
          <a:xfrm rot="1039200">
            <a:off x="7315200" y="2362320"/>
            <a:ext cx="16178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Структура предмета</a:t>
            </a: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2997360"/>
            <a:ext cx="84960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модули нового предмета соединяются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ми тематическими блоками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ховные ценности и нравственные идеалы в жизни человека и общества (1 ч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ы традиционных религий и светской этики (16 ч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диционные религии и этика в России (13 ч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ховные традиции многонационального народа России (4ч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0" descr="0_2e434_e82c941a_L"/>
          <p:cNvPicPr/>
          <p:nvPr/>
        </p:nvPicPr>
        <p:blipFill>
          <a:blip r:embed="rId1"/>
          <a:stretch/>
        </p:blipFill>
        <p:spPr>
          <a:xfrm>
            <a:off x="0" y="907920"/>
            <a:ext cx="1508040" cy="201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30" descr="01-3632"/>
          <p:cNvPicPr/>
          <p:nvPr/>
        </p:nvPicPr>
        <p:blipFill>
          <a:blip r:embed="rId2"/>
          <a:stretch/>
        </p:blipFill>
        <p:spPr>
          <a:xfrm>
            <a:off x="1547640" y="907920"/>
            <a:ext cx="1514520" cy="2016360"/>
          </a:xfrm>
          <a:prstGeom prst="rect">
            <a:avLst/>
          </a:prstGeom>
          <a:ln w="15840">
            <a:solidFill>
              <a:srgbClr val="2fbb2f"/>
            </a:solidFill>
            <a:miter/>
          </a:ln>
        </p:spPr>
      </p:pic>
      <p:pic>
        <p:nvPicPr>
          <p:cNvPr id="142" name="Picture 628" descr="81761030"/>
          <p:cNvPicPr/>
          <p:nvPr/>
        </p:nvPicPr>
        <p:blipFill>
          <a:blip r:embed="rId3"/>
          <a:stretch/>
        </p:blipFill>
        <p:spPr>
          <a:xfrm>
            <a:off x="2987640" y="907920"/>
            <a:ext cx="1501920" cy="2016360"/>
          </a:xfrm>
          <a:prstGeom prst="rect">
            <a:avLst/>
          </a:prstGeom>
          <a:ln w="15840">
            <a:solidFill>
              <a:srgbClr val="2fbb2f"/>
            </a:solidFill>
            <a:miter/>
          </a:ln>
        </p:spPr>
      </p:pic>
      <p:pic>
        <p:nvPicPr>
          <p:cNvPr id="143" name="Picture 19" descr="0_2e1ac_5b0ce002_L"/>
          <p:cNvPicPr/>
          <p:nvPr/>
        </p:nvPicPr>
        <p:blipFill>
          <a:blip r:embed="rId4"/>
          <a:stretch/>
        </p:blipFill>
        <p:spPr>
          <a:xfrm>
            <a:off x="4427640" y="907920"/>
            <a:ext cx="1563480" cy="201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http://gdanovskii.ucoz.ru/novyj_risunok-3.png"/>
          <p:cNvPicPr/>
          <p:nvPr/>
        </p:nvPicPr>
        <p:blipFill>
          <a:blip r:embed="rId5"/>
          <a:stretch/>
        </p:blipFill>
        <p:spPr>
          <a:xfrm>
            <a:off x="6012000" y="907920"/>
            <a:ext cx="1609560" cy="2089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http://gdanovskii.ucoz.ru/novyj_risunok-2.png"/>
          <p:cNvPicPr/>
          <p:nvPr/>
        </p:nvPicPr>
        <p:blipFill>
          <a:blip r:embed="rId6"/>
          <a:stretch/>
        </p:blipFill>
        <p:spPr>
          <a:xfrm>
            <a:off x="7526160" y="907920"/>
            <a:ext cx="16178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6760" y="356760"/>
            <a:ext cx="8535960" cy="33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одержание модулей курса:</a:t>
            </a:r>
            <a:br>
              <a:rPr sz="3200"/>
            </a:b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ориентировано на общее знакомство с соответствующими религиями,  их культурой;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- не включает специальных богословских вопросов;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 - не содержит критических оценок других религий и мировоззрений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4005360"/>
          <a:ext cx="8064720" cy="1871640"/>
        </p:xfrm>
        <a:graphic>
          <a:graphicData uri="http://schemas.openxmlformats.org/drawingml/2006/table">
            <a:tbl>
              <a:tblPr/>
              <a:tblGrid>
                <a:gridCol w="4103640"/>
                <a:gridCol w="3961080"/>
              </a:tblGrid>
              <a:tr h="51840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4a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2800" spc="-1" strike="noStrike">
                          <a:solidFill>
                            <a:srgbClr val="ffff4a"/>
                          </a:solidFill>
                          <a:latin typeface="Times New Roman"/>
                          <a:ea typeface="Times New Roman"/>
                        </a:rPr>
                        <a:t>Тр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4a"/>
                          </a:solidFill>
                          <a:latin typeface="Times New Roman"/>
                          <a:ea typeface="Times New Roman"/>
                        </a:rPr>
                        <a:t>базовые  национальные цен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теч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емь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лиг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ы православной культ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62520" y="182844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ое пособие знакомит с основами православной культуры, раскрывает её значение и роль в жизни людей – в формировании личности человека,  его отношения к миру и людям, поведения в повседневной жиз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Рисунок 7" descr="Описание: http://www.prosv.ru/Attachment.aspx?Id=9183"/>
          <p:cNvPicPr/>
          <p:nvPr/>
        </p:nvPicPr>
        <p:blipFill>
          <a:blip r:embed="rId1"/>
          <a:stretch/>
        </p:blipFill>
        <p:spPr>
          <a:xfrm>
            <a:off x="228600" y="1828800"/>
            <a:ext cx="3421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«Основы православной культуры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2" name="Picture 630" descr="01-3632"/>
          <p:cNvPicPr/>
          <p:nvPr/>
        </p:nvPicPr>
        <p:blipFill>
          <a:blip r:embed="rId1"/>
          <a:stretch/>
        </p:blipFill>
        <p:spPr>
          <a:xfrm>
            <a:off x="6611760" y="1989000"/>
            <a:ext cx="2322720" cy="3095640"/>
          </a:xfrm>
          <a:prstGeom prst="rect">
            <a:avLst/>
          </a:prstGeom>
          <a:ln w="15840">
            <a:solidFill>
              <a:srgbClr val="2fbb2f"/>
            </a:solidFill>
            <a:miter/>
          </a:ln>
        </p:spPr>
      </p:pic>
      <p:sp>
        <p:nvSpPr>
          <p:cNvPr id="153" name="Прямоугольник 5"/>
          <p:cNvSpPr/>
          <p:nvPr/>
        </p:nvSpPr>
        <p:spPr>
          <a:xfrm>
            <a:off x="357120" y="1000080"/>
            <a:ext cx="835812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ссия – наша Родин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ведение в православную духовную традицию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сти восточного христианства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льтура и религия.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ященное Писан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ященное Писание и Священное Предан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что верят православные христиан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говорит о Боге и мире православная  культур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говорит о человеке православная культур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истианское учение о спасени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о и зло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авославной традици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истианская этика: заповеди блаженств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лотое правило нравственност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овь к ближнему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родетели и страст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«Основы православной культуры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3840" y="92844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ношение к тру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г и ответствен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лосердие и сострада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тел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ртвенная любов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да над смерть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лавие в Росс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лавный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ра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другие святын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лавные Таинст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волический язык православной культур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истианско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кусств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иконы, фрески, церковное пение, прикладное искусство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лавный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лендар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его символическое знач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итание святы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здни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истианска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я и ее ценности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овь и уважение к Отечеств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риотизм многонационального и многоконфессионального народа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30" descr="01-3632"/>
          <p:cNvPicPr/>
          <p:nvPr/>
        </p:nvPicPr>
        <p:blipFill>
          <a:blip r:embed="rId1"/>
          <a:stretch/>
        </p:blipFill>
        <p:spPr>
          <a:xfrm>
            <a:off x="5940360" y="836640"/>
            <a:ext cx="2538360" cy="3384360"/>
          </a:xfrm>
          <a:prstGeom prst="rect">
            <a:avLst/>
          </a:prstGeom>
          <a:ln w="15840">
            <a:solidFill>
              <a:srgbClr val="2fbb2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ы мировых религиозных культу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9880" y="1904760"/>
            <a:ext cx="5035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учебном пособии с учётом возрастных особенностей учащихся 4-х классов даются элементарные представления о возникновении, истории и особенностях религий мира, их влиянии на жизнь людей. Авторы не ставили задачи отражения в пособии дискуссионных вопросов религиозных учений и религиовед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1" descr="Описание: http://www.prosv.ru/Attachment.aspx?Id=9182"/>
          <p:cNvPicPr/>
          <p:nvPr/>
        </p:nvPicPr>
        <p:blipFill>
          <a:blip r:embed="rId1"/>
          <a:stretch/>
        </p:blipFill>
        <p:spPr>
          <a:xfrm>
            <a:off x="122400" y="2057400"/>
            <a:ext cx="3422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«Основы мировых религиозных культур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99680" y="1071720"/>
            <a:ext cx="8186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ссия – наша Роди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льтура и религия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никновение религ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евнейшие вер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игии мира и их основател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ященные книги религий мира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ы, Авеста, Трипитака, Тора, Библия, Кора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анители предания в религиях ми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к в религиозных традициях ми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ященные сооружения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кусство в религиозной культу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о и зло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никновение зла в ми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греха, раскаяния и воздая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й и а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игии Росс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5" descr="http://soch8sad.narod.ru/images/06.jpg"/>
          <p:cNvPicPr/>
          <p:nvPr/>
        </p:nvPicPr>
        <p:blipFill>
          <a:blip r:embed="rId1"/>
          <a:stretch/>
        </p:blipFill>
        <p:spPr>
          <a:xfrm>
            <a:off x="6357960" y="1857240"/>
            <a:ext cx="2558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«Основы мировых религиозных культур»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856800"/>
            <a:ext cx="8329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игия и морал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равственные заповеди в религиях ми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игиозные ритуал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ычаи и обря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игиозные ритуалы в искусств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лендари религий мира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здники в религиях мира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я, семейные ценности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г, свобода, ответственность, учение и тру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лосердие, забота о слабых, взаимопомощь, социальные проблемы общества и отношение к ним разных религ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овь и уважение к Отечеств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риотизм многонационального и многоконфессионального народа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http://soch8sad.narod.ru/images/06.jpg"/>
          <p:cNvPicPr/>
          <p:nvPr/>
        </p:nvPicPr>
        <p:blipFill>
          <a:blip r:embed="rId1"/>
          <a:stretch/>
        </p:blipFill>
        <p:spPr>
          <a:xfrm>
            <a:off x="6072120" y="785880"/>
            <a:ext cx="28148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190760" y="1904760"/>
            <a:ext cx="4654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ое пособие знакомит учащихся с основами светской этики. Что такое добро и зло, добродетель и порок, альтруизм и эгоизм? Что значит быть моральным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Рисунок 4" descr="Описание: http://www.prosv.ru/Attachment.aspx?Id=9184"/>
          <p:cNvPicPr/>
          <p:nvPr/>
        </p:nvPicPr>
        <p:blipFill>
          <a:blip r:embed="rId1"/>
          <a:stretch/>
        </p:blipFill>
        <p:spPr>
          <a:xfrm>
            <a:off x="917640" y="3024360"/>
            <a:ext cx="2627280" cy="34527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ы светской эт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 «Основы светской этики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99680" y="7858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ядочность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ллигент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ая морал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равственные традиции предприниматель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значит «быть нравственным» в наше врем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о и зло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г и сове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ь и достоинст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ысл жизни и счасть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шие нравственные цен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деал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ы мора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ка создания морального кодекса в школ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http://wiki.iteach.ru/images/5/53/Exar354%d1%88yurmple.jpg"/>
          <p:cNvPicPr/>
          <p:nvPr/>
        </p:nvPicPr>
        <p:blipFill>
          <a:blip r:embed="rId1"/>
          <a:stretch/>
        </p:blipFill>
        <p:spPr>
          <a:xfrm>
            <a:off x="6372360" y="2997360"/>
            <a:ext cx="2422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Вопрос духовно-нравственного воспитания детей является одной из ключевых проблем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Содержимое 5" descr="00001_421.jpg"/>
          <p:cNvPicPr/>
          <p:nvPr/>
        </p:nvPicPr>
        <p:blipFill>
          <a:blip r:embed="rId1"/>
          <a:stretch/>
        </p:blipFill>
        <p:spPr>
          <a:xfrm>
            <a:off x="2627280" y="4005360"/>
            <a:ext cx="3132000" cy="2371680"/>
          </a:xfrm>
          <a:prstGeom prst="rect">
            <a:avLst/>
          </a:prstGeom>
          <a:ln w="0">
            <a:noFill/>
          </a:ln>
        </p:spPr>
      </p:pic>
      <p:pic>
        <p:nvPicPr>
          <p:cNvPr id="115" name="Содержимое 6" descr="1070398.jpg"/>
          <p:cNvPicPr/>
          <p:nvPr/>
        </p:nvPicPr>
        <p:blipFill>
          <a:blip r:embed="rId2"/>
          <a:stretch/>
        </p:blipFill>
        <p:spPr>
          <a:xfrm>
            <a:off x="5759280" y="1052640"/>
            <a:ext cx="3384720" cy="27082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8" descr="53055221_podrostki.gif"/>
          <p:cNvPicPr/>
          <p:nvPr/>
        </p:nvPicPr>
        <p:blipFill>
          <a:blip r:embed="rId3"/>
          <a:stretch/>
        </p:blipFill>
        <p:spPr>
          <a:xfrm>
            <a:off x="0" y="3686040"/>
            <a:ext cx="3635280" cy="31719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9" descr="boys.jpg"/>
          <p:cNvPicPr/>
          <p:nvPr/>
        </p:nvPicPr>
        <p:blipFill>
          <a:blip r:embed="rId4"/>
          <a:stretch/>
        </p:blipFill>
        <p:spPr>
          <a:xfrm>
            <a:off x="4788000" y="3724200"/>
            <a:ext cx="4356000" cy="3133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http://www.canoandes.com/images/8pro2_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32000" y="1052640"/>
            <a:ext cx="4392360" cy="2635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ttp://im0-tub-ru.yandex.net/i?id=614353710-26-72&amp;n=21"/>
          <p:cNvPicPr/>
          <p:nvPr/>
        </p:nvPicPr>
        <p:blipFill>
          <a:blip r:embed="rId7"/>
          <a:stretch/>
        </p:blipFill>
        <p:spPr>
          <a:xfrm>
            <a:off x="0" y="1089000"/>
            <a:ext cx="341964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 «Основы светской этики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85840" y="785520"/>
            <a:ext cx="85723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ссия – наша Роди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льтура и мораль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ка и ее значение в жизни челов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 и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исток нравственных отношений в истории человечества. Ценность родства и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ейные ценности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ейные праздники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одна из форм исторической памя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цы нравственности в культурах разных народ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равственный образец богатыр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ы мора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рянский кодекс че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жентльмен и леди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ударство и мораль граждани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цы нравственности в культуре Отече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аль защитника Отече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http://wiki.iteach.ru/images/5/53/Exar354%d1%88yurmple.jpg"/>
          <p:cNvPicPr/>
          <p:nvPr/>
        </p:nvPicPr>
        <p:blipFill>
          <a:blip r:embed="rId1"/>
          <a:stretch/>
        </p:blipFill>
        <p:spPr>
          <a:xfrm>
            <a:off x="6643800" y="3830760"/>
            <a:ext cx="22906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 «Основы светской этики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к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кетная сторона костю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кольная форма – за и проти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ние как нравственная нор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к – то, что он из себя сдела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нравственного самосовершенств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овь и уважение к Отечеств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риотизм многонационального многоконфессионального народа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http://wiki.iteach.ru/images/5/53/Exar354%d1%88yurmple.jpg"/>
          <p:cNvPicPr/>
          <p:nvPr/>
        </p:nvPicPr>
        <p:blipFill>
          <a:blip r:embed="rId1"/>
          <a:stretch/>
        </p:blipFill>
        <p:spPr>
          <a:xfrm>
            <a:off x="6516720" y="981000"/>
            <a:ext cx="24224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ы исламской культ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33560" y="1143000"/>
            <a:ext cx="5111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ое пособие знакомит школьников с основами духовно-нравственной культуры ислама. Учащиеся узнают о жизни пророка Мухаммада, об истории появления, основах ислама и исламской этики, об обязанностях мусульман. Обращаясь к Корану и Сунне, авторы подчёркивают значение этих книг как источников нравственности. Особое место в пособии уделено жизни мусульман в современной Росс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Рисунок 11" descr="Описание: http://www.prosv.ru/Attachment.aspx?Id=9181"/>
          <p:cNvPicPr/>
          <p:nvPr/>
        </p:nvPicPr>
        <p:blipFill>
          <a:blip r:embed="rId1"/>
          <a:stretch/>
        </p:blipFill>
        <p:spPr>
          <a:xfrm>
            <a:off x="801720" y="3024360"/>
            <a:ext cx="27432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«Основы исламской культуры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14200" y="857160"/>
            <a:ext cx="8715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ссия – наша Роди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ведение в исламскую духовную традиц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льтура и религия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рок Мухаммад – образец человека и учитель нравственности. Жизнеописание Пророка Мухамма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поведническая миссия Пророка Мухамма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красные качества Пророка Мухамма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ященный Коран и Сунна как источники нравствен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принципы ислама и исламской эт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пы ислама и исламской эт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нение мусульманами своих обязанно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язанности мусульма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чего построена и как устроена мече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28" descr="81761030"/>
          <p:cNvPicPr/>
          <p:nvPr/>
        </p:nvPicPr>
        <p:blipFill>
          <a:blip r:embed="rId1"/>
          <a:stretch/>
        </p:blipFill>
        <p:spPr>
          <a:xfrm>
            <a:off x="6572160" y="3571920"/>
            <a:ext cx="2289240" cy="3071880"/>
          </a:xfrm>
          <a:prstGeom prst="rect">
            <a:avLst/>
          </a:prstGeom>
          <a:ln w="15840">
            <a:solidFill>
              <a:srgbClr val="2fbb2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584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«Основы исламской культуры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13840" y="571320"/>
            <a:ext cx="87505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сульманское летоисчисление и календарь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лам в России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я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исламе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равственные основы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и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исламе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равственные ценности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лама: сотворение добра, отношение к старшим, дружба, гостеприимство, любовь к отечеству, миролюбие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ота о здоровье в культуре ислама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ность образования и польза учения в исламе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здники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сламских народов России: 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х происхождение и особенности проведения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кусство ислам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овь и уважение к Отечеству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риотизм многонационального и многоконфессионального народа России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628" descr="81761030"/>
          <p:cNvPicPr/>
          <p:nvPr/>
        </p:nvPicPr>
        <p:blipFill>
          <a:blip r:embed="rId1"/>
          <a:stretch/>
        </p:blipFill>
        <p:spPr>
          <a:xfrm>
            <a:off x="6572160" y="3500280"/>
            <a:ext cx="2143080" cy="2876760"/>
          </a:xfrm>
          <a:prstGeom prst="rect">
            <a:avLst/>
          </a:prstGeom>
          <a:ln w="15840">
            <a:solidFill>
              <a:srgbClr val="2fbb2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ы буддийской культ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505320" y="1904760"/>
            <a:ext cx="5340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ое пособие в доступной для учащихся 4-х классов форме знакомит с основами буддийской культуры: ее основателем, буддийским учением, нравственными ценностями, священными книгами, ритуалами, святынями, праздниками, искусств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Рисунок 17" descr="Описание: http://www.prosv.ru/Attachment.aspx?Id=9180"/>
          <p:cNvPicPr/>
          <p:nvPr/>
        </p:nvPicPr>
        <p:blipFill>
          <a:blip r:embed="rId1"/>
          <a:stretch/>
        </p:blipFill>
        <p:spPr>
          <a:xfrm>
            <a:off x="304920" y="2133720"/>
            <a:ext cx="27432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«Основы буддийской культуры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8000" y="1197000"/>
            <a:ext cx="849636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ссия – наша Родина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ение в буддийскую духовную традицию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льтура и религия.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да и его Учен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дийский священный канон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дийская картина мир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о и зло.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насилие и доброт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овь к человеку и ценность жизн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лосердие и сострадан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ношение к природ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дийские святы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д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http://gdanovskii.ucoz.ru/novyj_risunok-3.png"/>
          <p:cNvPicPr/>
          <p:nvPr/>
        </p:nvPicPr>
        <p:blipFill>
          <a:blip r:embed="rId1"/>
          <a:stretch/>
        </p:blipFill>
        <p:spPr>
          <a:xfrm>
            <a:off x="5940360" y="1916280"/>
            <a:ext cx="285768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«Основы буддийской культуры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5480" y="85680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буддийской культуре и ее цен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дизм в Росс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ы буддийского Учения и эти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к в буддийской картине ми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дийские символ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дийский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рам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дийские святы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дийский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лендарь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здник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уддийской культу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кусство в буддийской культу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ященные буддийские сооруж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дийские риту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овь и уважение к Отечеств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риотизм многонационального и многоконфессионального народа Росс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http://gdanovskii.ucoz.ru/novyj_risunok-3.png"/>
          <p:cNvPicPr/>
          <p:nvPr/>
        </p:nvPicPr>
        <p:blipFill>
          <a:blip r:embed="rId1"/>
          <a:stretch/>
        </p:blipFill>
        <p:spPr>
          <a:xfrm>
            <a:off x="5786280" y="1357200"/>
            <a:ext cx="28465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ы иудейской культ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9880" y="1904760"/>
            <a:ext cx="503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ик знакомит с основами иудейской культуры и раскрывает её значение в формировании личности иудея и его поведении в повседневной жизни, а также её влияние на историю еврейского народа и мировые религии  - христианство и ислам, показывает жизнь евреев в Росс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Рисунок 15" descr="Описание: http://www.prosv.ru/Attachment.aspx?Id=9185"/>
          <p:cNvPicPr/>
          <p:nvPr/>
        </p:nvPicPr>
        <p:blipFill>
          <a:blip r:embed="rId1"/>
          <a:stretch/>
        </p:blipFill>
        <p:spPr>
          <a:xfrm>
            <a:off x="304920" y="1981080"/>
            <a:ext cx="291780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«Основы иудейской культуры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560" y="765000"/>
            <a:ext cx="8569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ссия – наша Роди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ведение в иудейскую духовную традиц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льтура и религия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а – главная книга иудаизм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ность То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Золотое правило Гилеля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сьменная и Устная То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ческие тексты иудаизм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риархи еврейского нар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реи в Египте: от Йосефа до Мош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ход из Егип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ение Торы на горе Сина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роки и праведники в иудейской культу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рам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жизни иудее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начение синагоги и ее устрой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бота (Шабат) в иудейской тради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http://gdanovskii.ucoz.ru/novyj_risunok-2.png"/>
          <p:cNvPicPr/>
          <p:nvPr/>
        </p:nvPicPr>
        <p:blipFill>
          <a:blip r:embed="rId1"/>
          <a:stretch/>
        </p:blipFill>
        <p:spPr>
          <a:xfrm>
            <a:off x="5867280" y="1844640"/>
            <a:ext cx="27338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ормативно-правовая основ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313080" cy="2471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3313080" cy="23180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3780000" y="1052640"/>
            <a:ext cx="511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ституция Российской Федерации, законы Российской Федерации «Об образовании», «Об основных гарантиях прав ребенка в Российской Федерации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деральный закон «О свободе совести и религиозных объединениях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учение Президента Российской Федерации от 02 августа 2009г.        № Пр – 2009, Распоряжение Председателя Правительства Российской Федерации  от        11 августа 2009 г. (ВП-П44-463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«Основы иудейской культуры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92844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ботний ритуал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итвы и благословения в иудаизме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о и зло.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удаизм в Росси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принципы иудаизма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лосердие, забота о слабых, взаимопомощь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диции иудаизма в повседневной жизни евреев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ршеннолетие в иудаизме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ственное принятие заповедей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рейский дом – еврейский мир: знакомство с историей и традицией. Знакомство с еврейским </a:t>
            </a: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лендарем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о устройство и особенности. Еврейские </a:t>
            </a: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здники: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х история и традиции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нности семейной жизни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иудейской традиции. </a:t>
            </a: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овь и уважение к Отечеству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риотизм многонационального и многоконфессионального народа России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http://gdanovskii.ucoz.ru/novyj_risunok-2.png"/>
          <p:cNvPicPr/>
          <p:nvPr/>
        </p:nvPicPr>
        <p:blipFill>
          <a:blip r:embed="rId1"/>
          <a:stretch/>
        </p:blipFill>
        <p:spPr>
          <a:xfrm>
            <a:off x="6429240" y="857160"/>
            <a:ext cx="2433600" cy="3143520"/>
          </a:xfrm>
          <a:prstGeom prst="rect">
            <a:avLst/>
          </a:prstGeom>
          <a:ln w="0">
            <a:noFill/>
          </a:ln>
        </p:spPr>
      </p:pic>
      <p:sp>
        <p:nvSpPr>
          <p:cNvPr id="205" name="Горизонтальный свиток 4"/>
          <p:cNvSpPr/>
          <p:nvPr/>
        </p:nvSpPr>
        <p:spPr>
          <a:xfrm>
            <a:off x="7924680" y="6248520"/>
            <a:ext cx="838440" cy="3808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следние нормативные документ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2915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 исполнение распоряжения Правительства Российской Федерации от 28.01.2012 № 84-р утверждены  приказы Минобрнауки Росс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31.01.2012 № 69 «О внесении изменений в федеральный компонент государственных образовательных стандартов начального общего, основного общего и среднего (полного) общего  образования, утвержденный приказом Министерства образования Российской Федерации от 5 марта 2004 № 1089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01.02.2012 № 174 «О внесении изменений в 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, утвержденные приказом Министерства образования и науки Российской Федерации от 09.03.2004 № 1312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 соответствии с вышеуказанными приказами учебный предмет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«Основы религиозных культур и светской этики»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 1 сентября 2012/13 учебного год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ключен в обязательную часть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образовательной программы 4 классов начальной школы в объеме 34 час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4688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Назначение предмет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5480" y="11253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чь ребенку в решении его личностных, возрастных, образовательных проблем, создать условия для его духовно-нравственного развит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ние ребенка в соответствии с потребностями, традициями и приоритетами его семь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http://megastena.kz/uploads/posts/1348632941_cult.jpg"/>
          <p:cNvPicPr/>
          <p:nvPr/>
        </p:nvPicPr>
        <p:blipFill>
          <a:blip r:embed="rId1"/>
          <a:stretch/>
        </p:blipFill>
        <p:spPr>
          <a:xfrm>
            <a:off x="2571840" y="3929040"/>
            <a:ext cx="55656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50920" y="333000"/>
            <a:ext cx="84470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Цель предмет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ОРКСЭ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ормирование у младшего подростка мотивации к осознанному нравственному поведению, основанному на знании и уважении культурных и религиозных традиций многонационального народа России, а также к диалогу с представителями других культур и мировоззр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http://megastena.kz/uploads/posts/1348632941_cult.jpg"/>
          <p:cNvPicPr/>
          <p:nvPr/>
        </p:nvPicPr>
        <p:blipFill>
          <a:blip r:embed="rId1"/>
          <a:stretch/>
        </p:blipFill>
        <p:spPr>
          <a:xfrm>
            <a:off x="2660760" y="3929040"/>
            <a:ext cx="5416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Задачи учебного курса ОРКСЭ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комство обучающихся с основами православной, мусульманской, буддийской, иудейской культур, основами мировых религиозных культур и светской этик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представлений младшего подростка о значении нравственных норм и ценностей для достойной жизни личности, семьи, обще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бщение знаний, понятий и представлений о духовной культуре и морали, полученных обучающимися в начальной школе, и формирование у них ценностно-смысловых мировоззренческих основ, обеспечивающих целостное восприятие отечественной истории и культуры при изучении гуманитарных предметов на ступени основной шко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способностей младших школьников к общению в полиэтнической и многоконфессиональной среде на основе взаимного уважения и диалога во имя общественного мира и соглас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0726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труктура курса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«Основы религиозных культур и светской этики»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Содержимое 3" descr=""/>
          <p:cNvPicPr/>
          <p:nvPr/>
        </p:nvPicPr>
        <p:blipFill>
          <a:blip r:embed="rId1"/>
          <a:stretch/>
        </p:blipFill>
        <p:spPr>
          <a:xfrm>
            <a:off x="208080" y="1468440"/>
            <a:ext cx="8381880" cy="43099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357120" y="578628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ый курс ОРКСЭ -  единая комплексная учебно-воспитательная 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комплексного учебного курс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15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4 класс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34 час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.ws</cp:lastModifiedBy>
  <dcterms:modified xsi:type="dcterms:W3CDTF">2013-04-05T16:14:5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