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746-60C0-4007-AE95-E0FA48DF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7AFF-3B04-440D-A138-4FC57EE4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EE3-C21A-4AA7-A8C2-D0F449D7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84F-33CC-4463-9C40-766CC7BB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523-36E8-4E01-8727-87B7D555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10C-0F80-43CD-B4CE-5430F2E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B08-75A9-4D28-97F7-45A0365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845-F0ED-4251-9BA2-C35C71C4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6B20-7E22-4392-BE94-F5F6E1B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619-585A-419E-9675-888C535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E60-0EF7-4BC7-81FB-A30A2B2C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AE4-4A75-4643-9900-EC74802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550-DE2B-43E1-AEB5-AEB8FCE3D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002060"/>
                </a:solidFill>
                <a:latin typeface="Calibri"/>
              </a:rPr>
              <a:t>Как запомнить, чтобы вспомнить?</a:t>
            </a:r>
            <a:br>
              <a:rPr sz="4000"/>
            </a:b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c66ff"/>
                </a:solidFill>
                <a:latin typeface="Calibri"/>
              </a:rPr>
              <a:t>Память можно и нужно </a:t>
            </a:r>
            <a:br>
              <a:rPr sz="4000"/>
            </a:br>
            <a:r>
              <a:rPr b="1" i="1" lang="ru-RU" sz="4000" spc="-1" strike="noStrike">
                <a:solidFill>
                  <a:srgbClr val="cc66ff"/>
                </a:solidFill>
                <a:latin typeface="Calibri"/>
              </a:rPr>
              <a:t>развива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Основу памяти составляет генетически обусловленная способность запечетлевать информацию. Такую память называют природ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(или механической, непосредственно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аждый ребенок, какими бы слабыми природными способностями он ни обладал, может усовершенствовать свою память за счет разнообразных приемов запоминания, способов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Культурную память можно развивать в течение всей жизни, используя различные способы запоми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7030a0"/>
                </a:solidFill>
                <a:uFillTx/>
                <a:latin typeface="Calibri"/>
              </a:rPr>
              <a:t>Способы помощи ребенк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Нарушения памяти выявляет психолог. У психолога нужно выяснить, какой вид памяти у ребенка </a:t>
            </a:r>
            <a:r>
              <a:rPr b="1" i="1" lang="ru-RU" sz="2700" spc="-1" strike="noStrike" u="sng">
                <a:solidFill>
                  <a:srgbClr val="00b050"/>
                </a:solidFill>
                <a:uFillTx/>
                <a:latin typeface="Calibri"/>
              </a:rPr>
              <a:t>является наиболее сохранны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Если неплохо развита </a:t>
            </a:r>
            <a:r>
              <a:rPr b="1" i="1" lang="ru-RU" sz="2700" spc="-1" strike="noStrike">
                <a:solidFill>
                  <a:srgbClr val="215968"/>
                </a:solidFill>
                <a:latin typeface="Calibri"/>
              </a:rPr>
              <a:t>слуховая память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то нужно, чтобы ребенок 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читал вслух сам (или читать ему) материал, подлежащий запоминан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Если более всего развита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зрительная память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, то нужно максимально использовать разнообразные средства нагляд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При преобладании </a:t>
            </a:r>
            <a:r>
              <a:rPr b="1" i="1" lang="ru-RU" sz="2700" spc="-1" strike="noStrike">
                <a:solidFill>
                  <a:srgbClr val="002060"/>
                </a:solidFill>
                <a:latin typeface="Calibri"/>
              </a:rPr>
              <a:t>двигательной памяти</a:t>
            </a:r>
            <a:r>
              <a:rPr b="1" i="1" lang="ru-RU" sz="2700" spc="-1" strike="noStrike">
                <a:solidFill>
                  <a:srgbClr val="00b050"/>
                </a:solidFill>
                <a:latin typeface="Calibri"/>
              </a:rPr>
              <a:t> следует рекомендовать ребенку кратко записывать материал, который нужно запомни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При нарушениях памяти нужно добиваться от ребенка не дословного запоминания учебного материала, а его общего поним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 тех же случаях, когда требуется дословное заучивание, нужно проводить его маленькими порц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лгоритм запоминания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78588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1.      Уверенность в себе, своих способностях (Если верить в себя и свои способности, то обязательно добьешься успеха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2.      Подготовка к запоминанию (…сначала задать себе вопросы: “Зачем? Для чего мне запоминать материал?”. А потом представлять сложные ситуации, в которых  материал ему понадобится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3.      Интеллектуальная работа с материалом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929a4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929a4"/>
                </a:solidFill>
                <a:latin typeface="Calibri"/>
              </a:rPr>
              <a:t>Повторение</a:t>
            </a:r>
            <a:r>
              <a:rPr b="0" lang="ru-RU" sz="2800" spc="-1" strike="noStrike">
                <a:solidFill>
                  <a:srgbClr val="e929a4"/>
                </a:solidFill>
                <a:latin typeface="Calibri"/>
              </a:rPr>
              <a:t> (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Осмысленное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, 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методично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е и </a:t>
            </a:r>
            <a:r>
              <a:rPr b="1" lang="ru-RU" sz="2400" spc="-1" strike="noStrike">
                <a:solidFill>
                  <a:srgbClr val="e929a4"/>
                </a:solidFill>
                <a:latin typeface="Calibri"/>
              </a:rPr>
              <a:t>постепенное</a:t>
            </a:r>
            <a:r>
              <a:rPr b="0" lang="ru-RU" sz="2400" spc="-1" strike="noStrike">
                <a:solidFill>
                  <a:srgbClr val="e929a4"/>
                </a:solidFill>
                <a:latin typeface="Calibri"/>
              </a:rPr>
              <a:t> 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особы развития памяти с помощью мнемических прием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Группировка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Изучаемый материал делится на части или группы. Нагрузка на память уменьшается ровно во столько раз, на сколько частей или классов был разделен подлежащий запоминанию матери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ссоциа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Полезно учить ребенка образно представлять себе то, что требуется запомнить, привлекать самые разнообразные ассоци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Схематический образ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Ребенок для запоминания фразы или слова делает какой-нибудь как можно более простой и схематичный рису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Опорные пунк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В качестве опоры могут выступать даты, необычные словосочетания, незнакомые или очень знакомые слова, неожиданный поворот событий, метафоры, имена и др. Опорные пункты составляют своего рода план для припоминания, или мнемический пл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Структурирование</a:t>
            </a:r>
            <a:r>
              <a:rPr b="1" i="1" lang="ru-RU" sz="2400" spc="-1" strike="noStrike" u="sng">
                <a:solidFill>
                  <a:srgbClr val="00b050"/>
                </a:solidFill>
                <a:uFillTx/>
                <a:latin typeface="Calibri"/>
              </a:rPr>
              <a:t> </a:t>
            </a:r>
            <a:r>
              <a:rPr b="1" i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матери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При структурировании материала устанавливаются связи, отношения внутри запоминаемого материала, благодаря чему он начинает воспри­ниматься как цел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040"/>
                </a:solidFill>
                <a:latin typeface="Calibri"/>
              </a:rPr>
              <a:t>Что же ускоряет процесс забывания? И как нам этого избежа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3300"/>
                </a:solidFill>
                <a:latin typeface="Calibri"/>
              </a:rPr>
              <a:t>  </a:t>
            </a:r>
            <a:r>
              <a:rPr b="0" lang="ru-RU" sz="2700" spc="-1" strike="noStrike" u="sng">
                <a:solidFill>
                  <a:srgbClr val="cc3300"/>
                </a:solidFill>
                <a:uFillTx/>
                <a:latin typeface="Calibri"/>
              </a:rPr>
              <a:t>Процесс забывания ускоряют следующие факторы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1)      недостаточное понимание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2)      большой объем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3)      трудность усвоения материал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4)      деятельность после заучи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5)      возраст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6)      различные болезни нервной систем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7)      сильные психические и физические травм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8)      умственное или физическое утомление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e46c0a"/>
                </a:solidFill>
                <a:latin typeface="Calibri"/>
              </a:rPr>
              <a:t>9)      действие посторонних раздражителей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-21420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0504d"/>
                </a:solidFill>
                <a:latin typeface="Calibri"/>
              </a:rPr>
              <a:t>Забывание</a:t>
            </a:r>
            <a:r>
              <a:rPr b="1" i="1" lang="ru-RU" sz="4400" spc="-1" strike="noStrike">
                <a:solidFill>
                  <a:srgbClr val="441c28"/>
                </a:solidFill>
                <a:latin typeface="Calibri"/>
              </a:rPr>
              <a:t> 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13880" y="900000"/>
            <a:ext cx="80010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полезное свойство памяти, если только знать его закономерности и сознательно управлять этим процессом. Забывание – один из компонентов хорошо работающей памяти, направленных на освобождение сознания от перегрузок впечатлениями прошлого для приема и ввода в память новой информации. При этом, конечно, </a:t>
            </a:r>
            <a:r>
              <a:rPr b="1" i="1" lang="ru-RU" sz="2500" spc="-1" strike="noStrike">
                <a:solidFill>
                  <a:srgbClr val="404040"/>
                </a:solidFill>
                <a:latin typeface="Calibri"/>
              </a:rPr>
              <a:t>важно так забыть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, чтобы можно было вспомнить, то есть при активном забывании в памяти должен обязательно остаться способ доступа, </a:t>
            </a:r>
            <a:r>
              <a:rPr b="1" i="1" lang="ru-RU" sz="2500" spc="-1" strike="noStrike">
                <a:solidFill>
                  <a:srgbClr val="404040"/>
                </a:solidFill>
                <a:latin typeface="Calibri"/>
              </a:rPr>
              <a:t>“ключ” </a:t>
            </a: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к информации, отправляемой на временное хране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7:51:06Z</dcterms:created>
  <dc:creator>учитель</dc:creator>
  <dc:description/>
  <dc:language>en-US</dc:language>
  <cp:lastModifiedBy>учитель</cp:lastModifiedBy>
  <dcterms:modified xsi:type="dcterms:W3CDTF">2013-03-28T07:02:53Z</dcterms:modified>
  <cp:revision>13</cp:revision>
  <dc:subject/>
  <dc:title>Память.  Развитие памяти.</dc:title>
</cp:coreProperties>
</file>