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CA8-B64E-4A18-8CE1-A2A7DAF5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1868-779C-40BD-B89E-96C8C4DD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876-3871-47AC-BD7B-FEB46864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B1D-13F0-48B6-A416-5E9320D5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E67-2D03-49EC-8212-EED06605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28E-1F89-42BC-B7F5-3FCB3650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7E5-9354-4941-BF07-336523BB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3A3-3B36-4B4D-AB3F-584082A0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664-EA38-4E98-8F33-AC3207CF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7A65-7777-480C-9BDE-F7A108F8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D64-6CA3-433C-8F8E-0F18A3E1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900-1AAE-41E6-A9AA-F7BB17C2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76EF-FB54-4146-B369-1900E7AEC2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002060"/>
                </a:solidFill>
                <a:latin typeface="Calibri"/>
              </a:rPr>
              <a:t>Как запомнить, чтобы вспомнить?</a:t>
            </a:r>
            <a:br>
              <a:rPr sz="4000"/>
            </a:b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2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c66ff"/>
                </a:solidFill>
                <a:latin typeface="Calibri"/>
              </a:rPr>
              <a:t>Память можно и нужно </a:t>
            </a:r>
            <a:br>
              <a:rPr sz="4000"/>
            </a:br>
            <a:r>
              <a:rPr b="1" i="1" lang="ru-RU" sz="4000" spc="-1" strike="noStrike">
                <a:solidFill>
                  <a:srgbClr val="cc66ff"/>
                </a:solidFill>
                <a:latin typeface="Calibri"/>
              </a:rPr>
              <a:t>развива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Основу памяти составляет генетически обусловленная способность запечетлевать информацию. Такую память называют природ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(или механической, непосредственно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Каждый ребенок, какими бы слабыми природными способностями он ни обладал, может усовершенствовать свою память за счет разнообразных приемов запоминания, способов обработки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Культурную память можно развивать в течение всей жизни, используя различные способы запомин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Способы помощи ребенк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b050"/>
                </a:solidFill>
                <a:latin typeface="Calibri"/>
              </a:rPr>
              <a:t>Нарушения памяти выявляет психолог. У психолога нужно выяснить, какой вид памяти у ребенка </a:t>
            </a:r>
            <a:r>
              <a:rPr b="1" i="1" lang="ru-RU" sz="2700" spc="-1" strike="noStrike" u="sng">
                <a:solidFill>
                  <a:srgbClr val="00b050"/>
                </a:solidFill>
                <a:uFillTx/>
                <a:latin typeface="Calibri"/>
              </a:rPr>
              <a:t>является наиболее сохранны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Calibri"/>
              </a:rPr>
              <a:t>Если неплохо развита </a:t>
            </a: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слуховая память</a:t>
            </a:r>
            <a:r>
              <a:rPr b="1" i="1" lang="ru-RU" sz="2700" spc="-1" strike="noStrike">
                <a:solidFill>
                  <a:srgbClr val="00b050"/>
                </a:solidFill>
                <a:latin typeface="Calibri"/>
              </a:rPr>
              <a:t>, </a:t>
            </a:r>
            <a:r>
              <a:rPr b="1" lang="ru-RU" sz="2700" spc="-1" strike="noStrike">
                <a:solidFill>
                  <a:srgbClr val="00b050"/>
                </a:solidFill>
                <a:latin typeface="Calibri"/>
              </a:rPr>
              <a:t>то нужно, чтобы ребенок </a:t>
            </a:r>
            <a:r>
              <a:rPr b="1" i="1" lang="ru-RU" sz="2700" spc="-1" strike="noStrike">
                <a:solidFill>
                  <a:srgbClr val="00b050"/>
                </a:solidFill>
                <a:latin typeface="Calibri"/>
              </a:rPr>
              <a:t>читал вслух сам (или читать ему) материал, подлежащий запоминанию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b050"/>
                </a:solidFill>
                <a:latin typeface="Calibri"/>
              </a:rPr>
              <a:t>Если более всего развита </a:t>
            </a:r>
            <a:r>
              <a:rPr b="1" i="1" lang="ru-RU" sz="2700" spc="-1" strike="noStrike">
                <a:solidFill>
                  <a:srgbClr val="002060"/>
                </a:solidFill>
                <a:latin typeface="Calibri"/>
              </a:rPr>
              <a:t>зрительная память</a:t>
            </a:r>
            <a:r>
              <a:rPr b="1" i="1" lang="ru-RU" sz="2700" spc="-1" strike="noStrike">
                <a:solidFill>
                  <a:srgbClr val="00b050"/>
                </a:solidFill>
                <a:latin typeface="Calibri"/>
              </a:rPr>
              <a:t>, то нужно максимально использовать разнообразные средства нагляд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b050"/>
                </a:solidFill>
                <a:latin typeface="Calibri"/>
              </a:rPr>
              <a:t>При преобладании </a:t>
            </a:r>
            <a:r>
              <a:rPr b="1" i="1" lang="ru-RU" sz="2700" spc="-1" strike="noStrike">
                <a:solidFill>
                  <a:srgbClr val="002060"/>
                </a:solidFill>
                <a:latin typeface="Calibri"/>
              </a:rPr>
              <a:t>двигательной памяти</a:t>
            </a:r>
            <a:r>
              <a:rPr b="1" i="1" lang="ru-RU" sz="2700" spc="-1" strike="noStrike">
                <a:solidFill>
                  <a:srgbClr val="00b050"/>
                </a:solidFill>
                <a:latin typeface="Calibri"/>
              </a:rPr>
              <a:t> следует рекомендовать ребенку кратко записывать материал, который нужно запомни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При нарушениях памяти нужно добиваться от ребенка не дословного запоминания учебного материала, а его общего поним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В тех же случаях, когда требуется дословное заучивание, нужно проводить его маленькими порц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лгоритм запомина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760" y="785880"/>
            <a:ext cx="85010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929a4"/>
                </a:solidFill>
                <a:latin typeface="Calibri"/>
              </a:rPr>
              <a:t> </a:t>
            </a:r>
            <a:r>
              <a:rPr b="1" i="1" lang="ru-RU" sz="2800" spc="-1" strike="noStrike">
                <a:solidFill>
                  <a:srgbClr val="e929a4"/>
                </a:solidFill>
                <a:latin typeface="Calibri"/>
              </a:rPr>
              <a:t>1.      Уверенность в себе, своих способностях (Если верить в себя и свои способности, то обязательно добьешься успех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929a4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929a4"/>
                </a:solidFill>
                <a:latin typeface="Calibri"/>
              </a:rPr>
              <a:t>2.      Подготовка к запоминанию (…сначала задать себе вопросы: “Зачем? Для чего мне запоминать материал?”. А потом представлять сложные ситуации, в которых  материал ему понадобится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929a4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929a4"/>
                </a:solidFill>
                <a:latin typeface="Calibri"/>
              </a:rPr>
              <a:t>3.      Интеллектуальная работа с материалом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929a4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929a4"/>
                </a:solidFill>
                <a:latin typeface="Calibri"/>
              </a:rPr>
              <a:t>Повторение</a:t>
            </a:r>
            <a:r>
              <a:rPr b="0" lang="ru-RU" sz="2800" spc="-1" strike="noStrike">
                <a:solidFill>
                  <a:srgbClr val="e929a4"/>
                </a:solidFill>
                <a:latin typeface="Calibri"/>
              </a:rPr>
              <a:t> (</a:t>
            </a:r>
            <a:r>
              <a:rPr b="1" lang="ru-RU" sz="2400" spc="-1" strike="noStrike">
                <a:solidFill>
                  <a:srgbClr val="e929a4"/>
                </a:solidFill>
                <a:latin typeface="Calibri"/>
              </a:rPr>
              <a:t>Осмысленное</a:t>
            </a:r>
            <a:r>
              <a:rPr b="0" lang="ru-RU" sz="2400" spc="-1" strike="noStrike">
                <a:solidFill>
                  <a:srgbClr val="e929a4"/>
                </a:solidFill>
                <a:latin typeface="Calibri"/>
              </a:rPr>
              <a:t>, </a:t>
            </a:r>
            <a:r>
              <a:rPr b="1" lang="ru-RU" sz="2400" spc="-1" strike="noStrike">
                <a:solidFill>
                  <a:srgbClr val="e929a4"/>
                </a:solidFill>
                <a:latin typeface="Calibri"/>
              </a:rPr>
              <a:t>методично</a:t>
            </a:r>
            <a:r>
              <a:rPr b="0" lang="ru-RU" sz="2400" spc="-1" strike="noStrike">
                <a:solidFill>
                  <a:srgbClr val="e929a4"/>
                </a:solidFill>
                <a:latin typeface="Calibri"/>
              </a:rPr>
              <a:t>е и </a:t>
            </a:r>
            <a:r>
              <a:rPr b="1" lang="ru-RU" sz="2400" spc="-1" strike="noStrike">
                <a:solidFill>
                  <a:srgbClr val="e929a4"/>
                </a:solidFill>
                <a:latin typeface="Calibri"/>
              </a:rPr>
              <a:t>постепенное</a:t>
            </a:r>
            <a:r>
              <a:rPr b="0" lang="ru-RU" sz="2400" spc="-1" strike="noStrike">
                <a:solidFill>
                  <a:srgbClr val="e929a4"/>
                </a:solidFill>
                <a:latin typeface="Calibri"/>
              </a:rPr>
              <a:t> 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особы развития памяти с помощью мнемических прием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руппировка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атериа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Изучаемый материал делится на части или группы. Нагрузка на память уменьшается ровно во столько раз, на сколько частей или классов был разделен подлежащий запоминанию матери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ссоци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Полезно учить ребенка образно представлять себе то, что требуется запомнить, привлекать самые разнообразные ассоци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7142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Схематический образ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Ребенок для запоминания фразы или слова делает какой-нибудь как можно более простой и схематичный рисун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Опорные пунк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В качестве опоры могут выступать даты, необычные словосочетания, незнакомые или очень знакомые слова, неожиданный поворот событий, метафоры, имена и др. Опорные пункты составляют своего рода план для припоминания, или мнемический пл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Структурирование</a:t>
            </a: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Calibri"/>
              </a:rPr>
              <a:t>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материа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При структурировании материала устанавливаются связи, отношения внутри запоминаемого материала, благодаря чему он начинает воспри­ниматься как цел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Calibri"/>
              </a:rPr>
              <a:t>Что же ускоряет процесс забывания? И как нам этого избежа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c3300"/>
                </a:solidFill>
                <a:latin typeface="Calibri"/>
              </a:rPr>
              <a:t>  </a:t>
            </a:r>
            <a:r>
              <a:rPr b="0" lang="ru-RU" sz="2700" spc="-1" strike="noStrike" u="sng">
                <a:solidFill>
                  <a:srgbClr val="cc3300"/>
                </a:solidFill>
                <a:uFillTx/>
                <a:latin typeface="Calibri"/>
              </a:rPr>
              <a:t>Процесс забывания ускоряют следующие факторы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1)      недостаточное понимание материал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2)      большой объем материал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3)      трудность усвоения материал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4)      деятельность после заучива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5)      возраст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6)      различные болезни нервной систем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7)      сильные психические и физические травм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8)      умственное или физическое утомление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9)      действие посторонних раздражителей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-21420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c0504d"/>
                </a:solidFill>
                <a:latin typeface="Calibri"/>
              </a:rPr>
              <a:t>Забывание</a:t>
            </a:r>
            <a:r>
              <a:rPr b="1" i="1" lang="ru-RU" sz="4400" spc="-1" strike="noStrike">
                <a:solidFill>
                  <a:srgbClr val="441c28"/>
                </a:solidFill>
                <a:latin typeface="Calibri"/>
              </a:rPr>
              <a:t> 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13880" y="900000"/>
            <a:ext cx="80010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полезное свойство памяти, если только знать его закономерности и сознательно управлять этим процессом. Забывание – один из компонентов хорошо работающей памяти, направленных на освобождение сознания от перегрузок впечатлениями прошлого для приема и ввода в память новой информации. При этом, конечно, </a:t>
            </a:r>
            <a:r>
              <a:rPr b="1" i="1" lang="ru-RU" sz="2500" spc="-1" strike="noStrike">
                <a:solidFill>
                  <a:srgbClr val="404040"/>
                </a:solidFill>
                <a:latin typeface="Calibri"/>
              </a:rPr>
              <a:t>важно так забыть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, чтобы можно было вспомнить, то есть при активном забывании в памяти должен обязательно остаться способ доступа, </a:t>
            </a:r>
            <a:r>
              <a:rPr b="1" i="1" lang="ru-RU" sz="2500" spc="-1" strike="noStrike">
                <a:solidFill>
                  <a:srgbClr val="404040"/>
                </a:solidFill>
                <a:latin typeface="Calibri"/>
              </a:rPr>
              <a:t>“ключ”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к информации, отправляемой на временное хране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07:51:06Z</dcterms:created>
  <dc:creator>учитель</dc:creator>
  <dc:description/>
  <dc:language>en-US</dc:language>
  <cp:lastModifiedBy>учитель</cp:lastModifiedBy>
  <dcterms:modified xsi:type="dcterms:W3CDTF">2013-03-28T07:02:53Z</dcterms:modified>
  <cp:revision>13</cp:revision>
  <dc:subject/>
  <dc:title>Память.  Развитие памяти.</dc:title>
</cp:coreProperties>
</file>