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3CC4B-E168-4D82-BC51-5812BF035F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F461D-9B0B-4A08-B47C-A8CF345B39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5FC2D-5E27-456D-A347-B6F49ACC6C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C71E7-F601-4498-9FE3-39907D201C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204-B9B2-40A5-961D-4F28F32D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1B7-45C2-4195-B703-F4C4F6FE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466-7F3E-48B4-9AAA-B8D63616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C6C-0529-45AE-A321-913F41F5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E01-AD88-4141-A3D0-1E7A36D4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A15-DF76-46FD-A543-FB304300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389-F7DF-47C4-A087-DD393BDA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11A-2A34-41BC-B2A0-EB0FBE08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2DD-78BC-4E91-870C-6B4BAD65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56B3-1047-4351-B39C-A86B8BE1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0C6-EC52-4BB1-AD89-104B5155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B47-6130-4650-8FA1-60BB9953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D7037-67F2-4AF9-B3C7-727802B3A8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584360" y="1403280"/>
            <a:ext cx="93600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ff0000"/>
                </a:solidFill>
                <a:latin typeface="Arial"/>
              </a:rPr>
              <a:t>Ы ы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376360" y="1763640"/>
            <a:ext cx="770436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0070c0"/>
                </a:solidFill>
                <a:latin typeface="Arial"/>
              </a:rPr>
              <a:t>Л л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303640" y="1187280"/>
            <a:ext cx="525780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5000" spc="-1" strike="noStrike">
                <a:solidFill>
                  <a:srgbClr val="0070c0"/>
                </a:solidFill>
                <a:latin typeface="Arial"/>
              </a:rPr>
              <a:t>н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368360" y="1835280"/>
            <a:ext cx="8352000" cy="10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5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К к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016000" y="1835280"/>
            <a:ext cx="572796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3333cc"/>
                </a:solidFill>
                <a:latin typeface="Arial"/>
              </a:rPr>
              <a:t>Т т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079640" y="1619280"/>
            <a:ext cx="72482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ff0000"/>
                </a:solidFill>
                <a:latin typeface="Arial"/>
              </a:rPr>
              <a:t>И и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584360" y="1835280"/>
            <a:ext cx="79740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002060"/>
                </a:solidFill>
                <a:latin typeface="Arial"/>
              </a:rPr>
              <a:t>П п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808360" y="1908000"/>
            <a:ext cx="61340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3333cc"/>
                </a:solidFill>
                <a:latin typeface="Arial"/>
              </a:rPr>
              <a:t>З з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3816360" y="1547640"/>
            <a:ext cx="294948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3333cc"/>
                </a:solidFill>
                <a:latin typeface="Arial"/>
              </a:rPr>
              <a:t>Й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376360" y="1619280"/>
            <a:ext cx="568656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3333cc"/>
                </a:solidFill>
                <a:latin typeface="Arial"/>
              </a:rPr>
              <a:t>Г г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295280" y="1116000"/>
            <a:ext cx="741708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0" spc="-1" strike="noStrike">
                <a:solidFill>
                  <a:srgbClr val="ff0000"/>
                </a:solidFill>
                <a:latin typeface="Arial"/>
              </a:rPr>
              <a:t>А а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376360" y="1547640"/>
            <a:ext cx="83520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3333cc"/>
                </a:solidFill>
                <a:latin typeface="Arial"/>
              </a:rPr>
              <a:t>В в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2735280" y="1692360"/>
            <a:ext cx="60991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0" spc="-1" strike="noStrike">
                <a:solidFill>
                  <a:srgbClr val="2d2db9"/>
                </a:solidFill>
                <a:latin typeface="Arial"/>
              </a:rPr>
              <a:t>Б б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863640" y="1258920"/>
            <a:ext cx="387504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а-т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у-с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ан-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ал-к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904000" y="1187280"/>
            <a:ext cx="4110120" cy="41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о-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о-б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о-ри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бо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944720" y="1835280"/>
            <a:ext cx="482436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гри-б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у-б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ры-б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зу-б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2448000" y="1187280"/>
            <a:ext cx="18241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т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т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ту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6192720" y="1116000"/>
            <a:ext cx="17575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368360" y="1042920"/>
            <a:ext cx="3384720" cy="68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з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5904000" y="1042920"/>
            <a:ext cx="187308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3095640" y="971640"/>
            <a:ext cx="288144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2318760" y="2195640"/>
            <a:ext cx="190908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а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С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809360" y="2050920"/>
            <a:ext cx="1783800" cy="51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664000" y="1187280"/>
            <a:ext cx="395892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ра-на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л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Гла-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160720" y="1835280"/>
            <a:ext cx="670068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ff0000"/>
                </a:solidFill>
                <a:latin typeface="Arial"/>
              </a:rPr>
              <a:t>У у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792000" y="1979640"/>
            <a:ext cx="1087920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У Га-ли  гу-с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О-ни на лу-г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Там мно-го кор-м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0" y="1187280"/>
            <a:ext cx="1159344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-кой шар крас-ный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-кой шар си-ний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-кой миш-ка тол-стый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а-кой лис-тик ши-ро-кий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295280" y="1979640"/>
            <a:ext cx="878868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аш во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а-ша ко-ро-в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Ва-ши во-л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955440" y="1908000"/>
            <a:ext cx="355032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-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о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У нас сы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719280" y="2627280"/>
            <a:ext cx="78501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936720" y="1908000"/>
            <a:ext cx="669600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А-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2087640" y="971640"/>
            <a:ext cx="704196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А-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Ы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О-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У Ро-мы ша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У ма-мы му-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727280" y="2987640"/>
            <a:ext cx="72374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а-ша  ма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Лу-ша ма-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а-ма уш-л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944720" y="1692360"/>
            <a:ext cx="77184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У ма-мы мы-ло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о-ма мыл ра-му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ыл хо-ро-шо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626920" y="2340000"/>
            <a:ext cx="72126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арш хо-рош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Са-ша хо-рош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Ма-ша  хо-ро-ш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Шар хо-ро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295280" y="1547640"/>
            <a:ext cx="691380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-ла мы-ла мис-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ма-мы  Ни-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-ма мыл ру-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295280" y="1258920"/>
            <a:ext cx="840276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ff0000"/>
                </a:solidFill>
                <a:latin typeface="Arial"/>
              </a:rPr>
              <a:t>О о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440000" y="2452680"/>
            <a:ext cx="663228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сост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42 МО Абинский район Краснодарский кр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Ахты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стрыгина Виктория Игор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2448000" y="1474920"/>
            <a:ext cx="7170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0070c0"/>
                </a:solidFill>
                <a:latin typeface="Arial"/>
              </a:rPr>
              <a:t>Мм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368360" y="2050920"/>
            <a:ext cx="8259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0070c0"/>
                </a:solidFill>
                <a:latin typeface="Arial"/>
              </a:rPr>
              <a:t>С с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3384720" y="1979640"/>
            <a:ext cx="467352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0070c0"/>
                </a:solidFill>
                <a:latin typeface="Arial"/>
              </a:rPr>
              <a:t>Хх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655640" y="1692360"/>
            <a:ext cx="768852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0" spc="-1" strike="noStrike">
                <a:solidFill>
                  <a:srgbClr val="0070c0"/>
                </a:solidFill>
                <a:latin typeface="Arial"/>
              </a:rPr>
              <a:t>Р р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440000" y="2050920"/>
            <a:ext cx="103424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0" spc="-1" strike="noStrike">
                <a:solidFill>
                  <a:srgbClr val="0070c0"/>
                </a:solidFill>
                <a:latin typeface="Arial"/>
              </a:rPr>
              <a:t>Ш ш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1:24:28Z</dcterms:created>
  <dc:creator/>
  <dc:description/>
  <dc:language>en-US</dc:language>
  <cp:lastModifiedBy>Vika</cp:lastModifiedBy>
  <dcterms:modified xsi:type="dcterms:W3CDTF">2013-04-06T07:07:27Z</dcterms:modified>
  <cp:revision>11</cp:revision>
  <dc:subject/>
  <dc:title>Слайд 1</dc:title>
</cp:coreProperties>
</file>