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B135B-4192-4677-AE03-20F7AD6645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7B760-4ED8-4B52-A261-9BAF7E5E59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3D48E-8965-4B17-88FA-C423AFD48C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DD6B-A7EF-47C0-88AC-FB3B8004B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08A-7F0B-45AC-804D-5769AD5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A78-A165-44F8-846B-8B0C0664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DFA-AACE-41E4-A7AB-C5CD01C6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651-EF0B-4628-8E47-47676E5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AA0-3C96-4CAE-9D67-53E577E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E4A-8C56-4595-A0AD-BA3652A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B19-9EC7-4560-A8BA-E4FE7048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B69-53A7-43B4-A04A-D5B05575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8B5-1A4F-424E-8C8A-EC02D94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977-31F1-45CA-82BF-1A41A60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08-0541-419A-A5DE-8493AAA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013-F372-4C77-AD9B-AAB22AD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C94BC-7D89-4B91-ADE7-D07534950A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584360" y="1403280"/>
            <a:ext cx="9360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Arial"/>
              </a:rPr>
              <a:t>Ы ы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376360" y="1763640"/>
            <a:ext cx="77043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Л л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303640" y="1187280"/>
            <a:ext cx="525780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68360" y="1835280"/>
            <a:ext cx="8352000" cy="10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 к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016000" y="1835280"/>
            <a:ext cx="57279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Т т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079640" y="1619280"/>
            <a:ext cx="72482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Arial"/>
              </a:rPr>
              <a:t>И и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584360" y="1835280"/>
            <a:ext cx="7974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2060"/>
                </a:solidFill>
                <a:latin typeface="Arial"/>
              </a:rPr>
              <a:t>П 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808360" y="1908000"/>
            <a:ext cx="61340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З з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816360" y="1547640"/>
            <a:ext cx="29494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Й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376360" y="1619280"/>
            <a:ext cx="56865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Г г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95280" y="1116000"/>
            <a:ext cx="74170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А а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76360" y="1547640"/>
            <a:ext cx="8352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В в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735280" y="1692360"/>
            <a:ext cx="60991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0" spc="-1" strike="noStrike">
                <a:solidFill>
                  <a:srgbClr val="2d2db9"/>
                </a:solidFill>
                <a:latin typeface="Arial"/>
              </a:rPr>
              <a:t>Б б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63640" y="1258920"/>
            <a:ext cx="38750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-т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у-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н-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л-к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04000" y="1187280"/>
            <a:ext cx="41101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б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ри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944720" y="1835280"/>
            <a:ext cx="482436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гри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у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ы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у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448000" y="1187280"/>
            <a:ext cx="18241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у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192720" y="1116000"/>
            <a:ext cx="1757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68360" y="1042920"/>
            <a:ext cx="3384720" cy="68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5904000" y="1042920"/>
            <a:ext cx="18730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095640" y="971640"/>
            <a:ext cx="288144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318760" y="2195640"/>
            <a:ext cx="1909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809360" y="2050920"/>
            <a:ext cx="178380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664000" y="1187280"/>
            <a:ext cx="39589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ра-н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ла-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160720" y="1835280"/>
            <a:ext cx="6700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У у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92000" y="1979640"/>
            <a:ext cx="108792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Га-ли  гу-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-ни на лу-г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ам мно-го кор-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1187280"/>
            <a:ext cx="1159344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шар крас-ны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шар си-ни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миш-ка тол-сты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лис-тик ши-ро-ки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295280" y="1979640"/>
            <a:ext cx="87886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ш во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-ша ко-ро-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-ши во-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55440" y="1908000"/>
            <a:ext cx="35503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-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 нас сы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719280" y="2627280"/>
            <a:ext cx="78501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36720" y="1908000"/>
            <a:ext cx="669600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-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087640" y="971640"/>
            <a:ext cx="70419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Ы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О-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Ро-мы ша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ма-мы му-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727280" y="2987640"/>
            <a:ext cx="72374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а-ша  м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Лу-ша ма-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ма уш-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944720" y="1692360"/>
            <a:ext cx="77184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ма-мы мы-л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о-ма мыл ра-м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ыл хо-ро-ш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626920" y="2340000"/>
            <a:ext cx="7212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рш хо-рош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а-ша хо-рош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ша  хо-ро-ш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ар хо-ро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295280" y="1547640"/>
            <a:ext cx="69138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-ла мы-ла мис-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ма-мы  Ни-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-ма мыл ру-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95280" y="1258920"/>
            <a:ext cx="84027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О о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40000" y="2452680"/>
            <a:ext cx="663228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сост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42 МО Абинский район Краснодарский кр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Ахты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трыгина Виктория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448000" y="1474920"/>
            <a:ext cx="7170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Мм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68360" y="2050920"/>
            <a:ext cx="8259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С 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384720" y="1979640"/>
            <a:ext cx="46735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Хх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655640" y="1692360"/>
            <a:ext cx="76885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Р р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40000" y="2050920"/>
            <a:ext cx="103424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Ш ш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24:28Z</dcterms:created>
  <dc:creator/>
  <dc:description/>
  <dc:language>en-US</dc:language>
  <cp:lastModifiedBy>Vika</cp:lastModifiedBy>
  <dcterms:modified xsi:type="dcterms:W3CDTF">2013-04-06T07:07:27Z</dcterms:modified>
  <cp:revision>11</cp:revision>
  <dc:subject/>
  <dc:title>Слайд 1</dc:title>
</cp:coreProperties>
</file>