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CB2-FC5C-42CC-A8D0-24151553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5BE-E34B-4AB5-A0FA-A8282100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574-0711-4814-BE29-F89E935F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74E-2CD4-40A0-8CE0-E3AADF20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6B6E-07EB-4425-9A21-C157C920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2F13-90DA-4A97-90F3-912AD480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848A-5017-4EF7-AB85-07F7D82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0011-80D8-4821-9FA1-0A4F07D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DA77-A895-4EBF-825E-0EF99CDE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477D-690C-4CC8-84C6-F04CF4E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2EAE-23F2-4515-80EC-6186897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1D9-9DBC-4F6E-A5C2-86328C7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54AC-7EC4-4122-BADF-71DB4AE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90C5-0C37-4FC3-82E6-4E0481D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544-7561-4B5D-9D6E-70A7C886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6886-3858-4181-94B6-3E557393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A0F3-B39E-4787-A9A9-8AD44674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981-F2F0-44F5-9EF8-A724A18A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3D1-B1C2-4428-8439-AAC9EF5F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0F5-91CC-4517-8C8E-FC2559D6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79B-C300-4620-9D78-F10F2CED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6FB-7967-4473-B362-1CCEA81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76F-FB59-4EC3-98B2-1C2E4053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358-CCA0-4244-BA14-ACA7DDDD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FE40-6C62-4A16-8C60-EC970DAC8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77ED-5E36-4A53-8968-147BC5F7C8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8080" y="762120"/>
            <a:ext cx="5562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Загадочные животны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pic>
        <p:nvPicPr>
          <p:cNvPr id="85" name="000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307476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533520"/>
            <a:ext cx="6248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иамские кошки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Облежу%20тебя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81280" y="1905120"/>
            <a:ext cx="4496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роисходят из Сиама (Таиланда), гд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издавна считались королевск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Шерсть короткая,тонкая,блестяща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равномерно окрашенна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ильно привязываются к хозяину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любят принимать участие во всем, ч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роисходит в доме, требу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остоянного внимания и испытыв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ревность, если внимание обращено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на ни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14400" y="304920"/>
            <a:ext cx="6477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100000">
                      <a:srgbClr val="00ff00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сидские кошки</a:t>
            </a:r>
            <a:endParaRPr b="0" lang="en-US" sz="2400" spc="1" strike="noStrike">
              <a:ln w="1260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collage0601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38480" cy="4305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1752480"/>
            <a:ext cx="3962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Times New Roman"/>
              </a:rPr>
              <a:t>Первоначально они назывались ангорскими – по имени столицы Турции Анкары, откуда были родом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57200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733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1240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Times New Roman"/>
              </a:rPr>
              <a:t>Главная особенность персидских кошек – длинная, густая и шелковистая шерсть, образующая вокруг плеч и груди роскошный воротн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257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121360"/>
            <a:ext cx="3276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33cc33"/>
                </a:solidFill>
                <a:latin typeface="Times New Roman"/>
              </a:rPr>
              <a:t>Персы» - популярная порода среди кошек благодаря своему спокойному и сдержанному нраву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457200"/>
            <a:ext cx="56390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Турецкие кошки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дят из местности вокруг озера Ван в Тур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Кисонька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43400" y="32418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рсть длинная, мягкая и шелковистая,с густым подшерстком. Окрас цвета белой извести, без желтиз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53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кошка любит подолгу пла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523880" y="6094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вас старалась</a:t>
            </a:r>
            <a:endParaRPr b="0" lang="en-US" sz="24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175e1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3352680"/>
            <a:ext cx="327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100000">
                      <a:srgbClr val="33cc33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Евгения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2514600"/>
            <a:ext cx="4496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100000">
                      <a:srgbClr val="33cc33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исаренко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676520"/>
            <a:ext cx="60195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100000">
                      <a:srgbClr val="33cc33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любительница кошек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IMG0069A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201132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971800"/>
            <a:ext cx="1295280" cy="144792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70280 h 1447920"/>
              <a:gd name="textAreaBottom" fmla="*/ 908280 h 1447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724280"/>
            <a:ext cx="1295640" cy="1447920"/>
          </a:xfrm>
          <a:custGeom>
            <a:avLst/>
            <a:gdLst>
              <a:gd name="textAreaLeft" fmla="*/ 304560 w 1295640"/>
              <a:gd name="textAreaRight" fmla="*/ 990360 w 1295640"/>
              <a:gd name="textAreaTop" fmla="*/ 170280 h 1447920"/>
              <a:gd name="textAreaBottom" fmla="*/ 908280 h 1447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2590920"/>
            <a:ext cx="1295280" cy="144756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69920 h 1447560"/>
              <a:gd name="textAreaBottom" fmla="*/ 907920 h 1447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3962520"/>
            <a:ext cx="3276720" cy="2895480"/>
          </a:xfrm>
          <a:prstGeom prst="irregularSeal2">
            <a:avLst/>
          </a:prstGeom>
          <a:gradFill rotWithShape="0">
            <a:gsLst>
              <a:gs pos="0">
                <a:srgbClr val="009900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УСК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БРАМУШКИН</cp:lastModifiedBy>
  <dcterms:modified xsi:type="dcterms:W3CDTF">2008-10-08T05:19:55Z</dcterms:modified>
  <cp:revision>5</cp:revision>
  <dc:subject/>
  <dc:title>Презентация PowerPoint</dc:title>
</cp:coreProperties>
</file>