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3BDF-ACA9-4A36-8021-B1481BE1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8F4A-4B4A-43FB-9606-063D3059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ABC6-18FC-47B9-B266-56A41A8F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B189-6C36-43B1-BB49-C645F472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8A30-04EF-49EC-AAC5-D9891480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5154-732D-4E99-8A51-9D67EC7F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C87F-F677-4DCE-9428-EA3C37CB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C8DA-0BC8-48DC-A23D-B7A622D4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EEC1-E745-4A01-9798-A6987282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BC85-EAA5-47CF-A42B-132648CE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6D7C-F44E-41E4-B94B-9D9131E4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8C9A-3071-4E93-9620-DE743AF3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7260-B980-4B42-91E4-0840AE36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BE2E-2FF5-4E5B-BF9C-A68D8332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CBEA-9991-4E44-BB5E-B293246E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6A9E-4254-4BC9-B7BE-AB35FA35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1E54-3EB8-48EE-AD46-A43B2188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8091-1E34-4DC6-920E-EDA585C3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F7AB-A917-4ED4-9FD5-1A683FBE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C0FA-50E0-4ACB-84AA-51078FD1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B2BE-3F24-4D7A-9F96-42203DA2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F30F-477B-4DCB-93A9-45F2C5C8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D7D1-9272-4536-857A-BADC8EAE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9C1F-B503-496E-AE81-B3DD132F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9231-153C-4D87-BC41-5AB19AF514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BD98-FC1C-45B1-8AD7-CB48301FB2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838080" y="762120"/>
            <a:ext cx="55627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Загадочные животные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pic>
        <p:nvPicPr>
          <p:cNvPr id="85" name="000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307476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533520"/>
            <a:ext cx="6248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Сиамские кошки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7" name="Облежу%20тебя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35268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581280" y="1905120"/>
            <a:ext cx="4496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Происходят из Сиама (Таиланда), гд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издавна считались королевски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Шерсть короткая,тонкая,блестящая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равномерно окрашенна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Сильно привязываются к хозяину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любят принимать участие во всем, чт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происходит в доме, требу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постоянного внимания и испытыв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ревность, если внимание обращено н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на ни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14400" y="304920"/>
            <a:ext cx="6477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ffcc"/>
                  </a:solidFill>
                  <a:miter/>
                </a:ln>
                <a:gradFill rotWithShape="0">
                  <a:gsLst>
                    <a:gs pos="0">
                      <a:srgbClr val="007500"/>
                    </a:gs>
                    <a:gs pos="100000">
                      <a:srgbClr val="00ff00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рсидские кошки</a:t>
            </a:r>
            <a:endParaRPr b="0" lang="en-US" sz="2400" spc="1" strike="noStrike">
              <a:ln w="12600">
                <a:solidFill>
                  <a:srgbClr val="ccffcc"/>
                </a:solidFill>
                <a:miter/>
              </a:ln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lin ang="135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collage0601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038480" cy="4305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495680" y="1752480"/>
            <a:ext cx="39625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Times New Roman"/>
              </a:rPr>
              <a:t>Первоначально они назывались ангорскими – по имени столицы Турции Анкары, откуда были родом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457200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3733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12408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Times New Roman"/>
              </a:rPr>
              <a:t>Главная особенность персидских кошек – длинная, густая и шелковистая шерсть, образующая вокруг плеч и груди роскошный воротни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52578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5121360"/>
            <a:ext cx="32767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33cc33"/>
                </a:solidFill>
                <a:latin typeface="Times New Roman"/>
              </a:rPr>
              <a:t>Персы» - популярная порода среди кошек благодаря своему спокойному и сдержанному нраву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23880" y="457200"/>
            <a:ext cx="5639040" cy="12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Турецкие кошки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205740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сходят из местности вокруг озера Ван в Тур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Кисонька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038480" cy="4191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343400" y="324180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ерсть длинная, мягкая и шелковистая,с густым подшерстком. Окрас цвета белой извести, без желтиз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53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 кошка любит подолгу плав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523880" y="609480"/>
            <a:ext cx="5029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33cc33"/>
                    </a:gs>
                    <a:gs pos="100000">
                      <a:srgbClr val="175e17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вас старалась</a:t>
            </a:r>
            <a:endParaRPr b="0" lang="en-US" sz="2400" spc="1" strike="noStrike">
              <a:ln w="1260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33cc33"/>
                  </a:gs>
                  <a:gs pos="100000">
                    <a:srgbClr val="175e17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057400" y="3352680"/>
            <a:ext cx="3276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175e17"/>
                    </a:gs>
                    <a:gs pos="100000">
                      <a:srgbClr val="33cc33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Евгения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175e17"/>
                  </a:gs>
                  <a:gs pos="100000">
                    <a:srgbClr val="33cc33"/>
                  </a:gs>
                </a:gsLst>
                <a:lin ang="108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52480" y="2514600"/>
            <a:ext cx="449604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175e17"/>
                    </a:gs>
                    <a:gs pos="100000">
                      <a:srgbClr val="33cc33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Писаренко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175e17"/>
                  </a:gs>
                  <a:gs pos="100000">
                    <a:srgbClr val="33cc33"/>
                  </a:gs>
                </a:gsLst>
                <a:lin ang="108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90720" y="1676520"/>
            <a:ext cx="601956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175e17"/>
                    </a:gs>
                    <a:gs pos="100000">
                      <a:srgbClr val="33cc33"/>
                    </a:gs>
                  </a:gsLst>
                  <a:lin ang="108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любительница кошек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175e17"/>
                  </a:gs>
                  <a:gs pos="100000">
                    <a:srgbClr val="33cc33"/>
                  </a:gs>
                </a:gsLst>
                <a:lin ang="108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6" name="IMG0069A" descr=""/>
          <p:cNvPicPr/>
          <p:nvPr/>
        </p:nvPicPr>
        <p:blipFill>
          <a:blip r:embed="rId1"/>
          <a:stretch/>
        </p:blipFill>
        <p:spPr>
          <a:xfrm>
            <a:off x="2819520" y="4038480"/>
            <a:ext cx="2011320" cy="2514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2971800"/>
            <a:ext cx="1295280" cy="1447920"/>
          </a:xfrm>
          <a:custGeom>
            <a:avLst/>
            <a:gdLst>
              <a:gd name="textAreaLeft" fmla="*/ 304200 w 1295280"/>
              <a:gd name="textAreaRight" fmla="*/ 990000 w 1295280"/>
              <a:gd name="textAreaTop" fmla="*/ 170280 h 1447920"/>
              <a:gd name="textAreaBottom" fmla="*/ 908280 h 1447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66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4724280"/>
            <a:ext cx="1295640" cy="1447920"/>
          </a:xfrm>
          <a:custGeom>
            <a:avLst/>
            <a:gdLst>
              <a:gd name="textAreaLeft" fmla="*/ 304560 w 1295640"/>
              <a:gd name="textAreaRight" fmla="*/ 990360 w 1295640"/>
              <a:gd name="textAreaTop" fmla="*/ 170280 h 1447920"/>
              <a:gd name="textAreaBottom" fmla="*/ 908280 h 1447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66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2590920"/>
            <a:ext cx="1295280" cy="1447560"/>
          </a:xfrm>
          <a:custGeom>
            <a:avLst/>
            <a:gdLst>
              <a:gd name="textAreaLeft" fmla="*/ 304200 w 1295280"/>
              <a:gd name="textAreaRight" fmla="*/ 990000 w 1295280"/>
              <a:gd name="textAreaTop" fmla="*/ 169920 h 1447560"/>
              <a:gd name="textAreaBottom" fmla="*/ 907920 h 1447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66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3962520"/>
            <a:ext cx="3276720" cy="2895480"/>
          </a:xfrm>
          <a:prstGeom prst="irregularSeal2">
            <a:avLst/>
          </a:prstGeom>
          <a:gradFill rotWithShape="0">
            <a:gsLst>
              <a:gs pos="0">
                <a:srgbClr val="009900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УСК-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БРАМУШКИН</cp:lastModifiedBy>
  <dcterms:modified xsi:type="dcterms:W3CDTF">2008-10-08T05:19:55Z</dcterms:modified>
  <cp:revision>5</cp:revision>
  <dc:subject/>
  <dc:title>Презентация PowerPoint</dc:title>
</cp:coreProperties>
</file>