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31.wmf" ContentType="image/x-wmf"/>
  <Override PartName="/ppt/media/image3.png" ContentType="image/png"/>
  <Override PartName="/ppt/media/image26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1457000"/>
            <a:ext cx="360" cy="243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D77-B780-4D45-A5F7-B163D6BF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6C8-5027-432B-8C63-56DFABF2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03E-136C-4F6B-B304-461816D16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69F-269F-4BD9-AA8F-3A19FF7B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1B3-A36E-4C24-A8F8-6B2C3AD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53F-145E-4EA4-AA9B-6BF868FE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828-C28B-461C-B1EA-03392670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778-37F0-4428-BD07-1162B3E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6AC-C03C-48C4-A4C0-98A611B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1539-B48C-4258-BF0B-4B9FFFFB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6B7-AB7B-44B8-BEAB-51A7B065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AEA-1B90-46C1-971E-CA6A9F2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D4A38F-0B3A-43AB-9997-326FDFFBC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egodnya.ua:8080/img/forall/a/8297/72.jpg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medarticle.moslek.ru/images/40308.jpg" TargetMode="External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8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"/>
          <p:cNvSpPr txBox="1"/>
          <p:nvPr/>
        </p:nvSpPr>
        <p:spPr>
          <a:xfrm>
            <a:off x="684360" y="404640"/>
            <a:ext cx="8064360" cy="20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6000"/>
                  </a:srgbClr>
                </a:solidFill>
                <a:latin typeface="Times New Roman"/>
              </a:rPr>
              <a:t>СИММЕТ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468360" y="5229360"/>
            <a:ext cx="806436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ВОКРУГ Н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46"/>
            </a:gs>
            <a:gs pos="50000">
              <a:srgbClr val="99ff99"/>
            </a:gs>
            <a:gs pos="100000">
              <a:srgbClr val="46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1"/>
          <p:cNvSpPr txBox="1"/>
          <p:nvPr/>
        </p:nvSpPr>
        <p:spPr>
          <a:xfrm>
            <a:off x="684360" y="549360"/>
            <a:ext cx="77054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ММЕТРИЯ В ПРИРО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2883240" cy="30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2919240" cy="305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1332000" y="1052640"/>
            <a:ext cx="65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Симметрия, или соразмерность частей целого организма, имеет непосредственное отношение к характеру приспособленности животных к условиям существован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4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869160" cy="3489120"/>
          </a:xfrm>
          <a:prstGeom prst="rect">
            <a:avLst/>
          </a:prstGeom>
          <a:ln w="0">
            <a:noFill/>
          </a:ln>
        </p:spPr>
      </p:pic>
      <p:sp>
        <p:nvSpPr>
          <p:cNvPr id="81" name="WordArt 2"/>
          <p:cNvSpPr txBox="1"/>
          <p:nvPr/>
        </p:nvSpPr>
        <p:spPr>
          <a:xfrm>
            <a:off x="611280" y="333360"/>
            <a:ext cx="792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826920" y="5661000"/>
            <a:ext cx="741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архитекту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Издавна человек использовал симметрию в архитектуре. Древним храмам, башням средневековых замков, современным зданиям она придает гармоничность, законченность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076720" y="3009960"/>
            <a:ext cx="3390840" cy="384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3384360" cy="3860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 advTm="7000">
    <p:push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340000" y="2421000"/>
            <a:ext cx="4248000" cy="3833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2"/>
          <p:cNvSpPr txBox="1"/>
          <p:nvPr/>
        </p:nvSpPr>
        <p:spPr>
          <a:xfrm>
            <a:off x="324000" y="333360"/>
            <a:ext cx="864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В ХИМ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4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Структура молекулы имеет симметричное строение. Молекулы ДНК имеют структуру двойной спирали, которая построена по принципу комплементар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3500280"/>
            <a:ext cx="4514760" cy="2981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0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3500280"/>
            <a:ext cx="2745000" cy="29530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spd="slow" advTm="7000">
    <p:diamond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СИММЕТРИЯ В ФИЗИ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211640" y="1916280"/>
            <a:ext cx="39276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аждая снежинка – это маленький кристалл замерзшей воды. Форма снежинок может быть очень разнообразной, но все они обладают симметри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396252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advTm="3000">
    <p:checke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                   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БОРДЮ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Орнаменты в виде лент (БОРДЮРЫ) применяют маляры и художники при оформлении комнат, з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2"/>
          <p:cNvSpPr txBox="1"/>
          <p:nvPr/>
        </p:nvSpPr>
        <p:spPr>
          <a:xfrm>
            <a:off x="611280" y="189000"/>
            <a:ext cx="79930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В БЫТ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2735280" cy="70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6948360" y="3284640"/>
            <a:ext cx="1943280" cy="35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635280" y="4005360"/>
            <a:ext cx="2735280" cy="707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2124000" y="5445000"/>
            <a:ext cx="2737080" cy="863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340000" y="1268280"/>
            <a:ext cx="4168800" cy="4753080"/>
          </a:xfrm>
          <a:prstGeom prst="rect">
            <a:avLst/>
          </a:prstGeom>
          <a:ln w="0">
            <a:noFill/>
          </a:ln>
        </p:spPr>
      </p:pic>
      <p:sp>
        <p:nvSpPr>
          <p:cNvPr id="48" name="WordArt 2"/>
          <p:cNvSpPr txBox="1"/>
          <p:nvPr/>
        </p:nvSpPr>
        <p:spPr>
          <a:xfrm>
            <a:off x="1116000" y="40464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М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116000" y="5805360"/>
            <a:ext cx="7201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ГЕОМЕТ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10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99ff"/>
            </a:gs>
            <a:gs pos="100000">
              <a:srgbClr val="cc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1"/>
          <p:cNvSpPr txBox="1"/>
          <p:nvPr/>
        </p:nvSpPr>
        <p:spPr>
          <a:xfrm>
            <a:off x="1979640" y="292428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д презентацией работа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3" name="WordArt 2"/>
          <p:cNvSpPr txBox="1"/>
          <p:nvPr/>
        </p:nvSpPr>
        <p:spPr>
          <a:xfrm>
            <a:off x="7812000" y="2997360"/>
            <a:ext cx="1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827640" y="5805360"/>
            <a:ext cx="36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ЙКО Надежда Владими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2736720" cy="2282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756000" y="621180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отдельных предме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2"/>
          <a:stretch/>
        </p:blipFill>
        <p:spPr>
          <a:xfrm>
            <a:off x="6480000" y="5040360"/>
            <a:ext cx="2684520" cy="1835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blinds dir="vert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В древности слово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«симметрия»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 употреблялось как «гармония», «красота». Действительно, по-гречески оно означает «соразмерность, пропорциональность, одинаковость в расположении част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51280" y="4724280"/>
            <a:ext cx="4889520" cy="138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2636640"/>
            <a:ext cx="7797600" cy="4198680"/>
          </a:xfrm>
          <a:prstGeom prst="rect">
            <a:avLst/>
          </a:prstGeom>
          <a:solidFill>
            <a:srgbClr val="c0c0c0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lackadder ITC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Blackadder ITC"/>
              </a:rPr>
              <a:t>Движение плоскости - это отображение плоскости на себя, сохраняющее расстояния.  Осевая и центральная симметрия представляют собой отображение плоскости на себя, которое сохраняет расстояния между точками.</a:t>
            </a:r>
            <a:r>
              <a:rPr b="0" lang="en-GB" sz="28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896840" cy="2303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2340000" y="260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выявляет порядок, симметрию, и определенность, а это – важнейшие виды прекрас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796000" y="162864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075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Д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точки А и А1 называются симметричными относительно прямой а, если эта прямая проходит через середину отрезка АА1 и перпендикулярна к нему. Каждая точка прямой а считается  симметричной самой себе.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2"/>
          <p:cNvSpPr txBox="1"/>
          <p:nvPr/>
        </p:nvSpPr>
        <p:spPr>
          <a:xfrm>
            <a:off x="539640" y="260280"/>
            <a:ext cx="80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вая 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859280" y="4941720"/>
            <a:ext cx="3168720" cy="15829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Определение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Фигура называется симметричной относительно прямой а, если для каждой точки фигуры симметричная ей точка относительно прямой а также принадлежит этой фигуре. Прямая а называется осью симметрии фигуры. Говорят также, что фигура обладает осевой симметр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5158080"/>
            <a:ext cx="4105080" cy="916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У 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неразвёрнутого угла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одна ось симметрии - прямая, на которой расположена биссектриса угла.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364000" y="4718160"/>
            <a:ext cx="3237120" cy="18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5000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8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050920" y="692280"/>
            <a:ext cx="48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Равнобедренный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но не равносторонний) треугольник имеет также одну ось симметрии. а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равносторонний треугольник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- три основные симметри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1795320" cy="431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338200" cy="2338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 advTm="15000">
    <p:cover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03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04" dur="1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85952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Определение. 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Две точки А и А1 называются симметричными относительно точки О, если О - середина отрезка АА1. Точка О считается симметричной самой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"/>
          <p:cNvSpPr txBox="1"/>
          <p:nvPr/>
        </p:nvSpPr>
        <p:spPr>
          <a:xfrm>
            <a:off x="324000" y="18900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НТРАЛЬНАЯ СИММЕТРИ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3995640" y="5157720"/>
            <a:ext cx="4896000" cy="131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slow" advTm="15000">
    <p:circl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"/>
          <p:cNvSpPr txBox="1"/>
          <p:nvPr/>
        </p:nvSpPr>
        <p:spPr>
          <a:xfrm>
            <a:off x="324000" y="260280"/>
            <a:ext cx="8353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ММЕТРИЯ ГРАФИК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1908360" cy="2287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362320" cy="27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348000" y="1989000"/>
            <a:ext cx="1982880" cy="3024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БОУ СОШ №</cp:lastModifiedBy>
  <dcterms:modified xsi:type="dcterms:W3CDTF">2013-04-07T17:55:17Z</dcterms:modified>
  <cp:revision>3</cp:revision>
  <dc:subject/>
  <dc:title>Слайд 1</dc:title>
</cp:coreProperties>
</file>