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31.wmf" ContentType="image/x-wmf"/>
  <Override PartName="/ppt/media/image3.png" ContentType="image/png"/>
  <Override PartName="/ppt/media/image26.png" ContentType="image/png"/>
  <Override PartName="/ppt/media/image11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0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1.png" ContentType="image/pn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6B7-4EA3-4000-A980-336B18B7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C78F-6CB0-432C-ACE9-701DAE80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C79-ADBC-45F2-87E4-E9D6A337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EF0C-BC9E-406F-90AD-8F0535F3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E219-A2D6-4A33-850E-5D8B8086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280-2245-44B7-8EB9-652A4155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B55-DF76-4620-8F71-3279B2E7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A59A-6C5A-4966-8A3C-B7CDD709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493-634E-4BCE-8D16-F5422ADA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2E5-835F-4E11-B663-CAC2D46D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E5E-7A2F-47B3-BCA0-F6D38DB7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67B-9BA2-4D1F-AB36-6F62DB7B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6BC3A8-E79F-4E0D-BEA6-B1BEB3BB9E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segodnya.ua:8080/img/forall/a/8297/72.jpg" TargetMode="External"/><Relationship Id="rId3" Type="http://schemas.openxmlformats.org/officeDocument/2006/relationships/image" Target="../media/image23.jpeg"/><Relationship Id="rId4" Type="http://schemas.openxmlformats.org/officeDocument/2006/relationships/hyperlink" Target="http://medarticle.moslek.ru/images/40308.jpg" TargetMode="External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28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1"/>
          <p:cNvSpPr txBox="1"/>
          <p:nvPr/>
        </p:nvSpPr>
        <p:spPr>
          <a:xfrm>
            <a:off x="684360" y="404640"/>
            <a:ext cx="8064360" cy="207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96000"/>
                  </a:srgbClr>
                </a:solidFill>
                <a:latin typeface="Times New Roman"/>
              </a:rPr>
              <a:t>СИММЕТ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96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46" name="WordArt 3"/>
          <p:cNvSpPr txBox="1"/>
          <p:nvPr/>
        </p:nvSpPr>
        <p:spPr>
          <a:xfrm>
            <a:off x="468360" y="5229360"/>
            <a:ext cx="8064360" cy="13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ОКРУГ Н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slow" advTm="7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46"/>
            </a:gs>
            <a:gs pos="50000">
              <a:srgbClr val="99ff99"/>
            </a:gs>
            <a:gs pos="100000">
              <a:srgbClr val="46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1"/>
          <p:cNvSpPr txBox="1"/>
          <p:nvPr/>
        </p:nvSpPr>
        <p:spPr>
          <a:xfrm>
            <a:off x="684360" y="549360"/>
            <a:ext cx="77054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8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ИММЕТРИЯ В ПРИРОД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826920" y="3357720"/>
            <a:ext cx="2883240" cy="302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5508720" y="3357720"/>
            <a:ext cx="2919240" cy="305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4"/>
          <p:cNvSpPr/>
          <p:nvPr/>
        </p:nvSpPr>
        <p:spPr>
          <a:xfrm>
            <a:off x="1332000" y="1052640"/>
            <a:ext cx="655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Симметрия, или соразмерность частей целого организма, имеет непосредственное отношение к характеру приспособленности животных к условиям существован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4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869160" cy="3489120"/>
          </a:xfrm>
          <a:prstGeom prst="rect">
            <a:avLst/>
          </a:prstGeom>
          <a:ln w="0">
            <a:noFill/>
          </a:ln>
        </p:spPr>
      </p:pic>
      <p:sp>
        <p:nvSpPr>
          <p:cNvPr id="81" name="WordArt 2"/>
          <p:cNvSpPr txBox="1"/>
          <p:nvPr/>
        </p:nvSpPr>
        <p:spPr>
          <a:xfrm>
            <a:off x="611280" y="333360"/>
            <a:ext cx="792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ММЕТР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WordArt 3"/>
          <p:cNvSpPr txBox="1"/>
          <p:nvPr/>
        </p:nvSpPr>
        <p:spPr>
          <a:xfrm>
            <a:off x="826920" y="5661000"/>
            <a:ext cx="741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архитектур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Издавна человек использовал симметрию в архитектуре. Древним храмам, башням средневековых замков, современным зданиям она придает гармоничность, законченность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076720" y="3009960"/>
            <a:ext cx="3390840" cy="3848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11280" y="2997360"/>
            <a:ext cx="3384360" cy="3860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p:transition spd="slow" advTm="7000">
    <p:push dir="l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340000" y="2421000"/>
            <a:ext cx="4248000" cy="3833640"/>
          </a:xfrm>
          <a:prstGeom prst="rect">
            <a:avLst/>
          </a:prstGeom>
          <a:ln w="0">
            <a:noFill/>
          </a:ln>
        </p:spPr>
      </p:pic>
      <p:sp>
        <p:nvSpPr>
          <p:cNvPr id="87" name="WordArt 2"/>
          <p:cNvSpPr txBox="1"/>
          <p:nvPr/>
        </p:nvSpPr>
        <p:spPr>
          <a:xfrm>
            <a:off x="324000" y="333360"/>
            <a:ext cx="8640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ММЕТРИЯ В ХИМ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4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Структура молекулы имеет симметричное строение. Молекулы ДНК имеют структуру двойной спирали, которая построена по принципу комплементар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7280" y="3500280"/>
            <a:ext cx="4514760" cy="2981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90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3500280"/>
            <a:ext cx="2745000" cy="29530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p:transition spd="slow" advTm="7000">
    <p:diamond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СИММЕТРИЯ В ФИЗ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4211640" y="1916280"/>
            <a:ext cx="39276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аждая снежинка – это маленький кристалл замерзшей воды. Форма снежинок может быть очень разнообразной, но все они обладают симметри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396252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advTm="3000">
    <p:checker dir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                   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БОРДЮ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Орнаменты в виде лент (БОРДЮРЫ) применяют маляры и художники при оформлении комнат, з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2"/>
          <p:cNvSpPr txBox="1"/>
          <p:nvPr/>
        </p:nvSpPr>
        <p:spPr>
          <a:xfrm>
            <a:off x="611280" y="189000"/>
            <a:ext cx="79930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ММЕТРИЯ В БЫТУ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900000" y="3933720"/>
            <a:ext cx="2735280" cy="708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6948360" y="3284640"/>
            <a:ext cx="1943280" cy="357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3635280" y="4005360"/>
            <a:ext cx="2735280" cy="707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tretch/>
        </p:blipFill>
        <p:spPr>
          <a:xfrm>
            <a:off x="2124000" y="5445000"/>
            <a:ext cx="2737080" cy="863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168800" cy="4753080"/>
          </a:xfrm>
          <a:prstGeom prst="rect">
            <a:avLst/>
          </a:prstGeom>
          <a:ln w="0">
            <a:noFill/>
          </a:ln>
        </p:spPr>
      </p:pic>
      <p:sp>
        <p:nvSpPr>
          <p:cNvPr id="48" name="WordArt 2"/>
          <p:cNvSpPr txBox="1"/>
          <p:nvPr/>
        </p:nvSpPr>
        <p:spPr>
          <a:xfrm>
            <a:off x="1116000" y="404640"/>
            <a:ext cx="705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М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116000" y="5805360"/>
            <a:ext cx="7201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ГЕОМЕТ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100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100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50000">
              <a:srgbClr val="ff99ff"/>
            </a:gs>
            <a:gs pos="100000">
              <a:srgbClr val="cc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1"/>
          <p:cNvSpPr txBox="1"/>
          <p:nvPr/>
        </p:nvSpPr>
        <p:spPr>
          <a:xfrm>
            <a:off x="1979640" y="2924280"/>
            <a:ext cx="57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д презентацией работа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WordArt 2"/>
          <p:cNvSpPr txBox="1"/>
          <p:nvPr/>
        </p:nvSpPr>
        <p:spPr>
          <a:xfrm>
            <a:off x="7812000" y="2997360"/>
            <a:ext cx="123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827640" y="580536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ОЙКО Надежда Владими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2736720" cy="22827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9"/>
          <p:cNvSpPr/>
          <p:nvPr/>
        </p:nvSpPr>
        <p:spPr>
          <a:xfrm>
            <a:off x="756000" y="6211800"/>
            <a:ext cx="545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БОУ СОШ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глубленным изучением отдельных предмет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2"/>
          <a:stretch/>
        </p:blipFill>
        <p:spPr>
          <a:xfrm>
            <a:off x="6480000" y="5040360"/>
            <a:ext cx="2684520" cy="1835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blinds dir="vert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В древности слово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«симметрия»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 употреблялось как «гармония», «красота». Действительно, по-гречески оно означает «соразмерность, пропорциональность, одинаковость в расположении част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851280" y="4724280"/>
            <a:ext cx="4889520" cy="138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1280" y="2636640"/>
            <a:ext cx="7797600" cy="4198680"/>
          </a:xfrm>
          <a:prstGeom prst="rect">
            <a:avLst/>
          </a:prstGeom>
          <a:solidFill>
            <a:srgbClr val="c0c0c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lackadder ITC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Blackadder ITC"/>
              </a:rPr>
              <a:t>Движение плоскости - это отображение плоскости на себя, сохраняющее расстояния.  Осевая и центральная симметрия представляют собой отображение плоскости на себя, которое сохраняет расстояния между точками.</a:t>
            </a:r>
            <a:r>
              <a:rPr b="0" lang="en-GB" sz="2800" spc="-1" strike="noStrike">
                <a:solidFill>
                  <a:srgbClr val="ffffff"/>
                </a:solidFill>
                <a:latin typeface="Blackadder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896840" cy="2303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2340000" y="2602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Математик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 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выявляет порядок, симметрию, и определенность, а это – важнейшие виды прекрасн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5796000" y="162864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split dir="out" orient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075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Определение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Д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точки А и А1 называются симметричными относительно прямой а, если эта прямая проходит через середину отрезка АА1 и перпендикулярна к нему. Каждая точка прямой а считается  симметричной самой себе.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2"/>
          <p:cNvSpPr txBox="1"/>
          <p:nvPr/>
        </p:nvSpPr>
        <p:spPr>
          <a:xfrm>
            <a:off x="539640" y="260280"/>
            <a:ext cx="806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евая симметр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859280" y="4941720"/>
            <a:ext cx="3168720" cy="158292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Определение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Фигура называется симметричной относительно прямой а, если для каждой точки фигуры симметричная ей точка относительно прямой а также принадлежит этой фигуре. Прямая а называется осью симметрии фигуры. Говорят также, что фигура обладает осевой симметр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5158080"/>
            <a:ext cx="4105080" cy="916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У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неразвёрнутого угла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одна ось симметрии - прямая, на которой расположена биссектриса угла.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5364000" y="4718160"/>
            <a:ext cx="3237120" cy="183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15000">
    <p:blinds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050920" y="692280"/>
            <a:ext cx="48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Равнобедренный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но не равносторонний) треугольник имеет также одну ось симметрии. а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равносторонний треугольник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- три основные симметрии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1795320" cy="4319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6516720" y="3284640"/>
            <a:ext cx="2338200" cy="2338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 advTm="15000">
    <p:cover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194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195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03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04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785952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Определение. 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Две точки А и А1 называются симметричными относительно точки О, если О - середина отрезка АА1. Точка О считается симметричной самой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2"/>
          <p:cNvSpPr txBox="1"/>
          <p:nvPr/>
        </p:nvSpPr>
        <p:spPr>
          <a:xfrm>
            <a:off x="324000" y="189000"/>
            <a:ext cx="849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НТРАЛЬНАЯ СИММЕТР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3995640" y="5157720"/>
            <a:ext cx="4896000" cy="1316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slow" advTm="15000">
    <p:circl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1"/>
          <p:cNvSpPr txBox="1"/>
          <p:nvPr/>
        </p:nvSpPr>
        <p:spPr>
          <a:xfrm>
            <a:off x="324000" y="260280"/>
            <a:ext cx="8353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ММЕТРИЯ ГРАФИКОВ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1908360" cy="2287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5867280" y="2060640"/>
            <a:ext cx="2362320" cy="275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3348000" y="1989000"/>
            <a:ext cx="1982880" cy="3024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amond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БОУ СОШ №</cp:lastModifiedBy>
  <dcterms:modified xsi:type="dcterms:W3CDTF">2013-04-07T17:55:17Z</dcterms:modified>
  <cp:revision>3</cp:revision>
  <dc:subject/>
  <dc:title>Слайд 1</dc:title>
</cp:coreProperties>
</file>