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590-F05D-4253-A73A-5C3BA04E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CC8-7953-4785-9D9C-4B88458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959-D478-4D97-AFA3-A03295A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320-A1F1-4F12-A691-D079A90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9A2-EB0C-436C-9C1A-E7942457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61F-C917-47AD-972A-8CA7E71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3F0-B175-47EB-A3E5-23AADDC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6C8-F1B7-4095-B166-0901C24C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3C5-1919-4870-AA8A-D6AD6FB3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39C-18CA-4BBD-9BA8-9B5D98D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AF3-7832-4983-8BDC-BFC86DE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668-C917-4CBC-8099-A306456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8890"/>
            </a:gs>
            <a:gs pos="50000">
              <a:srgbClr val="ffffff"/>
            </a:gs>
            <a:gs pos="100000">
              <a:srgbClr val="8a889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F32D-B7DC-468D-B204-652366B3F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Pictures\Абатск\x_cb869d3e.jpg"/>
          <p:cNvPicPr/>
          <p:nvPr/>
        </p:nvPicPr>
        <p:blipFill>
          <a:blip r:embed="rId1"/>
          <a:stretch/>
        </p:blipFill>
        <p:spPr>
          <a:xfrm>
            <a:off x="1979640" y="3500280"/>
            <a:ext cx="3240000" cy="3241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Администратор\Pictures\Абатск\88.jpg"/>
          <p:cNvPicPr/>
          <p:nvPr/>
        </p:nvPicPr>
        <p:blipFill>
          <a:blip r:embed="rId2"/>
          <a:stretch/>
        </p:blipFill>
        <p:spPr>
          <a:xfrm>
            <a:off x="2050920" y="620640"/>
            <a:ext cx="31752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5002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49360"/>
            <a:ext cx="9144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360"/>
            <a:ext cx="9144000" cy="3988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ffff"/>
              </a:gs>
              <a:gs pos="100000">
                <a:srgbClr val="a500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АТСКИЙ МУНИЦИПАЛЬНЫ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292720" y="210600"/>
            <a:ext cx="3743280" cy="67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Calibri"/>
              </a:rPr>
              <a:t>КЛИМА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Calibri"/>
              </a:rPr>
              <a:t>Территория Абатского района входит в зону теплого умеренно-увлажненного климата с переходами на резко-континентальный. Климат территории формируется главным образом воздушными массами умеренных широт азиатского материка и арктическим воздухом. Достаточно велико влияние атлантических масс, так как увлажнение почти целиком зависит от влаги, приносимой западными воздушными потоками. Общая неустойчивость климата обусловлена беспрепятственным вторжением как холодных воздушных масс с севера, так и сухих и теплых из Казахстана и Средней Азии. Основными чертами температурного режима является: суровая холодная зима, теплое непродолжительное лето, короткие весна и осень, короткий безморозный период, резкие колебания температуры в течение года, месяца и даже суток. Средняя температура самого холодного месяца года – января -25ºС, абсолютный минимум -48ºС. Средняя температура самого жаркого месяца – июля +20ºС, максимум +40. Абсолютная годовая амплитуда температуры воздуха довольно значительная 80-90, что характерно для континентального климата. Снежный покров устанавливается в первой половине ноября и длится 160 дней. Высота покрова неравномерна. Лето короткое и характеризуется высокой температурой воздуха в вегетационный пери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7" descr="x_54d62b58.jpg"/>
          <p:cNvPicPr/>
          <p:nvPr/>
        </p:nvPicPr>
        <p:blipFill>
          <a:blip r:embed="rId3"/>
          <a:stretch/>
        </p:blipFill>
        <p:spPr>
          <a:xfrm>
            <a:off x="0" y="620640"/>
            <a:ext cx="270036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Администратор\Pictures\Абатск\0_8cc2_2b0d832b_XL.jpg"/>
          <p:cNvPicPr/>
          <p:nvPr/>
        </p:nvPicPr>
        <p:blipFill>
          <a:blip r:embed="rId4"/>
          <a:stretch/>
        </p:blipFill>
        <p:spPr>
          <a:xfrm>
            <a:off x="-108000" y="3500280"/>
            <a:ext cx="28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5002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549360"/>
            <a:ext cx="9144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360"/>
            <a:ext cx="9144000" cy="3988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ffff"/>
              </a:gs>
              <a:gs pos="100000">
                <a:srgbClr val="a500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АТСКИЙ МУНИЦИПАЛЬНЫ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5219640" y="445680"/>
            <a:ext cx="3816360" cy="71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РЕКИ И ОЗ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носятся к бассейну р. Ишим лесостепной зоны. Важной гидрологической особенностью территории является замедленный поверхностный сток и слабый естественный дренаж грунтовых вод, что связано с плоским рельефом, малым врезом речных долин. Это послужило причиной широкого распространения болот и озер. В пределах рассматриваемой территории речная сеть развита слабо. Густота речной сети составляет чуть больше 0,1 км/кв. м площад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сновные реки района Вавилон, Китерня, Абак, Ир с притоками, Балаир, Яузяк, Верхняя Спириха. Самые крупные озера района – это озеро Марухи, Авдонское, Углоушное, Могильное. Все реки типично равнинного характера со спокойным течением, небольшими скоростями и уверенной извилистостью русла, широкими поймами. За счет малого вреза реки даже в межень слабо размывают рыхлые грунты своих русел и плохо дренируют прилегающие мес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Администратор\Pictures\Абатск\276286.jpg"/>
          <p:cNvPicPr/>
          <p:nvPr/>
        </p:nvPicPr>
        <p:blipFill>
          <a:blip r:embed="rId1"/>
          <a:stretch/>
        </p:blipFill>
        <p:spPr>
          <a:xfrm>
            <a:off x="0" y="620640"/>
            <a:ext cx="5148360" cy="3384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080818 2629.jpg"/>
          <p:cNvPicPr/>
          <p:nvPr/>
        </p:nvPicPr>
        <p:blipFill>
          <a:blip r:embed="rId2"/>
          <a:stretch/>
        </p:blipFill>
        <p:spPr>
          <a:xfrm>
            <a:off x="684360" y="3429000"/>
            <a:ext cx="4470120" cy="3168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P7051582.JPG"/>
          <p:cNvPicPr/>
          <p:nvPr/>
        </p:nvPicPr>
        <p:blipFill>
          <a:blip r:embed="rId3"/>
          <a:stretch/>
        </p:blipFill>
        <p:spPr>
          <a:xfrm>
            <a:off x="0" y="3429000"/>
            <a:ext cx="1978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5002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549360"/>
            <a:ext cx="9144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60"/>
            <a:ext cx="9144000" cy="3988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ffff"/>
              </a:gs>
              <a:gs pos="100000">
                <a:srgbClr val="a500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АТСКИЙ МУНИЦИПАЛЬНЫ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4356000" y="530280"/>
            <a:ext cx="468000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РАСТИТЕЛЬНОСТЬ И ЖИВОТНЫЙ МИР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Основными лесообразующими породами являются береза пушистая, береза бородавчатая, осина. Из кустарников встречаются шиповник, боярышник, калина, смородина, малина. По берегам рек, в сырых заболоченных местах растут различные виды ив, смородины, черемухи. Лес редкий, с хорошо развитой травянистой растительностью. Под покровом леса злаковоразнотравная ассоциация несколько беднее, к разнотравью примешивается хвощь, различные виды наземных мхов, заячья кислица, копытень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DSCN0637.JPG"/>
          <p:cNvPicPr/>
          <p:nvPr/>
        </p:nvPicPr>
        <p:blipFill>
          <a:blip r:embed="rId1"/>
          <a:stretch/>
        </p:blipFill>
        <p:spPr>
          <a:xfrm>
            <a:off x="0" y="620640"/>
            <a:ext cx="4284720" cy="3159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image005.jpg"/>
          <p:cNvPicPr/>
          <p:nvPr/>
        </p:nvPicPr>
        <p:blipFill>
          <a:blip r:embed="rId2"/>
          <a:stretch/>
        </p:blipFill>
        <p:spPr>
          <a:xfrm>
            <a:off x="0" y="3422520"/>
            <a:ext cx="4356000" cy="3267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Рисунок1.jpg"/>
          <p:cNvPicPr/>
          <p:nvPr/>
        </p:nvPicPr>
        <p:blipFill>
          <a:blip r:embed="rId3"/>
          <a:stretch/>
        </p:blipFill>
        <p:spPr>
          <a:xfrm>
            <a:off x="4284720" y="3429000"/>
            <a:ext cx="4859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дминистратор\Pictures\Абатск\0_1db5a_b6207f6e_XL.jpg"/>
          <p:cNvPicPr/>
          <p:nvPr/>
        </p:nvPicPr>
        <p:blipFill>
          <a:blip r:embed="rId1"/>
          <a:stretch/>
        </p:blipFill>
        <p:spPr>
          <a:xfrm>
            <a:off x="0" y="0"/>
            <a:ext cx="6056280" cy="465300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0" y="-171360"/>
            <a:ext cx="3132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«Село родн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Село раскинулось старинное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Среди полей, среди лугов.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Леса зовут за земляникою,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Озера манят рыбаков.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Здесь по весне цветет черемуха,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И яблони ласкают глаз.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И даже, как в Москве, черёмушки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Свои в Абатске есть у нас,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А рядом трасса всероссийская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Зовёт в далёкие края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Но далеко уеду, близко ли-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Обратно возвращаюсь 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Администратор\Pictures\Абатск\1196065.jpg"/>
          <p:cNvPicPr/>
          <p:nvPr/>
        </p:nvPicPr>
        <p:blipFill>
          <a:blip r:embed="rId2"/>
          <a:stretch/>
        </p:blipFill>
        <p:spPr>
          <a:xfrm>
            <a:off x="0" y="4581360"/>
            <a:ext cx="2889360" cy="2276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image005.jpg"/>
          <p:cNvPicPr/>
          <p:nvPr/>
        </p:nvPicPr>
        <p:blipFill>
          <a:blip r:embed="rId3"/>
          <a:stretch/>
        </p:blipFill>
        <p:spPr>
          <a:xfrm>
            <a:off x="2843280" y="4581360"/>
            <a:ext cx="316872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Заголовок 1"/>
          <p:cNvSpPr/>
          <p:nvPr/>
        </p:nvSpPr>
        <p:spPr>
          <a:xfrm>
            <a:off x="2987640" y="189000"/>
            <a:ext cx="26640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К своим знакомым с детства улицам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Где клены машут мне листвой.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Родной Абатс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тобой любуюсь я,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Грущу и радуюсь тобой…!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Проходят годы, но не старится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Моё любимое село.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И может, тем уже я счастлива, 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Что здесь родиться повезло.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Судьба моя с тобою связана,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Сибирский, легендарный край.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Тебя, село родное, славлю я, </a:t>
            </a:r>
            <a:br>
              <a:rPr sz="1200"/>
            </a:br>
            <a:r>
              <a:rPr b="1" lang="ru-RU" sz="1200" spc="-1" strike="noStrike">
                <a:solidFill>
                  <a:srgbClr val="0d0d0d"/>
                </a:solidFill>
                <a:latin typeface="Arial"/>
              </a:rPr>
              <a:t>Живи, Абатск, и процвета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383271.jpg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Администратор\Pictures\Абатск\276286.jpg"/>
          <p:cNvPicPr/>
          <p:nvPr/>
        </p:nvPicPr>
        <p:blipFill>
          <a:blip r:embed="rId5"/>
          <a:stretch/>
        </p:blipFill>
        <p:spPr>
          <a:xfrm>
            <a:off x="5867280" y="2349360"/>
            <a:ext cx="3276720" cy="244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Администратор\Pictures\Абатск\0_8cc2_2b0d832b_XL.jpg"/>
          <p:cNvPicPr/>
          <p:nvPr/>
        </p:nvPicPr>
        <p:blipFill>
          <a:blip r:embed="rId6"/>
          <a:stretch/>
        </p:blipFill>
        <p:spPr>
          <a:xfrm>
            <a:off x="5867280" y="4581360"/>
            <a:ext cx="340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9:38:02Z</dcterms:created>
  <dc:creator>User</dc:creator>
  <dc:description/>
  <dc:language>en-US</dc:language>
  <cp:lastModifiedBy>иван</cp:lastModifiedBy>
  <dcterms:modified xsi:type="dcterms:W3CDTF">2013-04-07T03:27:50Z</dcterms:modified>
  <cp:revision>186</cp:revision>
  <dc:subject/>
  <dc:title>Слайд 1</dc:title>
</cp:coreProperties>
</file>