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6019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43200" y="4478040"/>
            <a:ext cx="6019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43200" y="447804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828040" y="447804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8640" y="220932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14440" y="220932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743200" y="447804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78640" y="447804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814440" y="447804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743200" y="220932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743200" y="447804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743200" y="220932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828040" y="447804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43200" y="4478040"/>
            <a:ext cx="6019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6019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43200" y="4478040"/>
            <a:ext cx="6019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43200" y="447804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828040" y="447804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640" y="220932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4440" y="220932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743200" y="447804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78640" y="447804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814440" y="4478040"/>
            <a:ext cx="193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743200" y="447804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828040" y="447804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28040" y="2209320"/>
            <a:ext cx="293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43200" y="4478040"/>
            <a:ext cx="6019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peedoSS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220932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peedoSS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743200" y="220932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8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115560"/>
            <a:ext cx="468000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SpeedoSSi"/>
              </a:rPr>
              <a:t>ПРОВОДЫ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SpeedoSSi"/>
              </a:rPr>
              <a:t>ЗИМЫ…</a:t>
            </a:r>
            <a:endParaRPr b="0" lang="en-US" sz="54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68000" y="4648320"/>
            <a:ext cx="719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SpeedoSSi"/>
              </a:rPr>
              <a:t>… </a:t>
            </a:r>
            <a:r>
              <a:rPr b="1" i="1" lang="ru-RU" sz="5400" spc="-1" strike="noStrike">
                <a:solidFill>
                  <a:srgbClr val="ffffff"/>
                </a:solidFill>
                <a:latin typeface="SpeedoSSi"/>
              </a:rPr>
              <a:t>встреча Весны.</a:t>
            </a:r>
            <a:endParaRPr b="0" lang="en-US" sz="5400" spc="-1" strike="noStrike">
              <a:solidFill>
                <a:srgbClr val="ffffff"/>
              </a:solidFill>
              <a:latin typeface="SpeedoSSi"/>
            </a:endParaRPr>
          </a:p>
        </p:txBody>
      </p:sp>
      <p:pic>
        <p:nvPicPr>
          <p:cNvPr id="78" name="Picture 4" descr="5314_205_1000"/>
          <p:cNvPicPr/>
          <p:nvPr/>
        </p:nvPicPr>
        <p:blipFill>
          <a:blip r:embed="rId1"/>
          <a:stretch/>
        </p:blipFill>
        <p:spPr>
          <a:xfrm>
            <a:off x="250920" y="3357720"/>
            <a:ext cx="2408040" cy="2887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dc28dcbe2544t"/>
          <p:cNvPicPr/>
          <p:nvPr/>
        </p:nvPicPr>
        <p:blipFill>
          <a:blip r:embed="rId2"/>
          <a:stretch/>
        </p:blipFill>
        <p:spPr>
          <a:xfrm>
            <a:off x="5724360" y="189000"/>
            <a:ext cx="31165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189000"/>
            <a:ext cx="651672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SpeedoSSi"/>
              </a:rPr>
              <a:t>Масленица - древний славянский праздник.</a:t>
            </a:r>
            <a:r>
              <a:rPr b="0" lang="ru-RU" sz="3200" spc="-1" strike="noStrike">
                <a:solidFill>
                  <a:srgbClr val="003300"/>
                </a:solidFill>
                <a:latin typeface="SpeedoSS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peedoSSi"/>
              </a:rPr>
              <a:t>Это - веселые проводы зимы, озаренные радостным ожиданием близкого тепла, весеннего обновления природы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peedoSSi"/>
              </a:rPr>
              <a:t>А главным угощением были -…</a:t>
            </a:r>
            <a:endParaRPr b="0" lang="en-US" sz="32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00000" y="4076280"/>
            <a:ext cx="64436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SpeedoSSi"/>
              </a:rPr>
              <a:t>блины</a:t>
            </a:r>
            <a:r>
              <a:rPr b="0" lang="ru-RU" sz="2800" spc="-1" strike="noStrike">
                <a:solidFill>
                  <a:srgbClr val="ffffff"/>
                </a:solidFill>
                <a:latin typeface="SpeedoSSi"/>
              </a:rPr>
              <a:t>,                                               они  имели особое значение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SpeedoSSi"/>
              </a:rPr>
              <a:t>круглые, румяные, горячие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SpeedoSSi"/>
              </a:rPr>
              <a:t>блины стали  - символом солнца,         которое все ярче разгоралось, удлиняя дни.</a:t>
            </a: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pic>
        <p:nvPicPr>
          <p:cNvPr id="82" name="Picture 6" descr="0_9015_7f0816da_XL"/>
          <p:cNvPicPr/>
          <p:nvPr/>
        </p:nvPicPr>
        <p:blipFill>
          <a:blip r:embed="rId2"/>
          <a:stretch/>
        </p:blipFill>
        <p:spPr>
          <a:xfrm>
            <a:off x="0" y="3716280"/>
            <a:ext cx="2943360" cy="2206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9a8acb824aa1"/>
          <p:cNvPicPr/>
          <p:nvPr/>
        </p:nvPicPr>
        <p:blipFill>
          <a:blip r:embed="rId3"/>
          <a:stretch/>
        </p:blipFill>
        <p:spPr>
          <a:xfrm>
            <a:off x="108000" y="260280"/>
            <a:ext cx="2246400" cy="30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snowflakes_falling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0" y="189000"/>
            <a:ext cx="644364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не зря в народе говори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Без блина не Маслена, без пирога не именинни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Как на масляной неделе в потолок блины летели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На горках покататься, в блинах поваляться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Не житье, а масляница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Хоть с себя все заложить, а масляницу проводить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Не все коту масленица, а будет и Великий Пост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Масленица объедуха, деньги приберух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Как вы понимаете эти поговор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О чем они нам говорят, рассказываю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4ef2c5deaa10"/>
          <p:cNvPicPr/>
          <p:nvPr/>
        </p:nvPicPr>
        <p:blipFill>
          <a:blip r:embed="rId3"/>
          <a:stretch/>
        </p:blipFill>
        <p:spPr>
          <a:xfrm>
            <a:off x="6804000" y="260280"/>
            <a:ext cx="208584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1204455594_maslen_001"/>
          <p:cNvPicPr/>
          <p:nvPr/>
        </p:nvPicPr>
        <p:blipFill>
          <a:blip r:embed="rId4"/>
          <a:stretch/>
        </p:blipFill>
        <p:spPr>
          <a:xfrm>
            <a:off x="6227640" y="2492280"/>
            <a:ext cx="2786040" cy="19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1885"/>
          <p:cNvPicPr/>
          <p:nvPr/>
        </p:nvPicPr>
        <p:blipFill>
          <a:blip r:embed="rId5"/>
          <a:stretch/>
        </p:blipFill>
        <p:spPr>
          <a:xfrm>
            <a:off x="6948360" y="4508640"/>
            <a:ext cx="1565280" cy="22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nowflakes_falling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059280" y="0"/>
            <a:ext cx="590544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тарину Масленица была самым веселым праздником на Рус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была неделя объедения и веселых игр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дняя неделя перед началом Великого пос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еревнях катались на санках, ходили на ходул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сейчас мы с вами поиграем в одну из самых традиционных забав  масленичной недели -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горел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2e449926b03f"/>
          <p:cNvPicPr/>
          <p:nvPr/>
        </p:nvPicPr>
        <p:blipFill>
          <a:blip r:embed="rId3"/>
          <a:stretch/>
        </p:blipFill>
        <p:spPr>
          <a:xfrm>
            <a:off x="324000" y="476280"/>
            <a:ext cx="2746080" cy="224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791b8f186323"/>
          <p:cNvPicPr/>
          <p:nvPr/>
        </p:nvPicPr>
        <p:blipFill>
          <a:blip r:embed="rId4"/>
          <a:stretch/>
        </p:blipFill>
        <p:spPr>
          <a:xfrm>
            <a:off x="468360" y="3716280"/>
            <a:ext cx="2340000" cy="27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95280" y="0"/>
            <a:ext cx="464508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SpeedoSSi"/>
              </a:rPr>
              <a:t>А еще на масленицу играли в такие игры: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51280" y="1915920"/>
            <a:ext cx="5400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peedoSSi"/>
              </a:rPr>
              <a:t>Катание с гор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  <a:p>
            <a:pPr marL="325800" indent="-32580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peedoSSi"/>
              </a:rPr>
              <a:t>Бой мешками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  <a:p>
            <a:pPr marL="325800" indent="-325800" algn="ctr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peedoSSi"/>
              </a:rPr>
              <a:t>Ледяной столб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  <a:p>
            <a:pPr marL="325800" indent="-325800" algn="ctr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peedoSSi"/>
              </a:rPr>
              <a:t>Снежный тир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  <a:p>
            <a:pPr marL="325800" indent="-325800" algn="ctr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peedoSSi"/>
              </a:rPr>
              <a:t>Кулачные бои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  <a:p>
            <a:pPr marL="325800" indent="-325800" algn="ctr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peedoSSi"/>
              </a:rPr>
              <a:t>Перетягивание каната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  <a:p>
            <a:pPr marL="325800" indent="-325800" algn="ctr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peedoSSi"/>
              </a:rPr>
              <a:t>Жмурки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pic>
        <p:nvPicPr>
          <p:cNvPr id="95" name="Picture 9" descr="karabiha_masl"/>
          <p:cNvPicPr/>
          <p:nvPr/>
        </p:nvPicPr>
        <p:blipFill>
          <a:blip r:embed="rId8"/>
          <a:stretch/>
        </p:blipFill>
        <p:spPr>
          <a:xfrm>
            <a:off x="108000" y="692280"/>
            <a:ext cx="3871800" cy="24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318fb581b19d"/>
          <p:cNvPicPr/>
          <p:nvPr/>
        </p:nvPicPr>
        <p:blipFill>
          <a:blip r:embed="rId9"/>
          <a:stretch/>
        </p:blipFill>
        <p:spPr>
          <a:xfrm>
            <a:off x="179280" y="3500280"/>
            <a:ext cx="4002120" cy="31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nowflakes_falling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4211640" y="-15480"/>
            <a:ext cx="47545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, конечно же, праздник не обходился без чучела Маслен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ревле чучело Масленицы мастерили из соло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зли его в пол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ли и плясали вокруг не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тем сжига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9468000" y="662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5577a89f85a"/>
          <p:cNvPicPr/>
          <p:nvPr/>
        </p:nvPicPr>
        <p:blipFill>
          <a:blip r:embed="rId3"/>
          <a:stretch/>
        </p:blipFill>
        <p:spPr>
          <a:xfrm>
            <a:off x="250920" y="333360"/>
            <a:ext cx="3809880" cy="265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f20fb5f3ef36t"/>
          <p:cNvPicPr/>
          <p:nvPr/>
        </p:nvPicPr>
        <p:blipFill>
          <a:blip r:embed="rId4"/>
          <a:stretch/>
        </p:blipFill>
        <p:spPr>
          <a:xfrm>
            <a:off x="324000" y="3133800"/>
            <a:ext cx="4001760" cy="3724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karabiha_masl"/>
          <p:cNvPicPr/>
          <p:nvPr/>
        </p:nvPicPr>
        <p:blipFill>
          <a:blip r:embed="rId5"/>
          <a:stretch/>
        </p:blipFill>
        <p:spPr>
          <a:xfrm>
            <a:off x="4643280" y="3789360"/>
            <a:ext cx="3829320" cy="2382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1100606_krilov_sergei__maslenica"/>
          <p:cNvPicPr/>
          <p:nvPr/>
        </p:nvPicPr>
        <p:blipFill>
          <a:blip r:embed="rId6"/>
          <a:stretch/>
        </p:blipFill>
        <p:spPr>
          <a:xfrm>
            <a:off x="179280" y="-531720"/>
            <a:ext cx="8734680" cy="775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nowflakes_falling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3600360" y="-92880"/>
            <a:ext cx="39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к на масляной не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ойки по снегу ле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ки с горочки неслис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у всех блины пек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, блины , мои бли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ины масля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блины, мои бли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блиночки мо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Замесили на дрожж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держишь на вожж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, блины , мои бли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ины масля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c4d44026bc88"/>
          <p:cNvPicPr/>
          <p:nvPr/>
        </p:nvPicPr>
        <p:blipFill>
          <a:blip r:embed="rId3"/>
          <a:stretch/>
        </p:blipFill>
        <p:spPr>
          <a:xfrm>
            <a:off x="250920" y="907920"/>
            <a:ext cx="2376360" cy="2336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26e61814bf1"/>
          <p:cNvPicPr/>
          <p:nvPr/>
        </p:nvPicPr>
        <p:blipFill>
          <a:blip r:embed="rId4"/>
          <a:stretch/>
        </p:blipFill>
        <p:spPr>
          <a:xfrm>
            <a:off x="7596360" y="4581360"/>
            <a:ext cx="1104840" cy="1552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88d5c8917f66t"/>
          <p:cNvPicPr/>
          <p:nvPr/>
        </p:nvPicPr>
        <p:blipFill>
          <a:blip r:embed="rId5"/>
          <a:stretch/>
        </p:blipFill>
        <p:spPr>
          <a:xfrm>
            <a:off x="179280" y="4292640"/>
            <a:ext cx="3360960" cy="18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nowflakes_falling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900720" y="907200"/>
            <a:ext cx="73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080a0dbe97296e36dee5cf160ac82c04"/>
          <p:cNvPicPr/>
          <p:nvPr/>
        </p:nvPicPr>
        <p:blipFill>
          <a:blip r:embed="rId3"/>
          <a:stretch/>
        </p:blipFill>
        <p:spPr>
          <a:xfrm>
            <a:off x="4788000" y="3141720"/>
            <a:ext cx="3809880" cy="346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maslenitsa2_1280x1024"/>
          <p:cNvPicPr/>
          <p:nvPr/>
        </p:nvPicPr>
        <p:blipFill>
          <a:blip r:embed="rId4"/>
          <a:stretch/>
        </p:blipFill>
        <p:spPr>
          <a:xfrm>
            <a:off x="468360" y="2349360"/>
            <a:ext cx="3666960" cy="29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1:05:53Z</dcterms:created>
  <dc:creator>HOME</dc:creator>
  <dc:description/>
  <dc:language>en-US</dc:language>
  <cp:lastModifiedBy>Ленар</cp:lastModifiedBy>
  <dcterms:modified xsi:type="dcterms:W3CDTF">2012-02-27T20:04:57Z</dcterms:modified>
  <cp:revision>8</cp:revision>
  <dc:subject/>
  <dc:title>ПРОВОДЫ ЗИМЫ…</dc:title>
</cp:coreProperties>
</file>