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248-9AFA-4688-ABB3-91A1C373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21A-3709-4913-A5A1-178A522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706-328E-44D0-8D85-A504E2DA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835-08AA-4283-BF4D-4346F0FD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6E9-BD89-4C5A-A722-63702AA2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865-C3D7-4275-921B-5644D57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4CA-03AA-45A7-89F4-69B3F12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C17-76C0-483B-B045-60E2F04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2E5-C0DF-4EFD-A42C-1061D84A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8DA-AA7F-474F-86EE-A7962EA3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C9B-A7E7-4F4A-8207-1A5CFD3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F1A-C61E-44C8-BA70-672CD406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0B84-9B51-41A3-A89D-B6D582C8A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3860640"/>
            <a:ext cx="461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а ученица 11 класса гимназии №3 г.Зеленодольс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ихайлова Виктор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Влия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на здоровье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Влияние различных факторов среды на здоровье насел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532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илая площадь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стояние до лесопарка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имическое загрязнение воздуха6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Шум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поездок в транспорте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жилой среды1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такт с химическими вредностями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Шум5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ый стаж6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енность и характер труда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производственных факторов1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ование4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ное положение0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реднедушевой доход0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социальных факторов4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рение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сна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лительность домашней работы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нятия физкультурой и спортом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ктивный отдых на воздухе9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дение отпуска за городом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образа жизни25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зраст1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 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уммарное влияние биологических факторов11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Анкетиро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300человек 9-11 кла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%-кур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-пробовали спир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-испытывают постоянный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-проблемы в сем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-проблемы в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-считают себя здоро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Проблем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доровье человека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яснить,  как на здоровье человека влияет окружающая сре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3500280"/>
            <a:ext cx="815652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Теоретическое осмысление понятия здоровья и факторов на него влияющ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Выяснить через анкетирование учащихся о влияние на здоровье различ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Донести информацию о собранном материале до школьни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С. Залыг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егодня экология представляется мне как деятельность, направленная на преобразование всех остальных форм деятельности современного че­ловека: управленческой, производственной, социаль­ной, здравоохранительной — всех без исключения. Ибо человечество подошло к тому пределу, за которым, если не будет пересмотрена вся наша жизнь в пользу сохранения природы, мы неизбежно должны будем погибнуть. Критический момент наступил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Новый мир, 1994, № 11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храна окружающей природно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государственных и общественных мер воздействия, направленных на обеспечение гармоничного взаимо­действия системы «общество — природа»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хранения и воспроизводства объектов приро­до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х рационального и сбалансированного исполь­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учшения качества окружающей человека жизненно обходимой среды обитания путем восстановле­ния функций самоорганизации природных систем, которые были утрачены под давлением хозяйственной деятель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Здоровь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- это состояние полного физического, психического  и социального благополуч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на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роды для человека велико и многообраз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о может бы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одствен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здоровитель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итательн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стетическо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Факторы окружающей сред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ческое загрязнение и здоровь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иоактивное загряз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ое загрязнение среды и здоровье челове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лияние звуков на человека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 и здоров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да и самочувствие человека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ессия и здоровь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 и здоровь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ссы в современном мир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ние и здоровь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Радиоактивное загряз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чник облучения Млрд/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ические лучи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человеческого тела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горных пород-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осадков-1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оактивность отходов атомной промышленности-2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иация черно-белого телевизора (2 м от зрителя)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же — цветного (2 м от зрителя)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Причины, влияющие на здоровь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уппы факторов р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 жизни, условия труда проживания, привы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-5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употребление алкоголя, неверное питание, вредные условия труда, стрессовые ситуации, адинамия, гиподинамия, нехорошие материально-бытовые условия, употребление наркотиков, непрочность семей, высокий уровень урб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нетика, биология челов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-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нность к наследственным болезням Внешняя сре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родно-климатические условия 17-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грязнение воздуха, воды, земли, резкая смена атмосферных явлений, завышенные космические, магнитные и др. Явления изл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дравоохранение 8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эффективность профилактических мероприятий, низкое качество медицинской помощи, несвоевременность её оказ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07:11:23Z</dcterms:created>
  <dc:creator>Alesya</dc:creator>
  <dc:description/>
  <dc:language>en-US</dc:language>
  <cp:lastModifiedBy>Alesya</cp:lastModifiedBy>
  <dcterms:modified xsi:type="dcterms:W3CDTF">2011-11-14T08:43:54Z</dcterms:modified>
  <cp:revision>2</cp:revision>
  <dc:subject/>
  <dc:title>С. Залыгина: «Сегодня экология представляется мне как деятельность, направленная на преобразование всех остальных форм деятельности современного че­ловека: управленческой, производственной, социаль­ной, здравоохранительной — всех без исключения. Ибо человечество подошло к тому пределу, за которым, если не будет пересмотрена вся наша жизнь в пользу сохранения природы, мы неизбежно должны будем погибнуть. Критический момент наступил» (Новый мир, 1994, № 11). </dc:title>
</cp:coreProperties>
</file>