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5AF-77C8-4210-8440-CFAD6B7B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806-FC2B-4781-9336-012D89A2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56C-3C67-4EE7-92DB-BD65EC91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625-5819-48F2-8CC2-94B0D1C3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C4FB-9BD5-4B47-9E02-B826FC81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291-43B9-44BA-95D1-6182338E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30B-04CD-44C9-8A5D-B7EFA28C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12C-53F3-4360-A5AF-042C6BBA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9AC6-6ED8-42DA-B978-3212F87F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91D-C244-47B6-AB9F-9BB0E8C1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3BA6-6421-4C45-AF05-473F508C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F8E-D745-4550-8EA1-3930ACB0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8FEA-EB65-4D73-8EFC-A0BAEF4DB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7280" y="3860640"/>
            <a:ext cx="4619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у выполнила ученица 11 класса гимназии №3 г.Зеленодольс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ихайлова Викто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Влия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окружающей ср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на здоровье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Влияние различных факторов среды на здоровье населения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532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Жилая площадь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стояние до лесопарка1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имическое загрязнение воздуха6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Шум4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лительность поездок в транспорте1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уммарное влияние жилой среды16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такт с химическими вредностями5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Шум5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фессиональный стаж6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менность и характер труда2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уммарное влияние производственных факторов18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разование4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емейное положение0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реднедушевой доход0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уммарное влияние социальных факторов4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урение9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лительность сна1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лительность домашней работы1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нятия физкультурой и спортом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ктивный отдых на воздухе9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ведение отпуска за городом2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уммарное влияние образа жизни25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зраст1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л 1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уммарное влияние биологических факторов11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Анкетиров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300человек 9-11 клас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%-кур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-пробовали спир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-испытывают постоянный стр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%-проблемы в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-проблемы в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-считают себя здоров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Проблем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доровье человека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яснить,  как на здоровье человека влияет окружающая сре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3500280"/>
            <a:ext cx="8156520" cy="31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Теоретическое осмысление понятия здоровья и факторов на него влияющ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Выяснить через анкетирование учащихся о влияние на здоровье различны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Донести информацию о собранном материале до школьник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С. Залыг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Сегодня экология представляется мне как деятельность, направленная на преобразование всех остальных форм деятельности современного че­ловека: управленческой, производственной, социаль­ной, здравоохранительной — всех без исключения. Ибо человечество подошло к тому пределу, за которым, если не будет пересмотрена вся наша жизнь в пользу сохранения природы, мы неизбежно должны будем погибнуть. Критический момент наступил»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Новый мир, 1994, № 11)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Охрана окружающей природной ср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а государственных и общественных мер воздействия, направленных на обеспечение гармоничного взаимо­действия системы «общество — природа» на основ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хранения и воспроизводства объектов приро­дополь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х рационального и сбалансированного исполь­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лучшения качества окружающей человека жизненно обходимой среды обитания путем восстановле­ния функций самоорганизации природных систем, которые были утрачены под давлением хозяйственной деятельности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Здоровь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- это состояние полного физического, психического  и социального благополуч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нач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ироды для человека велико и многообраз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о может бы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одственн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ческ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н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здоровительн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питательн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стетическо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Факторы окружающей сред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мическое загрязнение и здоровье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иоактивное загряз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логическое загрязнение среды и здоровье человек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ияние звуков на человека 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 и здоровь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года и самочувствие человека 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фессия и здоровь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ья и здоровь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ссы в современном мир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ние и здоровь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Радиоактивное загряз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чник облучения Млрд/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мические лучи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оактивность человеческого тела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оактивность горных пород-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оактивность осадков-1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оактивность отходов атомной промышленности-2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нтгеноскопия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ация черно-белого телевизора (2 м от зрителя)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же — цветного (2 м от зрителя)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Причины, влияющие на здоровь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уппы факторов рис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з жизни, условия труда проживания, привыч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-5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рение, употребление алкоголя, неверное питание, вредные условия труда, стрессовые ситуации, адинамия, гиподинамия, нехорошие материально-бытовые условия, употребление наркотиков, непрочность семей, высокий уровень урб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енетика, биология челове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-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положенность к наследственным болезням Внешняя сре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родно-климатические условия 17-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грязнение воздуха, воды, земли, резкая смена атмосферных явлений, завышенные космические, магнитные и др. Явления изл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дравоохранение 8-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эффективность профилактических мероприятий, низкое качество медицинской помощи, несвоевременность её оказ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7:11:23Z</dcterms:created>
  <dc:creator>Alesya</dc:creator>
  <dc:description/>
  <dc:language>en-US</dc:language>
  <cp:lastModifiedBy>Alesya</cp:lastModifiedBy>
  <dcterms:modified xsi:type="dcterms:W3CDTF">2011-11-14T08:43:54Z</dcterms:modified>
  <cp:revision>2</cp:revision>
  <dc:subject/>
  <dc:title>С. Залыгина: «Сегодня экология представляется мне как деятельность, направленная на преобразование всех остальных форм деятельности современного че­ловека: управленческой, производственной, социаль­ной, здравоохранительной — всех без исключения. Ибо человечество подошло к тому пределу, за которым, если не будет пересмотрена вся наша жизнь в пользу сохранения природы, мы неизбежно должны будем погибнуть. Критический момент наступил» (Новый мир, 1994, № 11). </dc:title>
</cp:coreProperties>
</file>